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8EC-8D94-44CD-B305-9834A002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1C4-283B-4E91-B77E-63A05645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4C5-B336-4C02-9FB1-3F914EFF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134-3D31-4025-870D-B756086A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D55-278D-4820-80FD-FD938C97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1A9-38AD-4DAD-B7EA-AAAF9D24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BA5-561A-4A44-9300-E3A69158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0E4-C994-406B-9476-CC43D17C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016-2A2B-4FF4-8D42-9B0669D1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256-CC25-4AEA-8AD0-D6B6B90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CCD-2CDA-45EC-B1A2-276906A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9E3-8F42-4D3C-A863-01F92342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D133-4EB0-4B05-9D92-4542CE44DA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31258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xtovéPole 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979560" y="6093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konverze v jednotce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3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2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xtovéPole 1" descr=""/>
          <p:cNvPicPr/>
          <p:nvPr/>
        </p:nvPicPr>
        <p:blipFill>
          <a:blip r:embed="rId4"/>
          <a:stretch/>
        </p:blipFill>
        <p:spPr>
          <a:xfrm>
            <a:off x="4395960" y="3438360"/>
            <a:ext cx="49356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5558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4643280" y="1916280"/>
            <a:ext cx="3961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ze zvolené výchozí hodnoty A na hodnotu ½ 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16T12:58:26Z</dcterms:modified>
  <cp:revision>124</cp:revision>
  <dc:subject/>
  <dc:title>Soustava</dc:title>
</cp:coreProperties>
</file>