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E77-25AC-49AA-AAD0-6F078000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12A-AF47-412B-89A8-692F3E66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F46-D507-4052-B7A8-7F778BA7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767-9F3C-4898-BBE9-1C45A746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8B5-306B-4E35-8CE5-6BF87F52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845-7392-4E3C-A446-60F8F0F8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171-4BDA-4ACE-A4F0-1E38CB6F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C3A-2603-4380-86CB-E65FCBD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E58-3A2B-45EF-ABBE-E730C2B0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5E9-6408-4522-949A-95D2505F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18E-976E-41A8-9AF6-2D4AB5DE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06E-060B-4AA5-873D-D128CD85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71AD-0B1F-4F5B-9A4C-CB30DC836D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3:15:18Z</dcterms:modified>
  <cp:revision>103</cp:revision>
  <dc:subject/>
  <dc:title>Soustava</dc:title>
</cp:coreProperties>
</file>