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F37-A621-41A2-8938-CDA5F3A1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7FD-FBE7-4416-95E0-FE3CDF7B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90B-EE6B-42B7-ACF3-C37AA589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5C7-4F04-4F29-8B64-9F84B3E8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979-B950-436C-A996-EF828B10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591-FD5A-49CE-98AB-8F44AE16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17E-EC09-40D1-B28B-92A918F8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6EB-F1AB-4ED5-AD7A-E3321677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91F-2321-44C0-9F4E-BB8B5B39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6AD-5825-442C-9B4B-1F236D9D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852-6472-4D67-A354-ADF92785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242-0824-450B-B1E9-637AAB7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88D6-B596-4B2A-AA92-283D9B8934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3:15:18Z</dcterms:modified>
  <cp:revision>103</cp:revision>
  <dc:subject/>
  <dc:title>Soustava</dc:title>
</cp:coreProperties>
</file>