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460-BC22-4EBD-ACA7-57EEAC4D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ACA-695F-4D70-9BCA-9F6450E0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24E-C3EE-415F-A139-0609E2BE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780-ECCA-4B47-9CFF-02BAF52F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183-636C-40F7-B28D-0F6A4F20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375-2640-4626-95ED-569A0C6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174-DA9B-4075-A685-1F6C6DC9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795-5C0D-4657-B522-364E4C72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416-CB31-42A7-AD54-5AAD2EA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419-659C-4E77-8321-65320076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E0D-DB3D-4034-A5A4-CC12D71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F3C-D239-4A12-BAFF-F1FFC9A5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D3A6-FE98-4541-A5BD-BC10B18CB2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31258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xtovéPole 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979560" y="6093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konverze v jednotce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3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2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xtovéPole 1" descr=""/>
          <p:cNvPicPr/>
          <p:nvPr/>
        </p:nvPicPr>
        <p:blipFill>
          <a:blip r:embed="rId4"/>
          <a:stretch/>
        </p:blipFill>
        <p:spPr>
          <a:xfrm>
            <a:off x="4395960" y="3438360"/>
            <a:ext cx="49356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5558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4643280" y="1916280"/>
            <a:ext cx="3961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ze zvolené výchozí hodnoty A na hodnotu ½ 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16T12:58:26Z</dcterms:modified>
  <cp:revision>124</cp:revision>
  <dc:subject/>
  <dc:title>Soustava</dc:title>
</cp:coreProperties>
</file>