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637-BA78-48AA-8B12-C67BED2B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B31-75F1-4391-8424-F19EBB37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34B-2883-472D-9518-43C1C892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ABE-B4CA-4E56-938D-FB54C2B2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DDE-57AC-41E7-9B76-CE78AFBD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0B7-014B-49B3-B68A-842D635E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4C8-0DFC-4E83-BAC2-40C76566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2F7-C0A7-49B1-B362-C84E2A30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0B4-267C-41B1-B2AB-A8EE0398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BE0-1626-4B88-ABA2-33534F7B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567-48FB-45DE-ADDA-3A021DA8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16D-F403-44D8-B495-0748AB9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3ACD-94BF-4B8B-AD52-42E79BFAB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2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6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2627280" y="4508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zákony za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380880" y="314172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66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2:30:08Z</dcterms:modified>
  <cp:revision>99</cp:revision>
  <dc:subject/>
  <dc:title>Soustava</dc:title>
</cp:coreProperties>
</file>