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1.jpeg" ContentType="image/jpeg"/>
  <Override PartName="/ppt/media/image29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085-B2AE-45D3-ADDB-4069E2A6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9EE-3CCC-44A6-BB23-6BFC80E2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50C-C4EF-410A-9227-3C4CBCA7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E40-9F1F-4217-B941-13027416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BBD-E991-420F-A7B7-449A5D89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885-5257-4F21-9D09-EA59E98B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2EA-51D3-4641-AE46-6FD32B84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89B-94FB-4CF7-98C5-652511E1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748-0246-436C-8C82-30FA493C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78E-7FB3-4C5F-888E-C3489C33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45C-23A5-4C39-896C-0AB51BB9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ACF-B9B0-4F78-AB3A-37F1FC15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3DE6-A7FB-48CB-88FF-3124780258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31258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xtovéPole 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  <p:sp>
        <p:nvSpPr>
          <p:cNvPr id="47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979560" y="6093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konverze v jednotce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3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2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3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extovéPole 1" descr=""/>
          <p:cNvPicPr/>
          <p:nvPr/>
        </p:nvPicPr>
        <p:blipFill>
          <a:blip r:embed="rId4"/>
          <a:stretch/>
        </p:blipFill>
        <p:spPr>
          <a:xfrm>
            <a:off x="4395960" y="3438360"/>
            <a:ext cx="49356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55584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2"/>
          <p:cNvSpPr/>
          <p:nvPr/>
        </p:nvSpPr>
        <p:spPr>
          <a:xfrm>
            <a:off x="4643280" y="1916280"/>
            <a:ext cx="396108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ze zvolené výchozí hodnoty A na hodnotu ½ 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16T12:58:26Z</dcterms:modified>
  <cp:revision>124</cp:revision>
  <dc:subject/>
  <dc:title>Soustava</dc:title>
</cp:coreProperties>
</file>