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5583-B0E8-4BC9-9617-DD46568465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DB98-A079-4F34-84E2-E60F8B8246E4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DDB-CCCE-4581-BA5C-BA1AA4C7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D59-468C-44A2-A3D3-9E0AA3D6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3A1-96A5-4BCF-B2C0-5F2004CF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759-0D30-4515-95BE-3F5DF7AC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756A-6CEB-4BB1-9497-D2A621EE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D53A-F372-4A62-A33B-E2E65882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902B-2176-477E-843B-893DB593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D028-9ED7-49A0-BA62-E83F4262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A751-4654-417A-885C-B997B96E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CC34-B26C-4348-9311-C08065BA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2012-1435-4453-88BC-57E36AA2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891-058B-4777-B2D9-ABBE1AC8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9B45-2D97-49E0-85AC-18156E02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D585-887D-42FC-8142-249F917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551A-60D3-4877-914F-21CF6F52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A875-ADEA-4A07-9401-E3F24AB8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FC85-097A-4E5C-BE1A-966B56BC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2BA-CA76-45F2-AFE5-C90DB2AE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662-65BF-4081-BAC8-B8D12C34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5E5-5EE0-4332-9B77-BE795DD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5AA-3010-4F84-9A1F-795367E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B35-D16D-4084-97A0-9FAA4267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7F8-27B2-4AD3-9DA8-9D2A47B0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E26-BA31-4315-A1DA-E2CD24B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CEFC-5C98-44EA-AECF-2759FE213DB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23EE-1519-4D4D-8E0D-5A07A29E580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407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ka chemických rea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ozdělení reakcí (jeden z pohledů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324480" y="12952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dpovídají reakční rovnice skutečnosti? Najdi chybu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ké důvod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172200" y="388296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92160"/>
            <a:ext cx="69343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Jak se mění Gibbsova energie při chemické reakci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ozsah reak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Chemické reakce způsobuje snaha o snížení G soustavy (integr. podmínka), látky reagují tak dlouho až dojde k vyrovnání chemického potenciálu (dif. podm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Reakční Gibbsova energi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Obecný matematický zápi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ebo-l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eakce běží dokud Q nedosáhne rovnovážné hodnoty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měny termodynamických funkcí a samovolnos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a sádrov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74040"/>
            <a:ext cx="7259760" cy="9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Výpočty reakčních termodynamických funkcí: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Analogicky pro entalpii a entropii: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9008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fektivita buň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35040"/>
            <a:ext cx="7405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vztah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2-17T08:47:41Z</dcterms:modified>
  <cp:revision>53</cp:revision>
  <dc:subject/>
  <dc:title>C6730 Fázové rovnováhy</dc:title>
</cp:coreProperties>
</file>