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5AC2-626F-404C-86D3-A19F8F20D64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DBCA-79DE-4CC7-8C6A-991622E2F471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814F-E28E-46A1-8AA7-BE9A2E215EE0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8DAB-A76C-408F-9149-FEFD8CD172D2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10B8-5E35-4847-9B8C-B505DBC31B5C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1CE3-7042-4005-B47F-10995D1120C0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FD1A-82C0-4AF0-BCD6-FA192A966FBE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F23-E6E7-4D3E-8AA4-60F474BA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9038-41B8-4E84-8FEA-C1B2EE25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CBF7-56DA-4A26-A49E-E485C916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993-0CE8-42A0-852F-08DA940D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D547-0C4A-4B6A-ADD5-6C2B037E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541B-4AF8-4CE1-B22D-6361D5F0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45E5-FD61-4E56-8E74-0FD2851D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E49F-F8CA-4E26-86EA-33C2194D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8A18-BB6A-4AB7-BBAC-2EA771D5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72D0-29ED-426F-8DB1-A102D433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29F0-8567-44FD-B464-9B3276C6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69AC-9810-4B5E-A9A7-8DAD9302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D43D-1867-4C11-BCC1-F02D9D8D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D46F-EFA4-4032-9D1B-AA3C0B27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F2BA-1ED0-4F1A-AF8A-CAB9AB4F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4103-1186-4E7B-AFAD-0F1D9FB3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FD52-ABF8-4128-8160-79DA51D6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4B39-8DCE-432B-ABDA-A5810272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ACA-C83E-449D-BD95-AB6978DF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066-7991-43B8-B55C-8CBE9FEE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5ED-5983-4736-8B78-D0824F1E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19F-F074-4A99-8D2B-E92834DA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FB8B-B3D1-42DD-812B-0BD5EB60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24B-70B0-46AE-BD67-4C8BF4AD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028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029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030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031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032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033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055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056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057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058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059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060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061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062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063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064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065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066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067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068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069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070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071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072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073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074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075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076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077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078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079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080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081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082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083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084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085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086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087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088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089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090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091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092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093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094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095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096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097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098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099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100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101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102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103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104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105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1106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1107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1108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1109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1110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1111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1112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1113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1114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1115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1116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1117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1118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1119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1120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1121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1122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1123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124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125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126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27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8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29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0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0BF9-AAF8-4DF0-9C62-E063F34DBAFA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026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102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1028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1029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1030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1031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1032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1033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34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035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036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037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038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039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040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041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042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043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1044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1045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1046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1047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1048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1049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1050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1051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1052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1053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1054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1055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1056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1057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1058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1059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1060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1061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1062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1063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1064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1065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1066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1067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1068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1069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1070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1071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1072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1073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1074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1075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1076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1077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1078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1079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1080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1081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1082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1083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1084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1085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1086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1087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1088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1089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1090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1091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1092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1093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1094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1095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1096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1097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1098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1099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1100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1101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1102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1103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1104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1105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1106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1107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1108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1109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1110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1111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1112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1113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1114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1115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1116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1117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1118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1119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1120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1121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1122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1123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124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125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126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132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133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CAC6-9FB7-4F86-9810-BDC23E08B6EA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C6320 Chemická kinetika: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Historie chemické kinetik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Historie chemické kinetiky</a:t>
            </a:r>
            <a:br>
              <a:rPr sz="4400"/>
            </a:br>
            <a:r>
              <a:rPr b="0" lang="cs-CZ" sz="1600" spc="-1" strike="noStrike">
                <a:solidFill>
                  <a:srgbClr val="ff0000"/>
                </a:solidFill>
                <a:latin typeface="ArialNarrow"/>
              </a:rPr>
              <a:t>Ref: "The World of Physical Chemistry," by K. J. Laidler, Oxford Univ. Press, 1993)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85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50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Wilhelmy (German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studoval rychlost inverze sacharózy (tj. hydrolýzy na D - (+) - glukózu a D - (-) - fruktózu v přítomnosti kyseliny) a zjistil, že je úměrná koncentraci jak cukru tak i kyseliny.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viz experimentální úloha v praktiku fyzikální chemie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Guldberg and Waage (Norwa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formuloval "zákon působení hmoty", podle kterého reakční "síly" jsou přímo úměrné součinu koncentrace reaktantů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=[R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 [S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s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/([A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 [B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b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de a, b, r and s jsou stechiometrické koeficienty pro chemickou reakci A+B=R+S. A to tak, že rychlost dopředné reakce je  úměrná součinu [A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a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[B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b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 rychlost zpětné reakce je úměrná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[S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5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 (UK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analyzovali reakci mezi H2O2 a HI a mezi KMnO4 a (COOH)2.  Napsali odpovídající diferenciální rovnice, integrovali je a určili koncentrace v závislosti na čase. Také navrhli rovnici pro teplotní závislosti rychlosti reakce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 = A. 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van't Hoff (The Netherlands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publikoval své "Studie o chemické dynamice" (Études de dynamique CHIMIQUE), ve kterých zobecnil a dále rozvíjel práci Wilhelmyho (o sacharoze)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1885 Harcourt and Ess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Uvedli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diferenciální metodu analýzy a rovněž analyzovali teplotní závislost rovnovážné konstanty (pojmenovali ji "van't Hoff rovnice"). Sledovali reakcí dopřednou i zpětnou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7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Ostwald (Germany; Latvia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zavádí pojmy "řád reakce" a „poločas reakce" ve své knize: "Lehrbuch der allgemeinen Chemie.„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9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Arrhenius (Sweden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dále analyzoval teplotní závislost reakční rychlosti a zjistil, že lépe odpovídá vztah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 = A exp (-B / t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de zajedl pojem "energetická bariéra" .  Dnes nese tato rovnice jeho jmén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1912 Mentenová (Maude Lenora Menten, *1879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Se zabývala enzymovou kinetikou a popsala rychlost enzymové reakce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TextovéPole 1"/>
          <p:cNvSpPr/>
          <p:nvPr/>
        </p:nvSpPr>
        <p:spPr>
          <a:xfrm>
            <a:off x="684360" y="2349360"/>
            <a:ext cx="395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racovala v oddělení prof. Michaeli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tala se profesorkou v 79-ti letech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Picture 2" descr="http://1.bp.blogspot.com/-7DSc73P4M_Q/VQs6mrwwwdI/AAAAAAAABHY/dUGD7b9EDGU/s1600/menten.gif"/>
          <p:cNvPicPr/>
          <p:nvPr/>
        </p:nvPicPr>
        <p:blipFill>
          <a:blip r:embed="rId1"/>
          <a:stretch/>
        </p:blipFill>
        <p:spPr>
          <a:xfrm>
            <a:off x="5692680" y="1700280"/>
            <a:ext cx="2735280" cy="4268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s://acsundergrad.files.wordpress.com/2012/07/menten-and-michaelis.jpg"/>
          <p:cNvPicPr/>
          <p:nvPr/>
        </p:nvPicPr>
        <p:blipFill>
          <a:blip r:embed="rId2"/>
          <a:stretch/>
        </p:blipFill>
        <p:spPr>
          <a:xfrm>
            <a:off x="4932360" y="2060640"/>
            <a:ext cx="4008600" cy="2114640"/>
          </a:xfrm>
          <a:prstGeom prst="rect">
            <a:avLst/>
          </a:prstGeom>
          <a:ln w="0">
            <a:noFill/>
          </a:ln>
        </p:spPr>
      </p:pic>
      <p:sp>
        <p:nvSpPr>
          <p:cNvPr id="306" name="Obdélník 3"/>
          <p:cNvSpPr/>
          <p:nvPr/>
        </p:nvSpPr>
        <p:spPr>
          <a:xfrm>
            <a:off x="655560" y="549108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366"/>
                </a:solidFill>
                <a:latin typeface="Times New Roman"/>
              </a:rPr>
              <a:t>http://www.chemheritage.org/discover/online-resources/chemistry-in-history/themes/biomolecules/proteins-and-sugars/michaelis-and-menten.aspx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564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ca 1890 J. Willard Gibbs (US): Shrnutí termodynamik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hrnutí poznatků z histor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44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Řada pojmů a představ se kterými se setkáváme v chemické kinetice je již dlouho známých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Získání některých kinetických informací je velmi náročné (mechanismy reakcí, reakční koordináta,…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Moderní kinetika je interdisciplinární (biochemická kinetika, molekulová dynamika , kvantová chemie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09480" y="182880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Významné ženy a muži vědy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http://jchemed.chem.wisc.edu/JCEWWW/Features/eChemists/Bios/Menten.htm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6-02-23T15:18:40Z</dcterms:modified>
  <cp:revision>32</cp:revision>
  <dc:subject/>
  <dc:title>Prezentace aplikace PowerPoint</dc:title>
</cp:coreProperties>
</file>