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7391-4B8D-4009-AEAF-43D4F2C981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5DC4-43E7-407F-B5BA-A76968B950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18B-A208-4000-AC67-DF00B36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425-2D6A-4D1C-8D9C-B6F0FED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D69-A69D-42AE-A4D7-32F7AF70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DD6-0845-4E16-BC88-44444A59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25CB-6244-4977-905C-B700EBD3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95A7-AE86-4CB5-89CF-992F7B5E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3895-8219-421B-81F2-3AEB016B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93A8-2459-4026-87B2-22E1F97E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5E8A-FC45-4C96-80F2-C4F739E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CEFB-9D69-445F-94FD-3D42E37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FB56-A996-49C6-A1AA-19FD4BC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CC2-3443-4D76-BECF-59306E3F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BEFD-619A-46F3-B6F7-9F8631A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103-41FA-41C4-9722-D6F3544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F2B4-3B93-4560-941C-E055387C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01B2-A1FC-49DB-928A-8E8F2D50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C2A-560E-41EC-9A34-512DAF2B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E48-BEF8-4004-94E1-9E8BDCC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A32-5494-441C-BE9C-800E61C4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F74-6017-44D9-8CD9-2334BF1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B3E-93F2-4A47-AC93-4B94F12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9C5-5063-4669-8289-A4EF50A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AA5-8AFF-4028-A0D4-B5AC889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02E-0F6F-4249-BFD7-5A27D10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F87-AABD-4430-877A-C613DF2B46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23F-6695-4ADC-A840-8AADE4C2E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80787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ztahy k 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7313760" y="615780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901C-FB07-4C19-AEEE-DC52C8FFB3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90440" y="1225440"/>
            <a:ext cx="30495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332160" y="1189080"/>
            <a:ext cx="570384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920880" y="2114640"/>
            <a:ext cx="540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360360" y="4414680"/>
            <a:ext cx="27097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60360" y="5111640"/>
            <a:ext cx="2871720" cy="4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3332160" y="4948200"/>
            <a:ext cx="240336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268200" y="297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41880" y="5850000"/>
            <a:ext cx="553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Olmsted III, G. M. Williams: Chemistry – The olekular Science, Moshby – Year Book, Inc.,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356000" y="4546440"/>
            <a:ext cx="4505400" cy="4194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4"/>
          <p:cNvSpPr/>
          <p:nvPr/>
        </p:nvSpPr>
        <p:spPr>
          <a:xfrm>
            <a:off x="3621240" y="4518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6012000" y="4979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ntrační kvo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8"/>
          <a:stretch/>
        </p:blipFill>
        <p:spPr>
          <a:xfrm>
            <a:off x="4317840" y="1989000"/>
            <a:ext cx="458172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9"/>
          <a:stretch/>
        </p:blipFill>
        <p:spPr>
          <a:xfrm>
            <a:off x="104760" y="3306600"/>
            <a:ext cx="4429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C5E-531E-4AF3-AE0A-00E1CC08BE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8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431-85B5-4330-99B8-23A31CC65F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4T14:54:19Z</dcterms:modified>
  <cp:revision>26</cp:revision>
  <dc:subject/>
  <dc:title>Prezentace aplikace PowerPoint</dc:title>
</cp:coreProperties>
</file>