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4BEA2-B65F-4DA5-A352-FFDA912DAD0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8B7A3-2DA4-40A5-8EC8-7340DDFC433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38E97-D036-4421-9831-320F7EC8B50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4DCE1-5FE7-49E0-9301-81779A885F3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DEC8F-D3A6-480B-AFE9-1538EBC93C1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"/>
              </a:rPr>
              <a:t>Zjistěte od posluchačů, co je zajímá a všechny ostatní skutečnosti, které můžete během školení využí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B1BD3-BA5B-4E7D-BE10-A44DCB5FF6D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"/>
              </a:rPr>
              <a:t>Zjistěte od posluchačů, co je zajímá a všechny ostatní skutečnosti, které můžete během školení využí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CC4C-F84F-49B4-B17A-022DB9411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2961-0DEA-4EC1-B558-BE1217D96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74354B-BD6D-4F23-A563-3EF6BDA21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D79031-881A-447A-91CE-BBCCEB8F5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7A7F6C-7098-4410-9BD1-A7E429868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7395DD-EBC9-482F-A2B1-4352B30F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B656CF-EE21-4551-940F-6AFA73FD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3D1633-5A9D-45C2-95EA-A6A8C448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90E63C-9F44-45D0-B7BE-8D5978C26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D0C44D-1282-4F95-A7E6-74C1DA191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FAF8AA-69D6-4E80-9BCB-06E2E1B4C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001956-3A03-4B1A-B8C5-D754C91BA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5E5E-B5ED-4FAA-8335-F6F362C63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FBA5C9-E732-419E-940F-F60D2662F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FE9442-FB9B-4B00-B658-5C6D4A4BA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F1BC84-382D-487B-8D3D-67637EF74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4B8E08-AD2A-42B1-8F32-414CDEAD9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A3A810-0FB5-42FC-81D0-3CD09B68E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D7568B-E91E-47C2-A161-C72AAA5A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BC2DFC-9E74-4B4D-9B83-118D7AA0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9FACDD-6E65-458A-8B54-63778EA5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4F4545-C53F-4C0F-8ECE-861143ABD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EAFC51-BB41-43C0-B79F-E014F8A77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5C90-4BFF-4192-A4FC-18EBCAB85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1035AF-4274-4A5B-94BF-5D026DDEE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66E313-5F73-4328-BFD9-B6F44B42A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AD02ED-7979-4B76-825B-3B8FBB79F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415D17-1C9C-426D-95DA-28124F3C0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1B3AFD-73FB-41A4-A5C8-C918C526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5FE955-A3C1-4B91-BA81-F951A74E9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E3A633-DEF4-4712-94C4-59042235F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121B91-AD98-4D4F-B025-B1B3FF4B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08C185-3E29-44E2-8FB9-E7DD53A4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FDB5F8-BA42-4FAB-BE3C-BB9D4138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E0953-21F7-4C6F-A71F-672430063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17F277-866B-4239-B4B4-1FC869F01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420E1C-6828-428A-AE6A-AA1EC9814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A115C6-B91C-4C63-8040-268EB08B1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790470-F720-4C12-B37B-615ECF3EC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594ED3-076B-46B2-B362-08EA83B9C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77F1BE-D26E-4A86-AAE7-F79FF69FC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3CA3CC-57CE-4399-B0EE-F89293A0D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081AED-54BA-4402-8C06-403B7959F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D345F6-DFB1-4F66-80A4-3C84C6698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F46C0F-9A6A-4727-9192-9C525921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33067-89EE-4CB8-BC29-CA7A2EDE2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C8ACE8-FEE6-4F88-A9B6-D501AEC2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EEC98F-1643-4815-839B-48A493D1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5624BC-5DBE-4108-A2C7-3AEDC3810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C1E3A9-64D0-4F99-9531-6707DAE21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F66730-35A1-4B4D-AE68-3C96F5ECB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4A0AE-1360-4B31-B114-2057D840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A5D95-E60E-49C8-9017-ECBCF098C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ECB22-7800-42D1-A331-AC7952A6F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06D85-6473-4235-A2A0-47B6CDBE3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FFB77-C750-4AD3-82C9-14D82946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917F-63D6-4FEB-9912-65A5DF599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AD773-7B5A-43A3-B9C0-80FDAC37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C1BA3-2F0D-4911-A8DD-3E68D791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D05D8-7C58-4928-B3EE-E93B2EA3F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280A1-C29A-4E52-A22A-197E2A333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388C8-13BB-4E30-A1D0-54F4A57F0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E0B3B-E539-41FB-BCC0-BEA860399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27243-F7A4-4693-B76D-9D2712EDE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5770A-69CB-4AAA-B547-DB3562FB9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9F214-F014-4B33-A8F6-33EF505B4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7EF31-2F9F-4193-9C93-C7B15FBF9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CA14-B085-4BC0-BD01-3AAE504AE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1630F-02EE-4747-B3FA-0F0952461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8506B-5C5A-4AFB-879F-BB73CC78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BECF2-4F48-435C-A099-D1E13FEF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EA526-C68C-40E7-A793-7934F38B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B0245-9739-473E-A337-17654F115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F7387-3298-47F9-BA6C-FEF06239E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09F2E-CEB3-4F64-8BC9-7B6DA3385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44B66-6F4D-451C-8560-F25C860DC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085CC-68C5-4C4C-9011-97855D414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79047-F491-4E9A-A3F2-F6D3B4798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CED7-0E9F-490C-8468-63C3A5693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D815C-0219-4C72-8286-17C5508FF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FE5FB-7269-4283-A4CC-97DBC0506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476A6-2D72-4CBF-9075-B4468F35F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D6A2B-2C89-44BA-9FA3-8E788CB4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EA0AA-9A4F-48BC-A2EB-FE4039C4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0F6EB-F561-4317-A00F-B3A68D2A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D8BAF-74EB-4DA4-A8F1-0E530C63D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59706-6D55-4114-9FAE-11D66999C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8D057-AD37-43D2-B8FB-42A118D23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FE227-1982-475B-A98D-D0EE63FB2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A4E7-0FE5-4B67-8FB4-3033673BB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35996-F9B9-49EA-95F4-91B13C67B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58BCD-1A43-4EF0-8259-CA25887F3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5E2A5-2388-421F-92ED-3B5F54CD7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B4981-141F-4226-96D5-6C51AA7D8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528D5-38E9-4202-B1C3-CEC3001B5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F2FB1-25A9-48A3-BE82-6F2062C0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C71BC-2450-4862-B6F5-890BAC87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CA96A-A9CE-481F-A15F-BC77B61F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F62E7-C2CA-43EB-BD8C-2B7D11412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32F43-C53D-4717-AADE-94D67ADD6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025C-C382-4178-A923-FBFFF509E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76563-E759-4A53-B450-986B3D24A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EF4AC-6EC0-4B15-A42A-6BDDA930C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A136B-77B5-435F-A5D4-FA198380B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769C79-91AB-491B-941F-10A1AE49C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EADCD-8D89-458C-9B2A-97F390A78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774B3-BF4F-4FC8-8E2F-642B6DB0B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0CA186-93F3-4320-A9CC-DAEECA930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9EE5A-206E-4EEC-8AA6-5BF4D5E1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C987D-5D5C-4A69-98D2-B03C24C0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273D9-9B52-4649-B9FD-9DA575D5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00B3-25E0-4D0B-880B-8747044C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52890-101E-4703-9D72-208971BF7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96E32-7522-4C13-BFA6-30B36F2F4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3C313-9002-4556-B587-928F82756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FB5B1D-5737-4705-875D-6198F7C63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29E437-1537-4C1C-B293-40C81F812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6434B-BAC4-4B49-BFEC-A4DE85946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2E96B-CBEE-411B-8C47-79E1755A3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C86F4-C600-45B9-85AC-9494BE9FF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77131C-54D2-4435-8EC2-1C683A42E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8BFFAF-297D-42DF-8F2F-C4AF2F69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875C-26AE-4AB8-9E25-25A1FF2F9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74F30-01E6-4C47-A1C7-6A77CF04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F2CCD7-C701-404C-90E7-04968985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96176-6AD3-4766-B0E7-9651D7B4E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865D5-AA10-4E34-AADF-92E9769EF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264A7-ED49-4859-AAB4-6592953EC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26F213-004F-4CE7-8FA6-4047F97DE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542507-66DC-42BD-9367-D3A15008A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17FD8D-4637-442C-B4FF-835B8F209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D83CB2-77EC-4841-9C06-E94B1ECFB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3BF305-E354-4360-97FC-94E3D125D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FB37-C9E5-43EC-9EC0-A92D84A6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2F37A6-9F59-475D-8610-16F0932A6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16B715-51BD-4E7D-8A7B-5E18BC04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6814BE-B7E9-4C86-94D8-DA234BB5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42E075-A271-4232-9F31-039FC8F2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091517-F99E-4DCF-AD5B-D9EB3F61E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49C4CB-B80C-4206-A880-89FD6F75E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00064B-0050-45CA-8506-A3A13B440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6365E3-1616-40BD-BDEE-35B723B68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2A81B6-213F-4ABB-ADB0-ECA99F8CB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26D3EE-3B88-4105-A68A-6130F5B91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522BF-E27D-45BC-A70C-06DD7D3B5F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19B44-299E-431A-8C02-DC0E22A108A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D7FD9-618E-4FEF-B532-6C7DAD49B3A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9EE01-DE43-4279-93EA-15B036EE26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FAF5C-9255-4930-B4A1-30D4123B9688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4ED92-4FE5-409C-B0A1-47B652E9C1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F9098-CB40-4460-BD1F-C5AF61DE3B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93494-7B83-4CB9-B340-5F53B81637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965A5-29E8-48FE-B34E-CD50B6D115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7772C-CEB0-4364-B900-A6E9DDCDC8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CD810-D618-490F-8C14-7FCE8C97AA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DECF1-5FA9-4FEA-A12A-718E46F5F1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sopousek@chemi.muni.cz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37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Sopousek, L01_01 Chemická kinetik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3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E4FF7-1108-4039-83AF-C306AC569A65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6320 Chemická kinetika</a:t>
            </a:r>
            <a:br>
              <a:rPr sz="4400"/>
            </a:b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Úvodní hodina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Zástupný symbol pro číslo snímku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8A306-3230-4845-9826-75FD173655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0099"/>
                </a:solidFill>
                <a:latin typeface="Times New Roman"/>
              </a:rPr>
              <a:t>P5: Experiment. Vsádkový, 05</a:t>
            </a:r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534" name="Picture 3077" descr="D:\Vyuka\FCh-základní praktikum\Fotografie praktika a úloh\7c_zmydelneni.jpg"/>
          <p:cNvPicPr/>
          <p:nvPr/>
        </p:nvPicPr>
        <p:blipFill>
          <a:blip r:embed="rId1"/>
          <a:stretch/>
        </p:blipFill>
        <p:spPr>
          <a:xfrm>
            <a:off x="533520" y="106668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535" name="Rectangle 3075"/>
          <p:cNvSpPr/>
          <p:nvPr/>
        </p:nvSpPr>
        <p:spPr>
          <a:xfrm>
            <a:off x="5105520" y="4495680"/>
            <a:ext cx="388764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5: Řešení technických problémů s experimentem v praxi</a:t>
            </a:r>
            <a:r>
              <a:rPr b="1" lang="cs-CZ" sz="2400" spc="-1" strike="noStrike">
                <a:solidFill>
                  <a:srgbClr val="33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7609B-9A3D-4903-97EE-FCE64D59002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6: Reakce katalyzované 1: homogenní katalýza, acidobazická katalýza, autokatalýza, enzymová katalýza, rovnice Michalisova-Mentenové, nestacionární kinetika, integrovaná rovnice Michaelisova-Mentenové, složité enzymové reakce (Clelandova symbolika, Kingova-Altmanova metoda), inhib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Picture 1029" descr="http://www.millipore.com/publications.nsf/dda0cb48c91c0fb6852567430063b5d6/7b111b8ca85b07a085256fa20052b376/en_RTBody/2.FBC?OpenElement&amp;FieldElemFormat=gif"/>
          <p:cNvPicPr/>
          <p:nvPr/>
        </p:nvPicPr>
        <p:blipFill>
          <a:blip r:embed="rId1"/>
          <a:stretch/>
        </p:blipFill>
        <p:spPr>
          <a:xfrm>
            <a:off x="380880" y="2362320"/>
            <a:ext cx="6705720" cy="4016160"/>
          </a:xfrm>
          <a:prstGeom prst="rect">
            <a:avLst/>
          </a:prstGeom>
          <a:ln w="0">
            <a:noFill/>
          </a:ln>
        </p:spPr>
      </p:pic>
      <p:sp>
        <p:nvSpPr>
          <p:cNvPr id="539" name="Rectangle 1028"/>
          <p:cNvSpPr/>
          <p:nvPr/>
        </p:nvSpPr>
        <p:spPr>
          <a:xfrm>
            <a:off x="5638680" y="5638680"/>
            <a:ext cx="308628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g 3.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Určení konstanty Michaelis – Mentenové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m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81747-DC45-402F-BDF8-DCF9BB7629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848720" cy="2743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7: Reakce katalyzované 2: heterogenní katalýza, chemisorpce a pokrytí povrchu, adsorpční izotermy (Langmuirova, BET, Freundlichova, Temkinova), uni a bimolekulární reakce na povrchu, inhibice produkte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8: Reakce řetězové: iniciace, propagace, terminace, reakce radikálové, reakce větvené, polymerace, hoření, exploz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Picture 1028" descr="http://img.sparknotes.com/figures/6/62c26fd494fed99200569cfa94d97377/cat.gif"/>
          <p:cNvPicPr/>
          <p:nvPr/>
        </p:nvPicPr>
        <p:blipFill>
          <a:blip r:embed="rId1"/>
          <a:stretch/>
        </p:blipFill>
        <p:spPr>
          <a:xfrm>
            <a:off x="609480" y="2819520"/>
            <a:ext cx="4800600" cy="3817800"/>
          </a:xfrm>
          <a:prstGeom prst="rect">
            <a:avLst/>
          </a:prstGeom>
          <a:ln w="0">
            <a:noFill/>
          </a:ln>
        </p:spPr>
      </p:pic>
      <p:sp>
        <p:nvSpPr>
          <p:cNvPr id="543" name="Rectangle 1029"/>
          <p:cNvSpPr/>
          <p:nvPr/>
        </p:nvSpPr>
        <p:spPr>
          <a:xfrm>
            <a:off x="5791320" y="5562720"/>
            <a:ext cx="2817720" cy="916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Figure 1.10: Mechanisms of ethylene hydroge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4" name="Group 1031"/>
          <p:cNvGrpSpPr/>
          <p:nvPr/>
        </p:nvGrpSpPr>
        <p:grpSpPr>
          <a:xfrm>
            <a:off x="1266840" y="5867280"/>
            <a:ext cx="6608880" cy="266400"/>
            <a:chOff x="1266840" y="5867280"/>
            <a:chExt cx="6608880" cy="266400"/>
          </a:xfrm>
        </p:grpSpPr>
        <p:sp>
          <p:nvSpPr>
            <p:cNvPr id="545" name="Rectangle 1027"/>
            <p:cNvSpPr/>
            <p:nvPr/>
          </p:nvSpPr>
          <p:spPr>
            <a:xfrm>
              <a:off x="1311120" y="5911560"/>
              <a:ext cx="65199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Rectangle 1030"/>
            <p:cNvSpPr/>
            <p:nvPr/>
          </p:nvSpPr>
          <p:spPr>
            <a:xfrm>
              <a:off x="1266840" y="5867280"/>
              <a:ext cx="6608880" cy="266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FFDCF-E39E-4050-AEC7-BA3F99FF53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66"/>
                </a:solidFill>
                <a:latin typeface="Times New Roman"/>
              </a:rPr>
              <a:t>P9: Reakce oscilující: oscilátory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(Lotka-Volterra, Brusselátor, Oregonátor), limitní cyklus, rekurentní rovnice Metody relaxační: teplotní, tlakový skok, ultrazvuk, mikrovln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9" name="Picture 4" descr="D:\Sopousek\Vyuka\Kinetika\Předchozí přednáška\Oscilace.jpg"/>
          <p:cNvPicPr/>
          <p:nvPr/>
        </p:nvPicPr>
        <p:blipFill>
          <a:blip r:embed="rId1"/>
          <a:stretch/>
        </p:blipFill>
        <p:spPr>
          <a:xfrm>
            <a:off x="1295280" y="1676520"/>
            <a:ext cx="6553440" cy="451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5E4FB-58F5-4028-B607-29D8CA4DA2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533160" y="228600"/>
            <a:ext cx="83818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10: Závislost rychlostní konstanty na teplotě 1: Arrheniova rovnice, srážková teorie, pravděpodobnostní faktor, Lindemannova teorie unimolekulárních reakcí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11: Závislost rychlostní konstanty na teplotě 2: plochy potenciální energie aktivovaný komplex, Eyringova rovnice, reakční termodynamik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12: Mechanismy difúze. Látkové toky a difúzní koeficienty. 1 a 2. Fickův zákon. Analytické a numerické řešení difúzních rovnic, okrajové podmínky. Difúze v~neideálních soustavách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4"/>
          <p:cNvSpPr/>
          <p:nvPr/>
        </p:nvSpPr>
        <p:spPr>
          <a:xfrm>
            <a:off x="4952880" y="4019400"/>
            <a:ext cx="3733920" cy="2288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3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During the first minute of exposure the concentration profile in the tube is more steep at the opening than deeper in the tube. Shown here is the profile after 5 seconds. As a result of Fick's Law the mass flow is larger at the opening than deeper insi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3" name="Picture 5" descr="http://www.iaq.dk/iap/iap1998/1998_06/Image6.gif"/>
          <p:cNvPicPr/>
          <p:nvPr/>
        </p:nvPicPr>
        <p:blipFill>
          <a:blip r:embed="rId1"/>
          <a:stretch/>
        </p:blipFill>
        <p:spPr>
          <a:xfrm>
            <a:off x="990720" y="3733920"/>
            <a:ext cx="3809880" cy="29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E8D81-93B2-4270-8D0C-D79A7AC2FF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13: Elektrodová kinetika Mechanismus přenosu elektronu v~homogenním a v~heterogenním prostředí (na rozhraní elektroda/roztok), Marcusova teorie, přepětí, Butlerova a Volmerova rovnice, koeficient přenosu náboje,rychlost elektrodové reakce, elektrodový proces s~chemickou reakcí (předřazená, vřazená a následná chemická reakce), heterogenní rychlostní konstanta, vyhodnocení heterogenních rychlostních, konstant pomocí běžných elektrochemických meto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5715000" y="3429000"/>
            <a:ext cx="3124080" cy="916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: Schematic of the electrode-electrolyte interfac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7" name="Picture 4" descr="fig1"/>
          <p:cNvPicPr/>
          <p:nvPr/>
        </p:nvPicPr>
        <p:blipFill>
          <a:blip r:embed="rId1"/>
          <a:srcRect l="0" t="6667" r="0" b="6667"/>
          <a:stretch/>
        </p:blipFill>
        <p:spPr>
          <a:xfrm>
            <a:off x="457200" y="3317760"/>
            <a:ext cx="4800600" cy="311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DE42-1777-4C13-924F-F079DA4F8D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1360" y="30456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0099"/>
                </a:solidFill>
                <a:latin typeface="Times New Roman"/>
              </a:rPr>
              <a:t>Organizace přednášky: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Garant a vyučující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Do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RNDr.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iří Sopoušek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Sc.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. 549497138, </a:t>
            </a:r>
            <a:r>
              <a:rPr b="0" lang="cs-CZ" sz="2800" spc="-1" strike="noStrike" u="sng">
                <a:solidFill>
                  <a:srgbClr val="6600cc"/>
                </a:solidFill>
                <a:uFillTx/>
                <a:latin typeface="Times New Roman"/>
                <a:hlinkClick r:id="rId1"/>
              </a:rPr>
              <a:t>sopousek@chemi.muni.c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Ústav chemi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KB, bu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ka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. 23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erekvizity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olvování přednášek Fyzik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emie I a II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odmínky ke připuštění ke zkoušc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rokázání schopnosti samostatně řešit modelové    problémy kinetiky reak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získání zápočtu ze semináře C63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05785-0460-48B6-A302-D1F4B5DCFF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8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0099"/>
                </a:solidFill>
                <a:latin typeface="Times New Roman"/>
              </a:rPr>
              <a:t>Organizace semináře:</a:t>
            </a:r>
            <a:br>
              <a:rPr sz="3600"/>
            </a:br>
            <a:r>
              <a:rPr b="0" lang="cs-CZ" sz="3600" spc="-1" strike="noStrike">
                <a:solidFill>
                  <a:srgbClr val="330099"/>
                </a:solidFill>
                <a:latin typeface="Times New Roman"/>
              </a:rPr>
              <a:t>C6330 Chemická kinetika</a:t>
            </a: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yučující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oc. Jiří Sopouše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bsah cvičení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ktické procvičování učiva probraného na přednášce (kalkulačku sebou, práce s P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hodnocování příkladů experimentálního měření (viz např. měření praktika fyzikální chemie, nebo videa z internetu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žívání software urychlujícího práci (zejména EXCEL, math CAD, ) Matematika: Wolf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vojení si vyhledávat potřebné informace (internet, , wifi internet připoje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odmínky získání zápočt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alost probírané tématiky dle sylabu přednášky C63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pracování zápočtových příkladů  a identifikace kinetického vid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6A067-4B45-4DAE-AAEE-7525813BE3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0099"/>
                </a:solidFill>
                <a:latin typeface="Times New Roman"/>
              </a:rPr>
              <a:t>Doporučená literatura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indl, Ľudovít. 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mická kinetika [Treindl, 1990]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2. přeprac. vyd. Bratislava : Slovenské pedagogické nakladateĺstvo, 1990. 34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kins, P. W. 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chemistry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6th ed. Oxford : Oxford University Press, 1998. xvi, 1014. ISBN 0-19-850101-3.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R. I. Masel: Chemical kinetics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talysis, John Wiley &amp; Sons, 2001,  ISBN 0-471-24197-0.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. Wilkinson, Chemical Kinetics and reaction Mechanism, Van Nostrand Reinhold, New York 198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J. Olmsted III, G. M. Williams: Chemistry – The Molekular Science, Moshby – Year Book, Inc., 19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71717"/>
                </a:solidFill>
                <a:latin typeface="Times New Roman"/>
              </a:rPr>
              <a:t>J. Vohlídal, Chemická kinetika, Karolinum, Praha 2001 (scrip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EB1D3-ABA6-439E-B985-AC63597DFA7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říkladník z fyzikální chemie VŠChT: http://www.vscht.cz/fch/prikladnik/prikladnik/p.htm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E9343-9CF7-4C85-A559-6FD467E1787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1360" y="228600"/>
            <a:ext cx="8078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0099"/>
                </a:solidFill>
                <a:latin typeface="Times New Roman"/>
              </a:rPr>
              <a:t>Osnova přednášky a semináře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47640" y="11430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69360" indent="-369360">
              <a:lnSpc>
                <a:spcPct val="9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1: Úvodní hodina. Proč probíhají chemické reakce? Jak můžeme jejich rychlost popisovat?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ákladní pojmy chemické kinetiky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 Typy chemických reakcí, elementární reakce, molekular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6" name="Picture 1029" descr="http://www.engin.umich.edu/~cre/03chap/html/moledyn/MolecularDynamic_files/image113.gif"/>
          <p:cNvPicPr/>
          <p:nvPr/>
        </p:nvPicPr>
        <p:blipFill>
          <a:blip r:embed="rId1"/>
          <a:stretch/>
        </p:blipFill>
        <p:spPr>
          <a:xfrm>
            <a:off x="685800" y="2438280"/>
            <a:ext cx="4994280" cy="401184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1030"/>
          <p:cNvSpPr/>
          <p:nvPr/>
        </p:nvSpPr>
        <p:spPr>
          <a:xfrm>
            <a:off x="6172200" y="2933640"/>
            <a:ext cx="297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1: Procvičování základní termodynamik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1028"/>
          <p:cNvSpPr/>
          <p:nvPr/>
        </p:nvSpPr>
        <p:spPr>
          <a:xfrm>
            <a:off x="5943600" y="55627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PRS.3C-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 Potential energy surfa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1EDB2-A646-4801-88DD-A2E9A8896A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2: Rychlost reakce, rozsah reakce,rychlostní rovnice, řád reakce. Reakce jednosměrné (1. a 2. řádu, následné, simultánní, následné,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5"/>
          <p:cNvSpPr/>
          <p:nvPr/>
        </p:nvSpPr>
        <p:spPr>
          <a:xfrm>
            <a:off x="380880" y="2133720"/>
            <a:ext cx="4572000" cy="4305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ble: Rates of Bimolecular Atmospheric Gas Reactions at 298.15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Reaction Rate Constant k m3/mol 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 + O3 --+ 2O2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5.7 x 10+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H + OH --+ H2O + O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1.1 x 10+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H + H2 --+ H2O + H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4.3 x 10+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N + O2 --+ NO + O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5.4 x 10+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N + NO --+ N2 + O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2.0 x 10+7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N + NO2 --+ N2O + O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8.4 x 10+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 + NO3 --+ O2 + NO2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6.0 x 10+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H + CH4 --+ H2O + CH3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4.8 x 10+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Cl + H2 --+ HCl + H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1.1 x 10+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Cl + O3 --+ ClO + O2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7.2 x 10+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6"/>
          <p:cNvSpPr/>
          <p:nvPr/>
        </p:nvSpPr>
        <p:spPr>
          <a:xfrm>
            <a:off x="5334120" y="1905120"/>
            <a:ext cx="3581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2: Příklady na analytické a numerické řešeni reakčních schémat jednosměrných reakcí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7A935-7E30-492D-BBF2-6FA22479AD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403884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46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346320">
              <a:lnSpc>
                <a:spcPct val="9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3: Určení řádu reakce: metoda integrální, metoda zlomkových časů (poločas reakce, střední doba života), metody cílených experimentů (metoda izolační, metoda počátečních rychlostí)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1030"/>
          <p:cNvSpPr/>
          <p:nvPr/>
        </p:nvSpPr>
        <p:spPr>
          <a:xfrm>
            <a:off x="0" y="3276720"/>
            <a:ext cx="419112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 fontScale="92000"/>
          </a:bodyPr>
          <a:p>
            <a:pPr marL="350280" indent="-350280"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0280" indent="-350280"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3: Numerické řešení reakčních schémat a jejich grafická vizualizace. Určení řádu reakce z experimentálních dat. Lineární a nelineární regres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6" name="Picture 1031" descr=""/>
          <p:cNvPicPr/>
          <p:nvPr/>
        </p:nvPicPr>
        <p:blipFill>
          <a:blip r:embed="rId1"/>
          <a:stretch/>
        </p:blipFill>
        <p:spPr>
          <a:xfrm>
            <a:off x="4191120" y="380880"/>
            <a:ext cx="4746600" cy="3894120"/>
          </a:xfrm>
          <a:prstGeom prst="rect">
            <a:avLst/>
          </a:prstGeom>
          <a:ln w="0">
            <a:noFill/>
          </a:ln>
        </p:spPr>
      </p:pic>
      <p:sp>
        <p:nvSpPr>
          <p:cNvPr id="527" name="Rectangle 1032"/>
          <p:cNvSpPr/>
          <p:nvPr/>
        </p:nvSpPr>
        <p:spPr>
          <a:xfrm>
            <a:off x="4191120" y="4724280"/>
            <a:ext cx="46479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gure: 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Následná nevratná reakce prvního řád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--&gt; B -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C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             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12AFE-1E78-49AE-96EA-C13D789CB7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151920" y="380880"/>
            <a:ext cx="899172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4: Reakce vratné: dynamická rovnováha, stacionární stav, rovnovážná konstanta, rychlostní rovnice lineární a exponenciální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Picture 7" descr="http://www.psigate.ac.uk/newsite/reference/plambeck/chem2/p02154g1.gif"/>
          <p:cNvPicPr/>
          <p:nvPr/>
        </p:nvPicPr>
        <p:blipFill>
          <a:blip r:embed="rId1"/>
          <a:stretch/>
        </p:blipFill>
        <p:spPr>
          <a:xfrm>
            <a:off x="609480" y="2514600"/>
            <a:ext cx="3962520" cy="3887640"/>
          </a:xfrm>
          <a:prstGeom prst="rect">
            <a:avLst/>
          </a:prstGeom>
          <a:ln w="0">
            <a:noFill/>
          </a:ln>
        </p:spPr>
      </p:pic>
      <p:sp>
        <p:nvSpPr>
          <p:cNvPr id="531" name="Rectangle 8"/>
          <p:cNvSpPr/>
          <p:nvPr/>
        </p:nvSpPr>
        <p:spPr>
          <a:xfrm>
            <a:off x="4572000" y="2666880"/>
            <a:ext cx="4572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4: Příklady a numerické řešení reakcí s vratným a paralelním krok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pousek</cp:lastModifiedBy>
  <dcterms:modified xsi:type="dcterms:W3CDTF">2016-02-23T14:41:49Z</dcterms:modified>
  <cp:revision>36</cp:revision>
  <dc:subject/>
  <dc:title>Prezentace aplikace PowerPoint</dc:title>
</cp:coreProperties>
</file>