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0203-0BFA-4BC2-9FF3-1900535448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476F-1481-442D-B394-1B175FAB47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069-8CC6-47EC-A399-13372CDC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C21-8D8F-4682-BD4B-07F65BBC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D90-6CC3-4CCE-B91E-1C104DB0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789-68D6-4838-A754-F51CCA99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DE0B-D233-4AD1-9A43-0D2BAE00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6248-E413-47A3-BB70-9E47BDB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E7E2-6259-4463-AA50-4809C446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3A48-392A-4D80-8C7C-07AB328D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A734-5CD0-4C9F-92A8-193DBC68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E51-012E-45DA-AF74-A02DF581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D869-FFA7-42D2-AEB9-7381F76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6AA-9D29-4555-981C-5E88930E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F227-EE51-4206-A083-C1C5E9F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247A-5A86-4D18-BEC7-B85F4EE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3713-34FA-4A6F-8F71-9F0DFBA1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FEA4-6C66-4313-B049-D788CAB9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5DAD-3DAA-42BE-BC4E-66570C99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D07-C8C7-43E7-AC94-2156C424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6D0-E05C-4079-9517-F4C0E31B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8EF-B0EB-48C9-808B-77033A2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F5C-3E2A-45E5-BDD7-B2FA2AA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4F0-2996-4D52-962E-5FBA8F0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29B-056F-40A5-92EA-2F886495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B1D-DF65-4FA7-82AE-3FC7C9F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ADD9-F664-4F84-92B9-5F8F2DCBDA0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C8D1-082D-4665-8E4F-2153B9524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357120"/>
            <a:ext cx="807876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vztahy k pro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7313760" y="615780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7FF6-5DFB-4713-A5C2-73F599BE5A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90440" y="1225440"/>
            <a:ext cx="30495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332160" y="1189080"/>
            <a:ext cx="5703840" cy="5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920880" y="2114640"/>
            <a:ext cx="5400720" cy="10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360360" y="4414680"/>
            <a:ext cx="270972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360360" y="5111640"/>
            <a:ext cx="2871720" cy="49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6"/>
          <a:stretch/>
        </p:blipFill>
        <p:spPr>
          <a:xfrm>
            <a:off x="3332160" y="4948200"/>
            <a:ext cx="2403360" cy="654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268200" y="2973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41880" y="5850000"/>
            <a:ext cx="553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Olmsted III, G. M. Williams: Chemistry – The olekular Science, Moshby – Year Book, Inc.,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7"/>
          <a:stretch/>
        </p:blipFill>
        <p:spPr>
          <a:xfrm>
            <a:off x="4356000" y="4546440"/>
            <a:ext cx="4505400" cy="41940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4"/>
          <p:cNvSpPr/>
          <p:nvPr/>
        </p:nvSpPr>
        <p:spPr>
          <a:xfrm>
            <a:off x="3621240" y="4518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6012000" y="49798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centrační kvo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4" descr=""/>
          <p:cNvPicPr/>
          <p:nvPr/>
        </p:nvPicPr>
        <p:blipFill>
          <a:blip r:embed="rId8"/>
          <a:stretch/>
        </p:blipFill>
        <p:spPr>
          <a:xfrm>
            <a:off x="4317840" y="1989000"/>
            <a:ext cx="4581720" cy="240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9"/>
          <a:stretch/>
        </p:blipFill>
        <p:spPr>
          <a:xfrm>
            <a:off x="104760" y="3306600"/>
            <a:ext cx="44290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DB20-4E7E-4F89-858C-9D3E2EB96A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581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6147-6164-41AD-8C3B-930CCF18DC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4T14:54:19Z</dcterms:modified>
  <cp:revision>26</cp:revision>
  <dc:subject/>
  <dc:title>Prezentace aplikace PowerPoint</dc:title>
</cp:coreProperties>
</file>