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8519-6CBF-40AB-9FDE-B1E32CF34F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B957-94D4-40C1-A906-5B7B48C8B8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85A4-CAF7-4D17-A260-CDDAC8FAE5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27EC-7062-4643-81A3-6D95EE112E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1DDA-D3BF-4C95-9CF3-EDFA66D3CA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ABC0-E7BE-420F-9561-69FEC05BC3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C80-CA8A-4E5E-8FBC-6D45894D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896-0E8F-4B90-A6E0-BC777F4D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F4E43-341A-4862-8B6D-0B82BE30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D7ED3-9E1F-4346-B2B3-70ABB3CA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D062E-58FF-4382-A076-A10FE16F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CDC8C-7574-4949-9956-B49DB5AC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70F76-206C-4812-A3D1-191B506D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7934A-CE5A-44F3-87E8-5A7D8233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2AEE6-7D9B-4331-A01A-ABCE5ABF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8C0BD-F8A8-46D1-918F-1B58F457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453D5-08A8-4E0F-BD5E-5DEC288E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D2BD4-72DE-4EE9-BB9D-F514322E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4CD-D08B-4FC3-A00E-D6D807BE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D08F1-7AA6-47CD-A874-F5392458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9536E-D8BB-432E-AD35-44FF9D55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55857-B6A9-412C-A1BB-3B49D0F9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FA981-7EFB-421E-A090-3AE67556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05D59-F6F0-41E1-A0A3-721A2FE4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A4F8B-5C64-4CCE-BBE1-51E67F42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14AB4-4A7C-4257-9F41-B4405493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27EF3-A57B-4CE3-BF95-A01371B8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B4025-5756-4BAC-A446-38F64558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865C7-3054-481F-8893-5867BCD1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39C-EB6E-4F4C-9328-6421C54C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00EE1-C08A-4DBE-90CB-E94E1EE3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267FC-681F-4F32-A408-72BDFE6C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159B4-C78E-47D1-BEC4-C198D367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D44DC-BF3B-40A4-9A55-EF9AE44E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9C8F8-549E-4423-BB87-9F909F6A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84638-9C01-4151-ADE4-CF0DFD2A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C20B7-E230-42CC-8F17-A1A6B588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19DEE-4E0B-4A9A-AF88-791284B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E16B2-8CA2-4763-8747-5889441A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D6946-136E-4014-A973-5AD56C62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44B0-3CA4-418A-81AC-ED52C211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205B1-8F52-460C-A167-95C080D6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2162E-523E-4340-9152-FBA2EC61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673F9-397C-43B7-B41D-73EC0F8F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AD192-06B4-4E4B-88CB-B3E96912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6D560-BF7D-4620-B2C7-5EB14E9F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2C320-82E2-4448-8AE3-20BC91C6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8B7AE-9C85-4DE8-97A2-7CBC8B41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2FCFE-1C9A-4020-A3F2-1D51C28A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F35AA-B37B-48D9-918D-2C259A0B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65572-CA3C-4DE7-AC25-73696FF4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F247-A571-4BDC-803E-CA892BC3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A6AAD-9193-4EAA-83A7-1A4BA230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B4372-9816-448E-9ABF-4CF360D6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70F5E-47CA-4AFE-8396-FEEE4C14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F8112-8522-4844-9B3C-550C89EB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D9E4C-37C9-45C9-8CE0-57BC6FDE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DA1E-8604-4DA2-82C6-581C2E6A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D029-1927-47AC-A323-AD9F0B5E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F1D7-650A-4007-A3A0-3B67DE96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D7F1-DAF2-4782-962A-63F97842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37BC-B94E-4263-8E6E-EA3A5CC0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6D4-96A8-4493-9BE0-2DA3971B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5B75-1FAA-43D6-8B27-D25C0738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E8A1-AE9B-466D-81E7-CF417EF7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C54A-8109-48F9-B89A-91C5D0C3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42FF-833E-46DA-BDF1-027A3EA1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A3B8-B566-456D-A85E-0885ED91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8AED-5FA0-4DB0-ADC6-7EABB402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9094-6A92-48BD-8DA9-4BB95643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0072-7DB1-4BF9-B123-2D583603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DF44-D6ED-4F1B-98C6-5E3C4550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9088-2B5D-438C-B442-7F2EDBEB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70C-F44B-481C-B1A0-8B3C4E9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798B-0F7B-40B3-97C2-B5600026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5DCD5-C02D-434F-990F-AC862902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9944-A6D1-4091-9BA4-C1717BD7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EB70-103D-4C54-B007-FC2D9395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D1AF4-73AD-4CB3-A94B-E5043F60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7F80-86D6-4DD5-AF4C-10E03932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FEB1-CCD2-436F-820F-B770722F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6BDE9-5331-40D9-AB83-6DA4D338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68BE3-4F70-4F2C-9C21-01DB8E1E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D197-8060-4617-9730-C578359E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C5F-3CF7-4B85-803C-884A560F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5F2F2-DB64-447B-9AA7-DE9D6223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B53E-1A7A-4206-ADAC-BC9E1521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B145-111E-4880-B8FD-34C861F6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4F95-4D54-4407-B4CA-36151C16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FF83-4E51-4E79-8E45-1B76B1C9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4B8B-D400-4D62-9F44-5F93DAC9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C1CF-D550-4642-BDA1-671B8EA8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C5DA9-94AB-42C6-8583-9E85D2EB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5A1D2-A02A-4FDD-A4BA-983F1F52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016DF-BF01-4035-905B-DE41BF03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398-AC3F-494C-A891-9959A975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C428E-96E3-4892-BB23-B95AB970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58AFD-70EC-47C8-B9F7-C8DD98A6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959F4-50A2-4772-AD65-81892E79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14BAD-3DB0-4516-9C74-AB01C7B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31490-DF76-48F2-B087-FD4E9071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E500D-C9C1-4206-98E7-63849A30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2009-2EA7-4EEE-8F12-D8A08B7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69C1F-F936-4D57-BFD7-A12C7803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651A3-A5FB-4340-BC95-0EBEF6FA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DAB17-F1AC-4F40-B6B7-0B88AC71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DFF-FB77-4E25-A3D4-25A8C991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FA42C-EEC8-4BC4-868D-24E14455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6A171-A00A-44EB-94CF-32F195FC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41DA9-856C-42C1-8B1F-2EBF42AF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CC56E-6CE6-463B-AA85-5E617260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1F91B-5AC5-4D87-9917-8BD937C7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2317F-DD0A-4FE9-A56F-90ED2B30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425C-215E-4A46-BBA4-36D30D14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33532-2A24-443A-BA6F-181787CF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D22E7-71B7-40E1-8A83-23A70EC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FCF9-D314-4C50-ADDB-B5075A20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127-2081-4805-A597-048CE7B6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6DE66-FD2B-4C7F-B546-5F6C994E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1F052-9C4E-4E47-97D8-544638D6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23AC8-F12D-4F82-AA51-1E70E5E6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3C776-44D6-4983-87B9-552AF314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B955A-6B29-48D2-BBCB-C2F1AF32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3F4D1-336D-4961-B193-68A3D295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19D11-8764-48AE-BC0D-126A5ABF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CBA37-CE2D-4DEE-A676-EF98255C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E34A5-BF7B-4332-AC58-33C17975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73337-D31C-4526-BADE-EE12873E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88C-BCBB-495C-8FF0-D7DD18A0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92A25-AC65-4254-9538-B88C0AB4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37D9-FE74-4E5A-B13A-BF89FD52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3342D-236E-4185-A319-C17FBD44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FC771-1B0A-473D-8574-CA42BD81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135D2-7646-4862-B818-C0980501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367E4-C04C-4313-8E2B-D551C6FB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93A5E-FD6C-48C5-B921-AAED2324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02777-AC6E-49B6-9BAD-E4515836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2D670-6D5C-4A79-8622-78985A89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14742-2851-486B-BE69-9C0849C4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D7C-46D5-4265-B32B-B7E45D9F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7A76D-4A7D-4C1A-8208-F8129179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43541-FA16-40D3-B8A3-91425598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A7BBC-E37F-4BD0-9AEC-3C3CA91E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E2BC7-0A33-4591-9494-9FD0553C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01C58-8F28-4DC2-A646-EF9ADE81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7CA0C-A798-4CE4-970C-3F5942CD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E337F-45A9-44FF-AAE5-97D67E24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8FBA4-4849-496A-AB55-ECB3995E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B863F-26F1-4A23-AEC5-39C6B8FA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6733E-F897-4906-A081-29F5A804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268B-AF7C-4B08-A326-40F60F4283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2519-610E-4662-BDC8-7A74BFC713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5F93-04FD-49E7-B0E2-48D1B76243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9C4E-561C-4242-9C6C-13E30957FE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E0D8-1810-4DEC-B11A-F850D40799F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AF30-C61A-45E8-8838-9A8A0865DF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1D6D-7BD2-4E50-B45E-254E95A957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A653-F161-47A6-BAE4-389EFE3688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0098-E555-4116-8301-0DD5365351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58D7-4620-4637-BE8B-236A756EF9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8828-AD78-4470-B041-FEF4CBB5D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EB03-A82B-45BE-BA23-5C19B28D7F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FF2D-5754-4EB3-828B-A2E5587E760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6FBD-8275-475C-A250-80AAB1805B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4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B115-89E0-47D4-9EC0-4BB7438556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558A-242B-489A-BD09-C2DDF8E324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5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3E84-FE66-4429-9EA4-4BA7D1196A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305B-533E-4256-AF0A-B81D10D7FB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938F-D1E1-4972-9F48-58114E24B8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E49C-3825-427A-AA36-5AD44198BB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sopousek@chemi.muni.c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kázání schopnosti samostatně řešit modelové    problémy kinetiky reak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C570-66CE-4F0B-8C6E-603C22A35D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ce semináře:</a:t>
            </a:r>
            <a:br>
              <a:rPr sz="3600"/>
            </a:b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C6330 Chemická kinetik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ání software urychlujícího práci (zejména EXCEL, math CAD, ) Matematika: Wolf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lost probírané tématiky dle sylabu přednášky C6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FCD2-8F10-4825-9C89-1E9A23A549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1717"/>
                </a:solidFill>
                <a:latin typeface="Times New Roman"/>
              </a:rPr>
              <a:t>J. Vohlídal, Chemická kinetika, Karolinum, Praha 2001 (scrip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AE77-F4D0-476B-A367-F9CF3BCD74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ník z fyzikální chemie VŠChT: http://www.vscht.cz/fch/prikladnik/prikladnik/p.ht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21EA-45CA-44EF-A6F6-348FD6AAA5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030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4A65-409A-4004-99D6-D4EFD69B2E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46F4-8418-45E0-BD4A-3797328C28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030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ledná nevratná reakce prvního řád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07A1-5329-4DEC-938D-C8084C3991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4:41:49Z</dcterms:modified>
  <cp:revision>36</cp:revision>
  <dc:subject/>
  <dc:title>Prezentace aplikace PowerPoint</dc:title>
</cp:coreProperties>
</file>