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6.jpeg" ContentType="image/jpeg"/>
  <Override PartName="/ppt/media/image52.png" ContentType="image/png"/>
  <Override PartName="/ppt/media/image27.jpeg" ContentType="image/jpeg"/>
  <Override PartName="/ppt/media/image10.jpeg" ContentType="image/jpeg"/>
  <Override PartName="/ppt/media/image14.png" ContentType="image/png"/>
  <Override PartName="/ppt/media/image36.jpeg" ContentType="image/jpeg"/>
  <Override PartName="/ppt/media/image57.png" ContentType="image/png"/>
  <Override PartName="/ppt/media/image15.jpeg" ContentType="image/jpeg"/>
  <Override PartName="/ppt/media/image17.jpeg" ContentType="image/jpeg"/>
  <Override PartName="/ppt/media/image18.jpeg" ContentType="image/jpeg"/>
  <Override PartName="/ppt/media/image24.jpeg" ContentType="image/jpeg"/>
  <Override PartName="/ppt/media/image59.png" ContentType="image/png"/>
  <Override PartName="/ppt/media/image22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63.jpeg" ContentType="image/jpeg"/>
  <Override PartName="/ppt/media/image29.png" ContentType="image/png"/>
  <Override PartName="/ppt/media/image21.jpeg" ContentType="image/jpeg"/>
  <Override PartName="/ppt/media/image4.png" ContentType="image/png"/>
  <Override PartName="/ppt/media/image16.png" ContentType="image/png"/>
  <Override PartName="/ppt/media/image64.png" ContentType="image/png"/>
  <Override PartName="/ppt/media/image60.jpeg" ContentType="image/jpeg"/>
  <Override PartName="/ppt/media/image62.png" ContentType="image/png"/>
  <Override PartName="/ppt/media/image25.png" ContentType="image/png"/>
  <Override PartName="/ppt/media/image23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2.png" ContentType="image/png"/>
  <Override PartName="/ppt/media/image33.png" ContentType="image/png"/>
  <Override PartName="/ppt/media/image39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5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768F8-F522-4CD0-BFD4-D959E00E30FF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07665-8227-4A93-9908-CBB7BF0B7949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4AD892-54CD-48A2-BE89-6EBDA6273E24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2AAA-D9D9-4AE5-939D-71BF3FAB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AEC-92AC-4280-84A3-1C6CDD51B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BAD9-A622-4CE2-8D66-40E8BAB3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61B3-FE84-4E5F-895C-58F3632AE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7DC-E9C5-459D-93A8-930E7A5E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199C-777E-42E5-87A2-72952536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F480-B60A-4841-8AC8-CF6734D0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CA3-E534-4FF7-A2EA-C467139A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18E1-D8B4-4BA2-B060-D2EFD1FA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F738-363F-4C54-9C07-AD33DE12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C57D-FADE-4C85-81D7-DEABB91E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914D-F3BE-4469-AC5D-9E42EFE8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4F6FC55-FFF7-4F87-B9D9-C272CB242C77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z/url?sa=i&amp;rct=j&amp;q=&amp;esrc=s&amp;frm=1&amp;source=images&amp;cd=&amp;cad=rja&amp;docid=tWi-lSLzjXaleM&amp;tbnid=VyQ4TZ92f2iOdM:&amp;ved=0CAUQjRw&amp;url=http%3A%2F%2Fwww.answers.com%2Ftopic%2Fnucleation&amp;ei=fVGcUuqIJ8_GswaG4YCwDw&amp;bvm=bv.57155469,d.d2k&amp;psig=AFQjCNGdUd70Sgxlx8HqlxrVuRlXRi2UxQ&amp;ust=138606256356350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e7a6HjtLMAhWCHxoKHWb6CfcQjRwIBw&amp;url=http%3A%2F%2Fwww.intechopen.com%2Fbooks%2Fcurrent-research-in-nuclear-reactor-technology-in-brazil-and-worldwide%2Fisothermal-phase-transformation-of-u-zr-nb-alloys-for-advanced-nuclear-fuels&amp;bvm=bv.121658157,d.ZGg&amp;psig=AFQjCNF3pK0Z_9hpj2kkO2Ma3SzBS-kJXA&amp;ust=1463059103622655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google.cz/url?sa=i&amp;rct=j&amp;q=&amp;esrc=s&amp;source=images&amp;cd=&amp;cad=rja&amp;uact=8&amp;ved=0ahUKEwjS3_3VlNLMAhWhHpoKHU8JBZsQjRwIBw&amp;url=http%3A%2F%2Fwww.navaching.com%2Fforge%2Fcooling.html&amp;bvm=bv.121658157,d.ZGg&amp;psig=AFQjCNGyOIhlAtnR3U2BbLJZ830ZhX1rCQ&amp;ust=1463060733066420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google.cz/url?sa=i&amp;rct=j&amp;q=&amp;esrc=s&amp;source=images&amp;cd=&amp;cad=rja&amp;uact=8&amp;ved=0ahUKEwj-49iNlNLMAhVsGZoKHYwRAQ8QjRwIBw&amp;url=http%3A%2F%2Fwww.tf.uni-kiel.de%2Fmatwis%2Famat%2Fiss%2Fkap_6%2Fillustr%2Fs6_1_2.html&amp;bvm=bv.121658157,d.ZGg&amp;psig=AFQjCNGyOIhlAtnR3U2BbLJZ830ZhX1rCQ&amp;ust=1463060733066420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Uy4Stj9LMAhWFfxoKHfBND_kQjRwIBw&amp;url=http%3A%2F%2Fwww.tlakinfo.cz%2Ft.py%3Ft%3D2%26i%3D1841&amp;psig=AFQjCNFntnMFb-CR9pq4jDI61azwxPgSpg&amp;ust=146305941255871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google.cz/url?sa=i&amp;rct=j&amp;q=&amp;esrc=s&amp;source=images&amp;cd=&amp;cad=rja&amp;uact=8&amp;ved=0ahUKEwj0yY-y66jJAhWBrRQKHUQzDSsQjRwIBw&amp;url=http%3A%2F%2Fwww.expertsmind.com%2Flibrary%2Fwhat-is-the-martensitic-phase-transformation-5178010.aspx&amp;psig=AFQjCNGj9K9jSL2zJS2OXniEtXhGW7ndyw&amp;ust=1448446878956913" TargetMode="External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CAcQjRxqFQoTCIi4t-LO8cgCFcV-GgodGVoFbA&amp;url=http%3A%2F%2Fwww.scielo.br%2Fscielo.php%3Fscript%3Dsci_arttext%26pid%3DS0104-66322001000400007&amp;psig=AFQjCNFZsvdw9M1K--4ssq5FvVC-J7XSqA&amp;ust=1446549265164095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i_rsvk5qjJAhVEtxQKHY_aBWoQjRwIBw&amp;url=http%3A%2F%2Fwww.xray.bioc.cam.ac.uk%2Fxray_resources%2Fwhitepapers%2Fxtal-in-action%2Fnode3.html&amp;psig=AFQjCNGUacraQKrG5ZUq8_K24VwsAAOtlw&amp;ust=1448445380505150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www.google.cz/url?sa=i&amp;rct=j&amp;q=&amp;esrc=s&amp;source=images&amp;cd=&amp;cad=rja&amp;uact=8&amp;ved=0ahUKEwisprzv5ajJAhVEwBQKHfI1Ds8QjRwIBw&amp;url=http%3A%2F%2Fblog.autochem.mt.com%2F2011%2F03%2Fsupersaturation-driving-force-for-crystal-nucleation-growth%2F&amp;psig=AFQjCNGUacraQKrG5ZUq8_K24VwsAAOtlw&amp;ust=1448445380505150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hyperlink" Target="http://www.google.cz/url?sa=i&amp;rct=j&amp;q=&amp;esrc=s&amp;source=images&amp;cd=&amp;cad=rja&amp;uact=8&amp;ved=0ahUKEwjn37_36KjJAhVBHBQKHSOGA8sQjRwIBw&amp;url=http%3A%2F%2Fblog.autochem.mt.com%2F2011%2F03%2Fsupersaturation-driving-force-for-crystal-nucleation-growth%2F&amp;psig=AFQjCNEfbihTl28JqYZvTeoA3YDSJZ2ZCA&amp;ust=1448445219170500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355GM6KjJAhVGuhQKHcRdCMEQjRwIBQ&amp;url=http%3A%2F%2Facumen.lib.ua.edu%2Fcontent%2Fu0015%2F0000001%2F0000572%2Fu0015_0000001_0000572.pdf&amp;bvm=bv.108194040,d.bGg&amp;psig=AFQjCNFzmS_s9mtW7BojZ91ZQD4cOCR2Lw&amp;ust=1448446002475840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3168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4d4d4d"/>
                </a:solidFill>
                <a:latin typeface="Arial"/>
              </a:rPr>
              <a:t>Vznik nové fáze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79280" y="2889360"/>
            <a:ext cx="5826240" cy="291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ttps://encrypted-tbn0.gstatic.com/images?q=tbn:ANd9GcRpl8b0fYG19__S0vxiGLEroIAJTN7scugsMmubHWUcOLcBETL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60960" y="3230640"/>
            <a:ext cx="3000600" cy="223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Výsledek obrázku pro &quot;nucleation zone&quot; solubility temperature"/>
          <p:cNvPicPr/>
          <p:nvPr/>
        </p:nvPicPr>
        <p:blipFill>
          <a:blip r:embed="rId4"/>
          <a:stretch/>
        </p:blipFill>
        <p:spPr>
          <a:xfrm>
            <a:off x="7419960" y="13644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http://pubs.rsc.org/services/images/RSCpubs.ePlatform.Service.FreeContent.ImageService.svc/ImageService/Articleimage/2012/CP/c2cp40703e/c2cp40703e-f1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169920"/>
            <a:ext cx="398772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2305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TTT křiv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6" name="Picture 2" descr="http://www.intechopen.com/source/html/42478/media/figure_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60280"/>
            <a:ext cx="5329080" cy="6566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http://www.navaching.com/forge/forge.gifs/fe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2782800"/>
            <a:ext cx="5352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9" name="Picture 2" descr="http://www.keytometals.com/images/Articles/kts/art14-p1.gif"/>
          <p:cNvPicPr/>
          <p:nvPr/>
        </p:nvPicPr>
        <p:blipFill>
          <a:blip r:embed="rId1"/>
          <a:stretch/>
        </p:blipFill>
        <p:spPr>
          <a:xfrm>
            <a:off x="179280" y="1200240"/>
            <a:ext cx="5305680" cy="5184720"/>
          </a:xfrm>
          <a:prstGeom prst="rect">
            <a:avLst/>
          </a:prstGeom>
          <a:ln w="0">
            <a:noFill/>
          </a:ln>
        </p:spPr>
      </p:pic>
      <p:sp>
        <p:nvSpPr>
          <p:cNvPr id="160" name="Obdélník 2"/>
          <p:cNvSpPr/>
          <p:nvPr/>
        </p:nvSpPr>
        <p:spPr>
          <a:xfrm>
            <a:off x="468360" y="184320"/>
            <a:ext cx="8567640" cy="1008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TTT-curve for 0,65% carbon steel depicting time interval required for beginning, 50% and 100% transformation of austenite at a constant temperature A= Austenite F= Ferrite P = Pearlite B = Bain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http://www.tf.uni-kiel.de/matwis/amat/iss/kap_6/illustr/phase_diagram_large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14800" y="1484280"/>
            <a:ext cx="41292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4735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Role reálné rychlosti ochlazení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Picture 2" descr="http://www.tlakinfo.cz/docu/clanky/0018/001841o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700280"/>
            <a:ext cx="4973760" cy="4249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secure.expertsmind.com/CMSImages/789_Mechanical%20Behavior%20of%20Materials1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13400" y="235080"/>
            <a:ext cx="3659040" cy="3024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tlakinfo.cz/docu/clanky/0018/001841o9.jpg"/>
          <p:cNvPicPr/>
          <p:nvPr/>
        </p:nvPicPr>
        <p:blipFill>
          <a:blip r:embed="rId5"/>
          <a:stretch/>
        </p:blipFill>
        <p:spPr>
          <a:xfrm>
            <a:off x="4932360" y="3645000"/>
            <a:ext cx="42116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7" name="Picture 2" descr="http://images.slideplayer.cz/10/2763926/slides/slide_9.jpg"/>
          <p:cNvPicPr/>
          <p:nvPr/>
        </p:nvPicPr>
        <p:blipFill>
          <a:blip r:embed="rId1"/>
          <a:stretch/>
        </p:blipFill>
        <p:spPr>
          <a:xfrm>
            <a:off x="324000" y="620640"/>
            <a:ext cx="801684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8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264120" cy="2362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1.  Spinodální rozpad –fázová přeměna bez nuklea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6A571B-23C0-4940-8EBC-450CFF004955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http://www.intechopen.com/source/html/15877/media/image3.png"/>
          <p:cNvPicPr/>
          <p:nvPr/>
        </p:nvPicPr>
        <p:blipFill>
          <a:blip r:embed="rId2"/>
          <a:stretch/>
        </p:blipFill>
        <p:spPr>
          <a:xfrm>
            <a:off x="531720" y="1768320"/>
            <a:ext cx="4157640" cy="2092320"/>
          </a:xfrm>
          <a:prstGeom prst="rect">
            <a:avLst/>
          </a:prstGeom>
          <a:ln w="0">
            <a:noFill/>
          </a:ln>
        </p:spPr>
      </p:pic>
      <p:sp>
        <p:nvSpPr>
          <p:cNvPr id="172" name="TextovéPole 6"/>
          <p:cNvSpPr/>
          <p:nvPr/>
        </p:nvSpPr>
        <p:spPr>
          <a:xfrm>
            <a:off x="496800" y="1089000"/>
            <a:ext cx="2735280" cy="611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inodální rozp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8" descr="http://ars.els-cdn.com/content/image/1-s2.0-S1359645411005350-gr9.jpg"/>
          <p:cNvPicPr/>
          <p:nvPr/>
        </p:nvPicPr>
        <p:blipFill>
          <a:blip r:embed="rId3"/>
          <a:stretch/>
        </p:blipFill>
        <p:spPr>
          <a:xfrm>
            <a:off x="611280" y="4149720"/>
            <a:ext cx="3190680" cy="208116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9"/>
          <p:cNvSpPr/>
          <p:nvPr/>
        </p:nvSpPr>
        <p:spPr>
          <a:xfrm>
            <a:off x="2340000" y="1844640"/>
            <a:ext cx="1079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CR-N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ovéPole 1"/>
          <p:cNvSpPr/>
          <p:nvPr/>
        </p:nvSpPr>
        <p:spPr>
          <a:xfrm>
            <a:off x="1101600" y="1768320"/>
            <a:ext cx="15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Náhodná fluktu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6" descr=""/>
          <p:cNvPicPr/>
          <p:nvPr/>
        </p:nvPicPr>
        <p:blipFill>
          <a:blip r:embed="rId4"/>
          <a:stretch/>
        </p:blipFill>
        <p:spPr>
          <a:xfrm>
            <a:off x="6084720" y="1763640"/>
            <a:ext cx="2519640" cy="1978200"/>
          </a:xfrm>
          <a:prstGeom prst="rect">
            <a:avLst/>
          </a:prstGeom>
          <a:ln w="0">
            <a:noFill/>
          </a:ln>
        </p:spPr>
      </p:pic>
      <p:sp>
        <p:nvSpPr>
          <p:cNvPr id="177" name="TextovéPole 4"/>
          <p:cNvSpPr/>
          <p:nvPr/>
        </p:nvSpPr>
        <p:spPr>
          <a:xfrm>
            <a:off x="6429240" y="1236600"/>
            <a:ext cx="150048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tiv ve FD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ovéPole 4"/>
          <p:cNvSpPr/>
          <p:nvPr/>
        </p:nvSpPr>
        <p:spPr>
          <a:xfrm>
            <a:off x="6594480" y="4156200"/>
            <a:ext cx="1498680" cy="42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centrační profil při spinodálním rozpadu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ovéPole 1"/>
          <p:cNvSpPr/>
          <p:nvPr/>
        </p:nvSpPr>
        <p:spPr>
          <a:xfrm>
            <a:off x="5580000" y="5950080"/>
            <a:ext cx="208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nutné nukleační stádiu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" name="Přímá spojnice se šipkou 2"/>
          <p:cNvCxnSpPr/>
          <p:nvPr/>
        </p:nvCxnSpPr>
        <p:spPr>
          <a:xfrm>
            <a:off x="2340000" y="2205000"/>
            <a:ext cx="468072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Přímá spojnice se šipkou 5"/>
          <p:cNvCxnSpPr/>
          <p:nvPr/>
        </p:nvCxnSpPr>
        <p:spPr>
          <a:xfrm>
            <a:off x="3059280" y="2637000"/>
            <a:ext cx="353592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2" name="TextovéPole 6"/>
          <p:cNvSpPr/>
          <p:nvPr/>
        </p:nvSpPr>
        <p:spPr>
          <a:xfrm>
            <a:off x="4654080" y="250668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ovéPole 18"/>
          <p:cNvSpPr/>
          <p:nvPr/>
        </p:nvSpPr>
        <p:spPr>
          <a:xfrm>
            <a:off x="4588200" y="320364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imes New Roman"/>
                <a:ea typeface="MS Gothic"/>
              </a:rPr>
              <a:t>ne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3. Nukleace a růst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51E7D7-7DF4-434E-9391-7192FEF39FD9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2" descr="http://ars.sciencedirect.com/content/image/1-s2.0-S0009250908002480-gr7.gif"/>
          <p:cNvPicPr/>
          <p:nvPr/>
        </p:nvPicPr>
        <p:blipFill>
          <a:blip r:embed="rId1"/>
          <a:stretch/>
        </p:blipFill>
        <p:spPr>
          <a:xfrm>
            <a:off x="3059280" y="3722760"/>
            <a:ext cx="2676240" cy="1984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://ars.sciencedirect.com/content/image/1-s2.0-S0009250908002480-gr6.gif"/>
          <p:cNvPicPr/>
          <p:nvPr/>
        </p:nvPicPr>
        <p:blipFill>
          <a:blip r:embed="rId2"/>
          <a:stretch/>
        </p:blipFill>
        <p:spPr>
          <a:xfrm>
            <a:off x="316080" y="3722760"/>
            <a:ext cx="2668320" cy="1984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://ars.els-cdn.com/content/image/1-s2.0-S0021979707003207-gr003.jpg"/>
          <p:cNvPicPr/>
          <p:nvPr/>
        </p:nvPicPr>
        <p:blipFill>
          <a:blip r:embed="rId3"/>
          <a:stretch/>
        </p:blipFill>
        <p:spPr>
          <a:xfrm>
            <a:off x="6270480" y="981000"/>
            <a:ext cx="2533680" cy="3783240"/>
          </a:xfrm>
          <a:prstGeom prst="rect">
            <a:avLst/>
          </a:prstGeom>
          <a:ln w="0">
            <a:noFill/>
          </a:ln>
        </p:spPr>
      </p:pic>
      <p:sp>
        <p:nvSpPr>
          <p:cNvPr id="189" name="TextovéPole 4"/>
          <p:cNvSpPr/>
          <p:nvPr/>
        </p:nvSpPr>
        <p:spPr>
          <a:xfrm>
            <a:off x="6270480" y="4941720"/>
            <a:ext cx="2694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Schematic illustration of nucleation and growth mechanisms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based on LaMer's model: (a) mechanism for polydisperse particles and (b) mechanism for monodisperse particles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. http://www.sciencedirect.com/science/article/pii/S00219797070032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ovéPole 5"/>
          <p:cNvSpPr/>
          <p:nvPr/>
        </p:nvSpPr>
        <p:spPr>
          <a:xfrm>
            <a:off x="1433520" y="3860640"/>
            <a:ext cx="1409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ukleační rychlost (je funkcí přesycení, které při nukleaci kles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ovéPole 9"/>
          <p:cNvSpPr/>
          <p:nvPr/>
        </p:nvSpPr>
        <p:spPr>
          <a:xfrm>
            <a:off x="4397400" y="4032360"/>
            <a:ext cx="131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Vhodný průběh nukleační rychlost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8" descr="http://ars.els-cdn.com/content/image/1-s2.0-S1359645401001136-gr7.gif"/>
          <p:cNvPicPr/>
          <p:nvPr/>
        </p:nvPicPr>
        <p:blipFill>
          <a:blip r:embed="rId4"/>
          <a:stretch/>
        </p:blipFill>
        <p:spPr>
          <a:xfrm>
            <a:off x="316080" y="1341360"/>
            <a:ext cx="2682720" cy="224496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6"/>
          <p:cNvSpPr/>
          <p:nvPr/>
        </p:nvSpPr>
        <p:spPr>
          <a:xfrm>
            <a:off x="684360" y="1341360"/>
            <a:ext cx="165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apř.:  Podchlazený rozrok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ovéPole 1"/>
          <p:cNvSpPr/>
          <p:nvPr/>
        </p:nvSpPr>
        <p:spPr>
          <a:xfrm>
            <a:off x="684360" y="981000"/>
            <a:ext cx="2158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Fázové přemě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ovéPole 13"/>
          <p:cNvSpPr/>
          <p:nvPr/>
        </p:nvSpPr>
        <p:spPr>
          <a:xfrm>
            <a:off x="3490920" y="971640"/>
            <a:ext cx="216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hemické reak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ovéPole 9"/>
          <p:cNvSpPr/>
          <p:nvPr/>
        </p:nvSpPr>
        <p:spPr>
          <a:xfrm>
            <a:off x="2860560" y="580536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Trig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" name="Přímá spojnice se šipkou 5"/>
          <p:cNvCxnSpPr/>
          <p:nvPr/>
        </p:nvCxnSpPr>
        <p:spPr>
          <a:xfrm flipV="1">
            <a:off x="3708000" y="515700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98" name="Picture 14" descr="http://www.transtutors.com/userfiles/image/ARUN/Fold/92c.JPG"/>
          <p:cNvPicPr/>
          <p:nvPr/>
        </p:nvPicPr>
        <p:blipFill>
          <a:blip r:embed="rId5"/>
          <a:stretch/>
        </p:blipFill>
        <p:spPr>
          <a:xfrm>
            <a:off x="3305160" y="1455840"/>
            <a:ext cx="2346480" cy="2165400"/>
          </a:xfrm>
          <a:prstGeom prst="rect">
            <a:avLst/>
          </a:prstGeom>
          <a:ln w="0">
            <a:noFill/>
          </a:ln>
        </p:spPr>
      </p:pic>
      <p:sp>
        <p:nvSpPr>
          <p:cNvPr id="199" name="TextovéPole 6"/>
          <p:cNvSpPr/>
          <p:nvPr/>
        </p:nvSpPr>
        <p:spPr>
          <a:xfrm>
            <a:off x="7812000" y="1598760"/>
            <a:ext cx="11527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no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ovéPole 21"/>
          <p:cNvSpPr/>
          <p:nvPr/>
        </p:nvSpPr>
        <p:spPr>
          <a:xfrm>
            <a:off x="7885080" y="3489480"/>
            <a:ext cx="11509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ly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Homogenní a heterogenní nukleace z liquidu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Obdélník 2"/>
          <p:cNvSpPr/>
          <p:nvPr/>
        </p:nvSpPr>
        <p:spPr>
          <a:xfrm>
            <a:off x="179280" y="63817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matter.org.uk/matscicdrom/manual/nu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24000" y="1353600"/>
            <a:ext cx="56880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riving for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for solidification,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exists below the equilibrium melting temperature,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nd that this is approximately proportional to the degree of undercooling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4" descr="http://www.matter.org.uk/matscicdrom/manual/images/image118.gif"/>
          <p:cNvPicPr/>
          <p:nvPr/>
        </p:nvPicPr>
        <p:blipFill>
          <a:blip r:embed="rId1"/>
          <a:stretch/>
        </p:blipFill>
        <p:spPr>
          <a:xfrm>
            <a:off x="6732720" y="1484280"/>
            <a:ext cx="1304640" cy="576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www.matter.org.uk/matscicdrom/manual/images/image119.gif"/>
          <p:cNvPicPr/>
          <p:nvPr/>
        </p:nvPicPr>
        <p:blipFill>
          <a:blip r:embed="rId2"/>
          <a:stretch/>
        </p:blipFill>
        <p:spPr>
          <a:xfrm>
            <a:off x="4572000" y="2479680"/>
            <a:ext cx="1944720" cy="1716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www.matter.org.uk/matscicdrom/manual/images/image124.gif"/>
          <p:cNvPicPr/>
          <p:nvPr/>
        </p:nvPicPr>
        <p:blipFill>
          <a:blip r:embed="rId3"/>
          <a:stretch/>
        </p:blipFill>
        <p:spPr>
          <a:xfrm>
            <a:off x="387360" y="4465800"/>
            <a:ext cx="2628720" cy="228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http://www.matter.org.uk/matscicdrom/manual/images/image125.gif"/>
          <p:cNvPicPr/>
          <p:nvPr/>
        </p:nvPicPr>
        <p:blipFill>
          <a:blip r:embed="rId4"/>
          <a:stretch/>
        </p:blipFill>
        <p:spPr>
          <a:xfrm>
            <a:off x="3713040" y="4473720"/>
            <a:ext cx="3036960" cy="185868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288720" y="234936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m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205200" y="396540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ter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8" descr="http://www.matter.org.uk/matscicdrom/manual/images/image120.gif"/>
          <p:cNvPicPr/>
          <p:nvPr/>
        </p:nvPicPr>
        <p:blipFill>
          <a:blip r:embed="rId5"/>
          <a:stretch/>
        </p:blipFill>
        <p:spPr>
          <a:xfrm>
            <a:off x="387360" y="2825640"/>
            <a:ext cx="1752480" cy="381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http://www.matter.org.uk/matscicdrom/manual/images/image122.gif"/>
          <p:cNvPicPr/>
          <p:nvPr/>
        </p:nvPicPr>
        <p:blipFill>
          <a:blip r:embed="rId6"/>
          <a:stretch/>
        </p:blipFill>
        <p:spPr>
          <a:xfrm>
            <a:off x="320760" y="3370320"/>
            <a:ext cx="1447560" cy="419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http://www.matter.org.uk/matscicdrom/manual/images/image123.gif"/>
          <p:cNvPicPr/>
          <p:nvPr/>
        </p:nvPicPr>
        <p:blipFill>
          <a:blip r:embed="rId7"/>
          <a:stretch/>
        </p:blipFill>
        <p:spPr>
          <a:xfrm>
            <a:off x="2208240" y="3360600"/>
            <a:ext cx="1714320" cy="438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http://www.matter.org.uk/matscicdrom/manual/images/image126.gif"/>
          <p:cNvPicPr/>
          <p:nvPr/>
        </p:nvPicPr>
        <p:blipFill>
          <a:blip r:embed="rId8"/>
          <a:stretch/>
        </p:blipFill>
        <p:spPr>
          <a:xfrm>
            <a:off x="324000" y="4782960"/>
            <a:ext cx="1143000" cy="419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http://www.matter.org.uk/matscicdrom/manual/images/image127.gif"/>
          <p:cNvPicPr/>
          <p:nvPr/>
        </p:nvPicPr>
        <p:blipFill>
          <a:blip r:embed="rId9"/>
          <a:stretch/>
        </p:blipFill>
        <p:spPr>
          <a:xfrm>
            <a:off x="372960" y="5875200"/>
            <a:ext cx="210528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http://www.matter.org.uk/matscicdrom/manual/images/image128.gif"/>
          <p:cNvPicPr/>
          <p:nvPr/>
        </p:nvPicPr>
        <p:blipFill>
          <a:blip r:embed="rId10"/>
          <a:stretch/>
        </p:blipFill>
        <p:spPr>
          <a:xfrm>
            <a:off x="406440" y="5408640"/>
            <a:ext cx="1762200" cy="399960"/>
          </a:xfrm>
          <a:prstGeom prst="rect">
            <a:avLst/>
          </a:prstGeom>
          <a:ln w="0">
            <a:noFill/>
          </a:ln>
        </p:spPr>
      </p:pic>
      <p:sp>
        <p:nvSpPr>
          <p:cNvPr id="216" name="TextovéPole 6"/>
          <p:cNvSpPr/>
          <p:nvPr/>
        </p:nvSpPr>
        <p:spPr>
          <a:xfrm>
            <a:off x="1768320" y="47750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.úhel smáč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0" descr="http://nptel.iitm.ac.in/courses/103104045/lecture20/images/01.jpg"/>
          <p:cNvPicPr/>
          <p:nvPr/>
        </p:nvPicPr>
        <p:blipFill>
          <a:blip r:embed="rId11"/>
          <a:stretch/>
        </p:blipFill>
        <p:spPr>
          <a:xfrm>
            <a:off x="6904080" y="4579920"/>
            <a:ext cx="2162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Snížené energetické bariéry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9" name="Picture 2" descr="http://www.matter.org.uk/matscicdrom/manual/images/image129.gif"/>
          <p:cNvPicPr/>
          <p:nvPr/>
        </p:nvPicPr>
        <p:blipFill>
          <a:blip r:embed="rId1"/>
          <a:stretch/>
        </p:blipFill>
        <p:spPr>
          <a:xfrm>
            <a:off x="1930320" y="1916280"/>
            <a:ext cx="46227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Homogenní a heterogenní nukleace v tuhém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1" name="Picture 2" descr="http://www.matter.org.uk/matscicdrom/manual/images/image131.gif"/>
          <p:cNvPicPr/>
          <p:nvPr/>
        </p:nvPicPr>
        <p:blipFill>
          <a:blip r:embed="rId1"/>
          <a:stretch/>
        </p:blipFill>
        <p:spPr>
          <a:xfrm>
            <a:off x="525600" y="1114560"/>
            <a:ext cx="115236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www.matter.org.uk/matscicdrom/manual/images/image130.gif"/>
          <p:cNvPicPr/>
          <p:nvPr/>
        </p:nvPicPr>
        <p:blipFill>
          <a:blip r:embed="rId2"/>
          <a:stretch/>
        </p:blipFill>
        <p:spPr>
          <a:xfrm>
            <a:off x="5580000" y="1187280"/>
            <a:ext cx="2840040" cy="2760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www.matter.org.uk/matscicdrom/manual/images/image132.gif"/>
          <p:cNvPicPr/>
          <p:nvPr/>
        </p:nvPicPr>
        <p:blipFill>
          <a:blip r:embed="rId3"/>
          <a:stretch/>
        </p:blipFill>
        <p:spPr>
          <a:xfrm>
            <a:off x="2470320" y="1187280"/>
            <a:ext cx="1390320" cy="46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\begin{figure}\resizebox{6in}{!}&#10;{\epsfig{file=figures/Nucleation/grain_bndy_ppct.eps}}&#10;\end{figure}"/>
          <p:cNvPicPr/>
          <p:nvPr/>
        </p:nvPicPr>
        <p:blipFill>
          <a:blip r:embed="rId4"/>
          <a:stretch/>
        </p:blipFill>
        <p:spPr>
          <a:xfrm>
            <a:off x="5027760" y="4437000"/>
            <a:ext cx="4078080" cy="1584360"/>
          </a:xfrm>
          <a:prstGeom prst="rect">
            <a:avLst/>
          </a:prstGeom>
          <a:ln w="0">
            <a:noFill/>
          </a:ln>
        </p:spPr>
      </p:pic>
      <p:sp>
        <p:nvSpPr>
          <p:cNvPr id="225" name="Obdélník 2"/>
          <p:cNvSpPr/>
          <p:nvPr/>
        </p:nvSpPr>
        <p:spPr>
          <a:xfrm>
            <a:off x="341280" y="61657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http://pruffle.mit.edu/~ccarter/3.21/Lecture_25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8" descr="\begin{figure}\resizebox{6in}{!}&#10;{\epsfig{file=figures/Nucleation/beta_phase_part.eps}}&#10;\end{figure}"/>
          <p:cNvPicPr/>
          <p:nvPr/>
        </p:nvPicPr>
        <p:blipFill>
          <a:blip r:embed="rId5"/>
          <a:stretch/>
        </p:blipFill>
        <p:spPr>
          <a:xfrm>
            <a:off x="176040" y="1784520"/>
            <a:ext cx="4837320" cy="2557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9"/>
          <p:cNvSpPr/>
          <p:nvPr/>
        </p:nvSpPr>
        <p:spPr>
          <a:xfrm>
            <a:off x="122400" y="4544640"/>
            <a:ext cx="473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facial structure for (a) coherent and (b) semicoherent interfaces between matrix phase   </a:t>
            </a: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particle phase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maller dislocation symbols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larger ones in (b)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nti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10" descr="$ \alpha $"/>
          <p:cNvPicPr/>
          <p:nvPr/>
        </p:nvPicPr>
        <p:blipFill>
          <a:blip r:embed="rId6"/>
          <a:stretch/>
        </p:blipFill>
        <p:spPr>
          <a:xfrm>
            <a:off x="11241000" y="-365040"/>
            <a:ext cx="162000" cy="152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$ \beta $"/>
          <p:cNvPicPr/>
          <p:nvPr/>
        </p:nvPicPr>
        <p:blipFill>
          <a:blip r:embed="rId7"/>
          <a:stretch/>
        </p:blipFill>
        <p:spPr>
          <a:xfrm>
            <a:off x="13695480" y="-365040"/>
            <a:ext cx="1616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Reálné podmín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1" name="Picture 7" descr="http://www.wias-berlin.de/research/ats/Praezipitate/Bilder/image005.gif"/>
          <p:cNvPicPr/>
          <p:nvPr/>
        </p:nvPicPr>
        <p:blipFill>
          <a:blip r:embed="rId1"/>
          <a:stretch/>
        </p:blipFill>
        <p:spPr>
          <a:xfrm>
            <a:off x="108000" y="2133720"/>
            <a:ext cx="9026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Fázové diagram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3" name="Picture 2" descr="http://chemwiki.ucdavis.edu/@api/deki/files/41492/=H2O-NACL.png?revision=1"/>
          <p:cNvPicPr/>
          <p:nvPr/>
        </p:nvPicPr>
        <p:blipFill>
          <a:blip r:embed="rId1"/>
          <a:stretch/>
        </p:blipFill>
        <p:spPr>
          <a:xfrm>
            <a:off x="138240" y="1197000"/>
            <a:ext cx="4044960" cy="391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sp.lyellcollection.org/content/333/1/35/F1.large.jpg"/>
          <p:cNvPicPr/>
          <p:nvPr/>
        </p:nvPicPr>
        <p:blipFill>
          <a:blip r:embed="rId2"/>
          <a:stretch/>
        </p:blipFill>
        <p:spPr>
          <a:xfrm>
            <a:off x="4187880" y="3068640"/>
            <a:ext cx="48322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působy překonání nukleační bariér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6475320" cy="3960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\begin{figure}\resizebox{6in}{!}&#10;{\epsfig{file=figures/Nucleation/hetero_nuc_regimes.eps}}&#10;\end{figure}"/>
          <p:cNvPicPr/>
          <p:nvPr/>
        </p:nvPicPr>
        <p:blipFill>
          <a:blip r:embed="rId2"/>
          <a:stretch/>
        </p:blipFill>
        <p:spPr>
          <a:xfrm>
            <a:off x="5307120" y="4724280"/>
            <a:ext cx="38242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etody usnadňující dosažení rovnovážného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553600" cy="1782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http://www.photon-hammer.com/images/gallery/section_04/06.jpg"/>
          <p:cNvPicPr/>
          <p:nvPr/>
        </p:nvPicPr>
        <p:blipFill>
          <a:blip r:embed="rId2"/>
          <a:stretch/>
        </p:blipFill>
        <p:spPr>
          <a:xfrm>
            <a:off x="971640" y="3573360"/>
            <a:ext cx="2781360" cy="277992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324000" y="65120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photon-hammer.com/gallery.ph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7" descr="http://www.specialchem4polymers.com/documents/indexables/contents/441/images/nucleation3.gif"/>
          <p:cNvPicPr/>
          <p:nvPr/>
        </p:nvPicPr>
        <p:blipFill>
          <a:blip r:embed="rId3"/>
          <a:stretch/>
        </p:blipFill>
        <p:spPr>
          <a:xfrm>
            <a:off x="4284720" y="3573360"/>
            <a:ext cx="4579920" cy="2779920"/>
          </a:xfrm>
          <a:prstGeom prst="rect">
            <a:avLst/>
          </a:prstGeom>
          <a:ln w="0">
            <a:noFill/>
          </a:ln>
        </p:spPr>
      </p:pic>
      <p:sp>
        <p:nvSpPr>
          <p:cNvPr id="240" name="Obdélník 3"/>
          <p:cNvSpPr/>
          <p:nvPr/>
        </p:nvSpPr>
        <p:spPr>
          <a:xfrm>
            <a:off x="4672080" y="6450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www.specialchem4polymers.com/tc/polyolefin-nucleators/?id=princi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ovéPole 1"/>
          <p:cNvSpPr/>
          <p:nvPr/>
        </p:nvSpPr>
        <p:spPr>
          <a:xfrm>
            <a:off x="5796000" y="26859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čková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Faktory ovlivňující růst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101080" cy="2175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www.crystals.leeds.ac.uk/uploads/pics/Nucleation7_520.jpg"/>
          <p:cNvPicPr/>
          <p:nvPr/>
        </p:nvPicPr>
        <p:blipFill>
          <a:blip r:embed="rId2"/>
          <a:stretch/>
        </p:blipFill>
        <p:spPr>
          <a:xfrm>
            <a:off x="179280" y="3716280"/>
            <a:ext cx="4953240" cy="1828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ttp://archive.sciencewatch.com/sciencewatch/dr/fmf/images-fmf/2009/09novfmfKlueF2XL.gif"/>
          <p:cNvPicPr/>
          <p:nvPr/>
        </p:nvPicPr>
        <p:blipFill>
          <a:blip r:embed="rId3"/>
          <a:stretch/>
        </p:blipFill>
        <p:spPr>
          <a:xfrm>
            <a:off x="5724360" y="3716280"/>
            <a:ext cx="30481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7" name="Picture 7" descr="https://encrypted-tbn2.gstatic.com/images?q=tbn:ANd9GcRYFymVFHFrL-aOMyFaSkfH0BbvQYK43J5dAFnR8UoRfKYjJSKJ"/>
          <p:cNvPicPr/>
          <p:nvPr/>
        </p:nvPicPr>
        <p:blipFill>
          <a:blip r:embed="rId1"/>
          <a:stretch/>
        </p:blipFill>
        <p:spPr>
          <a:xfrm>
            <a:off x="468360" y="1892160"/>
            <a:ext cx="3313080" cy="4227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http://www.tms.org/pubs/journals/JOM/0007/fig1.gif"/>
          <p:cNvPicPr/>
          <p:nvPr/>
        </p:nvPicPr>
        <p:blipFill>
          <a:blip r:embed="rId2"/>
          <a:stretch/>
        </p:blipFill>
        <p:spPr>
          <a:xfrm>
            <a:off x="4067280" y="2133720"/>
            <a:ext cx="4952880" cy="3887640"/>
          </a:xfrm>
          <a:prstGeom prst="rect">
            <a:avLst/>
          </a:prstGeom>
          <a:ln w="0">
            <a:noFill/>
          </a:ln>
        </p:spPr>
      </p:pic>
      <p:sp>
        <p:nvSpPr>
          <p:cNvPr id="249" name="TextovéPole 1"/>
          <p:cNvSpPr/>
          <p:nvPr/>
        </p:nvSpPr>
        <p:spPr>
          <a:xfrm>
            <a:off x="4797000" y="1700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vová sk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ovéPole 2"/>
          <p:cNvSpPr/>
          <p:nvPr/>
        </p:nvSpPr>
        <p:spPr>
          <a:xfrm>
            <a:off x="611280" y="148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gnetická levit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Metody vytvoření přesycení roztoku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Zástupný symbol pro zápatí 2"/>
          <p:cNvSpPr/>
          <p:nvPr/>
        </p:nvSpPr>
        <p:spPr>
          <a:xfrm>
            <a:off x="315108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Nanočástice PS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FAF540C-356D-4E69-8B2B-065D17995CC1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http://www.scielo.br/img/fbpe/bjce/v18n4/a07fig02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1680" y="1768320"/>
            <a:ext cx="6176880" cy="4896000"/>
          </a:xfrm>
          <a:prstGeom prst="rect">
            <a:avLst/>
          </a:prstGeom>
          <a:ln w="0">
            <a:noFill/>
          </a:ln>
        </p:spPr>
      </p:pic>
      <p:sp>
        <p:nvSpPr>
          <p:cNvPr id="89" name="TextovéPole 4"/>
          <p:cNvSpPr/>
          <p:nvPr/>
        </p:nvSpPr>
        <p:spPr>
          <a:xfrm>
            <a:off x="6718320" y="2708280"/>
            <a:ext cx="21351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=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http://www.scielo.br/img/fbpe/bjce/v18n4/a07frm03.gif"/>
          <p:cNvPicPr/>
          <p:nvPr/>
        </p:nvPicPr>
        <p:blipFill>
          <a:blip r:embed="rId3"/>
          <a:stretch/>
        </p:blipFill>
        <p:spPr>
          <a:xfrm>
            <a:off x="3506760" y="1338120"/>
            <a:ext cx="5045040" cy="39240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5"/>
          <p:cNvSpPr/>
          <p:nvPr/>
        </p:nvSpPr>
        <p:spPr>
          <a:xfrm>
            <a:off x="6900840" y="1165320"/>
            <a:ext cx="21639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*….fázová hranice (rozpustnos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ovéPole 8"/>
          <p:cNvSpPr/>
          <p:nvPr/>
        </p:nvSpPr>
        <p:spPr>
          <a:xfrm>
            <a:off x="6718320" y="4292640"/>
            <a:ext cx="23032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lativní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=S-1 =c/c*-1 =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Obdélník 1"/>
          <p:cNvSpPr/>
          <p:nvPr/>
        </p:nvSpPr>
        <p:spPr>
          <a:xfrm>
            <a:off x="6653160" y="59659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el. přesycení lze určovat  i v 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Obdélník 4"/>
          <p:cNvSpPr/>
          <p:nvPr/>
        </p:nvSpPr>
        <p:spPr>
          <a:xfrm>
            <a:off x="179280" y="903240"/>
            <a:ext cx="64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ovéPole 5"/>
          <p:cNvSpPr/>
          <p:nvPr/>
        </p:nvSpPr>
        <p:spPr>
          <a:xfrm>
            <a:off x="1620720" y="357984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Odvod tepl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ovéPole 12"/>
          <p:cNvSpPr/>
          <p:nvPr/>
        </p:nvSpPr>
        <p:spPr>
          <a:xfrm>
            <a:off x="4683240" y="43545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vysolování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Hnací síly transformac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3502D85-B5CC-4CF4-80D9-B3270BD14B70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Zástupný symbol pro zápatí 2"/>
          <p:cNvSpPr/>
          <p:nvPr/>
        </p:nvSpPr>
        <p:spPr>
          <a:xfrm>
            <a:off x="6300720" y="5008680"/>
            <a:ext cx="1339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  <a:ea typeface="MS Gothic"/>
              </a:rPr>
              <a:t>http://www.sciencedirect.com/science/article/pii/S092583880800293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ovéPole 8"/>
          <p:cNvSpPr/>
          <p:nvPr/>
        </p:nvSpPr>
        <p:spPr>
          <a:xfrm>
            <a:off x="484200" y="1541520"/>
            <a:ext cx="273528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řesyc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http://ars.els-cdn.com/content/image/1-s2.0-S0001868605001053-gr2.jpg"/>
          <p:cNvPicPr/>
          <p:nvPr/>
        </p:nvPicPr>
        <p:blipFill>
          <a:blip r:embed="rId1"/>
          <a:stretch/>
        </p:blipFill>
        <p:spPr>
          <a:xfrm>
            <a:off x="539640" y="3666960"/>
            <a:ext cx="3508560" cy="2710080"/>
          </a:xfrm>
          <a:prstGeom prst="rect">
            <a:avLst/>
          </a:prstGeom>
          <a:ln w="0">
            <a:noFill/>
          </a:ln>
        </p:spPr>
      </p:pic>
      <p:sp>
        <p:nvSpPr>
          <p:cNvPr id="102" name="TextovéPole 10"/>
          <p:cNvSpPr/>
          <p:nvPr/>
        </p:nvSpPr>
        <p:spPr>
          <a:xfrm>
            <a:off x="4703760" y="1441440"/>
            <a:ext cx="273672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akční energie (chemická reak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ovéPole 12"/>
          <p:cNvSpPr/>
          <p:nvPr/>
        </p:nvSpPr>
        <p:spPr>
          <a:xfrm>
            <a:off x="662040" y="2386080"/>
            <a:ext cx="27367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denzace na chladném substrá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http://ars.els-cdn.com/content/image/1-s2.0-S0925838808002934-gr7.jpg"/>
          <p:cNvPicPr/>
          <p:nvPr/>
        </p:nvPicPr>
        <p:blipFill>
          <a:blip r:embed="rId2"/>
          <a:stretch/>
        </p:blipFill>
        <p:spPr>
          <a:xfrm>
            <a:off x="4616280" y="3490920"/>
            <a:ext cx="3724560" cy="3035160"/>
          </a:xfrm>
          <a:prstGeom prst="rect">
            <a:avLst/>
          </a:prstGeom>
          <a:ln w="0">
            <a:noFill/>
          </a:ln>
        </p:spPr>
      </p:pic>
      <p:sp>
        <p:nvSpPr>
          <p:cNvPr id="105" name="TextovéPole 4"/>
          <p:cNvSpPr/>
          <p:nvPr/>
        </p:nvSpPr>
        <p:spPr>
          <a:xfrm>
            <a:off x="5197320" y="2386080"/>
            <a:ext cx="24498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Změna reakční Gibbsovy energ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ovéPole 1"/>
          <p:cNvSpPr/>
          <p:nvPr/>
        </p:nvSpPr>
        <p:spPr>
          <a:xfrm>
            <a:off x="6265440" y="390384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6499080" y="5692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je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Termodynamika vzniku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6360" y="1484280"/>
            <a:ext cx="8898120" cy="4176720"/>
          </a:xfrm>
          <a:prstGeom prst="rect">
            <a:avLst/>
          </a:prstGeom>
          <a:ln w="0">
            <a:noFill/>
          </a:ln>
        </p:spPr>
      </p:pic>
      <p:sp>
        <p:nvSpPr>
          <p:cNvPr id="110" name="TextovéPole 1"/>
          <p:cNvSpPr/>
          <p:nvPr/>
        </p:nvSpPr>
        <p:spPr>
          <a:xfrm>
            <a:off x="5867280" y="1700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nížení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1" name="Přímá spojnice se šipkou 3"/>
          <p:cNvCxnSpPr/>
          <p:nvPr/>
        </p:nvCxnSpPr>
        <p:spPr>
          <a:xfrm flipH="1">
            <a:off x="5650920" y="2161800"/>
            <a:ext cx="21636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247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Povrchová energie kulovitého precipitát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9280" y="1009800"/>
            <a:ext cx="6981840" cy="561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homepage.univie.ac.at/wolfgang.lechner/images/cnt.png"/>
          <p:cNvPicPr/>
          <p:nvPr/>
        </p:nvPicPr>
        <p:blipFill>
          <a:blip r:embed="rId2"/>
          <a:stretch/>
        </p:blipFill>
        <p:spPr>
          <a:xfrm>
            <a:off x="6948360" y="3332160"/>
            <a:ext cx="2016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9240" y="11592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Nukleační zóna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Obdélník 3"/>
          <p:cNvSpPr/>
          <p:nvPr/>
        </p:nvSpPr>
        <p:spPr>
          <a:xfrm>
            <a:off x="2679840" y="6423120"/>
            <a:ext cx="287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6" descr="http://www.xray.bioc.cam.ac.uk/xray_resources/whitepapers/xtal-in-action/img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103400"/>
            <a:ext cx="5195880" cy="2612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blog.autochem.mt.com/wp-content/uploads/2011/03/des3-300x26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219560"/>
            <a:ext cx="2759040" cy="2390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scielo.br/img/fbpe/bjce/v18n4/a07fig01.gif"/>
          <p:cNvPicPr/>
          <p:nvPr/>
        </p:nvPicPr>
        <p:blipFill>
          <a:blip r:embed="rId5"/>
          <a:stretch/>
        </p:blipFill>
        <p:spPr>
          <a:xfrm>
            <a:off x="179280" y="1103400"/>
            <a:ext cx="3168720" cy="2760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http://blog.autochem.mt.com/wp-content/uploads/2011/03/des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6440" y="3370320"/>
            <a:ext cx="1238400" cy="1025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1" name="TextovéPole 4"/>
          <p:cNvSpPr/>
          <p:nvPr/>
        </p:nvSpPr>
        <p:spPr>
          <a:xfrm>
            <a:off x="3635280" y="4359240"/>
            <a:ext cx="194472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growth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nucleation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ΔC = supersatu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Přímá spojnice se šipkou 6"/>
          <p:cNvCxnSpPr/>
          <p:nvPr/>
        </p:nvCxnSpPr>
        <p:spPr>
          <a:xfrm flipH="1">
            <a:off x="1331640" y="2482560"/>
            <a:ext cx="1512000" cy="1080"/>
          </a:xfrm>
          <a:prstGeom prst="straightConnector1">
            <a:avLst/>
          </a:prstGeom>
          <a:ln w="9360">
            <a:solidFill>
              <a:srgbClr val="262699"/>
            </a:solidFill>
            <a:miter/>
            <a:tailEnd len="med" type="arrow" w="med"/>
          </a:ln>
        </p:spPr>
      </p:cxnSp>
      <p:cxnSp>
        <p:nvCxnSpPr>
          <p:cNvPr id="123" name="Přímá spojnice se šipkou 8"/>
          <p:cNvCxnSpPr/>
          <p:nvPr/>
        </p:nvCxnSpPr>
        <p:spPr>
          <a:xfrm>
            <a:off x="1331640" y="2482560"/>
            <a:ext cx="1080" cy="29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TextovéPole 9"/>
          <p:cNvSpPr/>
          <p:nvPr/>
        </p:nvSpPr>
        <p:spPr>
          <a:xfrm>
            <a:off x="5219640" y="3422520"/>
            <a:ext cx="1513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ovéPole 15"/>
          <p:cNvSpPr/>
          <p:nvPr/>
        </p:nvSpPr>
        <p:spPr>
          <a:xfrm rot="16200000">
            <a:off x="3809520" y="2082960"/>
            <a:ext cx="15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ovéPole 10"/>
          <p:cNvSpPr/>
          <p:nvPr/>
        </p:nvSpPr>
        <p:spPr>
          <a:xfrm>
            <a:off x="7740720" y="1112760"/>
            <a:ext cx="1379520" cy="131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zice hranic se mění s teplot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15" descr="http://pubs.rsc.org/services/images/RSCpubs.ePlatform.Service.FreeContent.ImageService.svc/ImageService/Articleimage/2012/CP/c2cp40703e/c2cp40703e-f1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40" y="4219560"/>
            <a:ext cx="3238560" cy="1828800"/>
          </a:xfrm>
          <a:prstGeom prst="rect">
            <a:avLst/>
          </a:prstGeom>
          <a:ln w="0">
            <a:noFill/>
          </a:ln>
        </p:spPr>
      </p:pic>
      <p:sp>
        <p:nvSpPr>
          <p:cNvPr id="128" name="TextovéPole 1"/>
          <p:cNvSpPr/>
          <p:nvPr/>
        </p:nvSpPr>
        <p:spPr>
          <a:xfrm>
            <a:off x="6715080" y="125100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Times New Roman"/>
              </a:rPr>
              <a:t>Amorfní (skl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bdélník 2"/>
          <p:cNvSpPr/>
          <p:nvPr/>
        </p:nvSpPr>
        <p:spPr>
          <a:xfrm>
            <a:off x="179280" y="6192720"/>
            <a:ext cx="227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pubs.rsc.org/en/content/articlehtml/2012/cp/c2cp40703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ovéPole 3"/>
          <p:cNvSpPr/>
          <p:nvPr/>
        </p:nvSpPr>
        <p:spPr>
          <a:xfrm>
            <a:off x="5697360" y="2205000"/>
            <a:ext cx="102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ěstování krystalů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ovéPole 1"/>
          <p:cNvSpPr/>
          <p:nvPr/>
        </p:nvSpPr>
        <p:spPr>
          <a:xfrm>
            <a:off x="293760" y="3943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trémní nukl. batié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ovéPole 4"/>
          <p:cNvSpPr/>
          <p:nvPr/>
        </p:nvSpPr>
        <p:spPr>
          <a:xfrm>
            <a:off x="6427800" y="6440400"/>
            <a:ext cx="25923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S=c/c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ovéPole 2"/>
          <p:cNvSpPr/>
          <p:nvPr/>
        </p:nvSpPr>
        <p:spPr>
          <a:xfrm>
            <a:off x="5867280" y="645336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ovéPole 3"/>
          <p:cNvSpPr/>
          <p:nvPr/>
        </p:nvSpPr>
        <p:spPr>
          <a:xfrm>
            <a:off x="671760" y="111276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ožené zárodky rostou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5" name="Přímá spojnice se šipkou 5"/>
          <p:cNvCxnSpPr/>
          <p:nvPr/>
        </p:nvCxnSpPr>
        <p:spPr>
          <a:xfrm>
            <a:off x="2087280" y="1512360"/>
            <a:ext cx="253080" cy="69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6" name="TextovéPole 23"/>
          <p:cNvSpPr/>
          <p:nvPr/>
        </p:nvSpPr>
        <p:spPr>
          <a:xfrm>
            <a:off x="649800" y="168912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klea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ovéPole 24"/>
          <p:cNvSpPr/>
          <p:nvPr/>
        </p:nvSpPr>
        <p:spPr>
          <a:xfrm>
            <a:off x="1858320" y="27306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tok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Kinetika vzniku tuhé fáze (krystalů) </a:t>
            </a:r>
            <a:br>
              <a:rPr sz="3200"/>
            </a:b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 přesyceného roztok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9" name="Picture 4" descr="Nucleation&amp;Growth-cropped.jpg"/>
          <p:cNvPicPr/>
          <p:nvPr/>
        </p:nvPicPr>
        <p:blipFill>
          <a:blip r:embed="rId1"/>
          <a:stretch/>
        </p:blipFill>
        <p:spPr>
          <a:xfrm>
            <a:off x="250920" y="1341360"/>
            <a:ext cx="5905440" cy="5403960"/>
          </a:xfrm>
          <a:prstGeom prst="rect">
            <a:avLst/>
          </a:prstGeom>
          <a:ln w="0">
            <a:noFill/>
          </a:ln>
        </p:spPr>
      </p:pic>
      <p:sp>
        <p:nvSpPr>
          <p:cNvPr id="140" name="TextovéPole 3"/>
          <p:cNvSpPr/>
          <p:nvPr/>
        </p:nvSpPr>
        <p:spPr>
          <a:xfrm>
            <a:off x="6588000" y="1163520"/>
            <a:ext cx="2448000" cy="466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íprava nasyceného roztoku při vyšší teplotě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ychlé ochlazení (viz injektac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átek a konec homogenní nukle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ůst až do dosažení hranice rozpust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rubnutí a sintr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ovéPole 2"/>
          <p:cNvSpPr/>
          <p:nvPr/>
        </p:nvSpPr>
        <p:spPr>
          <a:xfrm>
            <a:off x="4859280" y="1344600"/>
            <a:ext cx="12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povrchové ener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2" name="Přímá spojnice se šipkou 6"/>
          <p:cNvCxnSpPr/>
          <p:nvPr/>
        </p:nvCxnSpPr>
        <p:spPr>
          <a:xfrm flipH="1">
            <a:off x="3347640" y="2266920"/>
            <a:ext cx="1512000" cy="176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TextovéPole 9"/>
          <p:cNvSpPr/>
          <p:nvPr/>
        </p:nvSpPr>
        <p:spPr>
          <a:xfrm>
            <a:off x="2568600" y="1805040"/>
            <a:ext cx="12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4" name="Přímá spojnice se šipkou 8"/>
          <p:cNvCxnSpPr/>
          <p:nvPr/>
        </p:nvCxnSpPr>
        <p:spPr>
          <a:xfrm flipH="1">
            <a:off x="2050560" y="2452320"/>
            <a:ext cx="721440" cy="11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240" y="188640"/>
            <a:ext cx="7770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ychlost transform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difúze a nukleac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6" name="Picture 2" descr="https://encrypted-tbn1.gstatic.com/images?q=tbn:ANd9GcS68usU70rDStgLmZS3ICGsnaYqtcPWYJRvCEny-YGjc4S7ZtOH-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60" y="2060640"/>
            <a:ext cx="8207280" cy="2881080"/>
          </a:xfrm>
          <a:prstGeom prst="rect">
            <a:avLst/>
          </a:prstGeom>
          <a:ln w="0">
            <a:noFill/>
          </a:ln>
        </p:spPr>
      </p:pic>
      <p:sp>
        <p:nvSpPr>
          <p:cNvPr id="147" name="TextovéPole 1"/>
          <p:cNvSpPr/>
          <p:nvPr/>
        </p:nvSpPr>
        <p:spPr>
          <a:xfrm>
            <a:off x="2160720" y="350028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ermodynamická hnací sí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ovéPole 6"/>
          <p:cNvSpPr/>
          <p:nvPr/>
        </p:nvSpPr>
        <p:spPr>
          <a:xfrm>
            <a:off x="552600" y="2416320"/>
            <a:ext cx="110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ukleační barié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9" name="Přímá spojnice se šipkou 3"/>
          <p:cNvCxnSpPr/>
          <p:nvPr/>
        </p:nvCxnSpPr>
        <p:spPr>
          <a:xfrm>
            <a:off x="1305000" y="2720880"/>
            <a:ext cx="180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Přímá spojnice se šipkou 8"/>
          <p:cNvCxnSpPr/>
          <p:nvPr/>
        </p:nvCxnSpPr>
        <p:spPr>
          <a:xfrm flipH="1">
            <a:off x="2050200" y="349992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ovéPole 1"/>
          <p:cNvSpPr/>
          <p:nvPr/>
        </p:nvSpPr>
        <p:spPr>
          <a:xfrm>
            <a:off x="7812000" y="1403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ovéPole 10"/>
          <p:cNvSpPr/>
          <p:nvPr/>
        </p:nvSpPr>
        <p:spPr>
          <a:xfrm>
            <a:off x="7350120" y="5229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nukle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3" name="Přímá spojnice se šipkou 3"/>
          <p:cNvCxnSpPr>
            <a:stCxn id="151" idx="1"/>
          </p:cNvCxnSpPr>
          <p:nvPr/>
        </p:nvCxnSpPr>
        <p:spPr>
          <a:xfrm flipH="1">
            <a:off x="7092360" y="1725480"/>
            <a:ext cx="71964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Přímá spojnice se šipkou 5"/>
          <p:cNvCxnSpPr>
            <a:stCxn id="152" idx="1"/>
          </p:cNvCxnSpPr>
          <p:nvPr/>
        </p:nvCxnSpPr>
        <p:spPr>
          <a:xfrm flipV="1">
            <a:off x="7349760" y="3793680"/>
            <a:ext cx="391320" cy="175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5-11T13:49:39Z</dcterms:modified>
  <cp:revision>143</cp:revision>
  <dc:subject/>
  <dc:title>C6730 Fázové rovnováhy</dc:title>
</cp:coreProperties>
</file>