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5674-059B-4190-9B1A-00C05B30E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F8C6-6502-4385-A5C9-DDE35B84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17F3-6D9A-4339-B71A-4B81EFAF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128D-E18D-401E-9952-23C6F9A06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7C23-273A-467F-A357-5FC09010F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2006-901C-48D6-BBA5-D178F106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0788-830F-468F-9E4F-D2BA4329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578A-EC70-4F6E-AD3B-40711188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1DD6-5BD1-42C3-9DF1-38D282D1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F2A1-666B-42DD-A54F-9D185A00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049F-581A-4786-9B1E-D1046619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A883-A52A-480B-A9F3-69171238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12B2-43F7-4B52-B84D-5E7ACE11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4C1B-358F-494B-AC66-617291CB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20C1-3976-4DE6-8686-F1B05165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0609-BE31-4DF3-AFAD-CC5CB99CA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178C-30FA-4E6F-A63B-0D08E43C8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25F6-013F-493F-B6EB-AFEC3988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F904-6432-458B-B201-CB993CE4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3AAF-A411-44D0-B4C5-2ABD691D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9F2A-2C73-4D18-B0B3-8F772AC6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202F-590D-4E20-82A2-DB3E4274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591A-44B3-4A95-AE5C-383062C8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2FBC-EACD-4A3C-BA9B-4180AFF8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7122-F9AE-4A83-9305-2E76E4B9843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4D2D-B8AE-4011-BD05-81CD8F50AC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jergym.hiedu.cz/~canovm/mechanic/pravidl2/haber/haber.html" TargetMode="External"/><Relationship Id="rId2" Type="http://schemas.openxmlformats.org/officeDocument/2006/relationships/hyperlink" Target="http://www.jergym.hiedu.cz/~canovm/mechanic/pravidl2/haber/haber.html" TargetMode="External"/><Relationship Id="rId3" Type="http://schemas.openxmlformats.org/officeDocument/2006/relationships/hyperlink" Target="http://www.jergym.hiedu.cz/~canovm/mechanic/pravidl2/haber/haber.html" TargetMode="External"/><Relationship Id="rId4" Type="http://schemas.openxmlformats.org/officeDocument/2006/relationships/hyperlink" Target="http://www.jergym.hiedu.cz/~canovm/mechanic/pravidl2/haber/haber.html" TargetMode="External"/><Relationship Id="rId5" Type="http://schemas.openxmlformats.org/officeDocument/2006/relationships/hyperlink" Target="http://www.jergym.hiedu.cz/~canovm/mechanic/pravidl2/haber/haber.html" TargetMode="External"/><Relationship Id="rId6" Type="http://schemas.openxmlformats.org/officeDocument/2006/relationships/hyperlink" Target="http://www.jergym.hiedu.cz/~canovm/mechanic/pravidl2/haber/haber.html" TargetMode="External"/><Relationship Id="rId7" Type="http://schemas.openxmlformats.org/officeDocument/2006/relationships/hyperlink" Target="http://www.jergym.hiedu.cz/~canovm/mechanic/pravidl2/haber/haber.html" TargetMode="External"/><Relationship Id="rId8" Type="http://schemas.openxmlformats.org/officeDocument/2006/relationships/hyperlink" Target="http://www.jergym.hiedu.cz/~canovm/mechanic/pravidl2/haber/haber.html" TargetMode="External"/><Relationship Id="rId9" Type="http://schemas.openxmlformats.org/officeDocument/2006/relationships/hyperlink" Target="http://www.jergym.hiedu.cz/~canovm/mechanic/pravidl2/haber/haber.html" TargetMode="External"/><Relationship Id="rId10" Type="http://schemas.openxmlformats.org/officeDocument/2006/relationships/hyperlink" Target="http://www.jergym.hiedu.cz/~canovm/mechanic/pravidl2/haber/haber.html" TargetMode="External"/><Relationship Id="rId11" Type="http://schemas.openxmlformats.org/officeDocument/2006/relationships/hyperlink" Target="http://www.jergym.hiedu.cz/~canovm/mechanic/pravidl2/haber/haber.html" TargetMode="External"/><Relationship Id="rId12" Type="http://schemas.openxmlformats.org/officeDocument/2006/relationships/hyperlink" Target="http://www.jergym.hiedu.cz/~canovm/mechanic/pravidl2/haber/haber.html" TargetMode="External"/><Relationship Id="rId13" Type="http://schemas.openxmlformats.org/officeDocument/2006/relationships/hyperlink" Target="http://www.jergym.hiedu.cz/~canovm/mechanic/pravidl2/haber/haber.html" TargetMode="External"/><Relationship Id="rId14" Type="http://schemas.openxmlformats.org/officeDocument/2006/relationships/hyperlink" Target="http://www.jergym.hiedu.cz/~canovm/mechanic/pravidl2/haber/haber.html" TargetMode="External"/><Relationship Id="rId15" Type="http://schemas.openxmlformats.org/officeDocument/2006/relationships/hyperlink" Target="http://www.jergym.hiedu.cz/~canovm/mechanic/pravidl2/haber/haber.html" TargetMode="External"/><Relationship Id="rId16" Type="http://schemas.openxmlformats.org/officeDocument/2006/relationships/hyperlink" Target="http://www.jergym.hiedu.cz/~canovm/mechanic/pravidl2/haber/haber.html" TargetMode="External"/><Relationship Id="rId17" Type="http://schemas.openxmlformats.org/officeDocument/2006/relationships/hyperlink" Target="http://dl.cuni.cz/cuni/mod/resource/view.php?id=9459" TargetMode="External"/><Relationship Id="rId18" Type="http://schemas.openxmlformats.org/officeDocument/2006/relationships/hyperlink" Target="http://dl.cuni.cz/cuni/mod/resource/view.php?id=9459" TargetMode="External"/><Relationship Id="rId19" Type="http://schemas.openxmlformats.org/officeDocument/2006/relationships/hyperlink" Target="http://dl.cuni.cz/cuni/mod/resource/view.php?id=9459" TargetMode="External"/><Relationship Id="rId20" Type="http://schemas.openxmlformats.org/officeDocument/2006/relationships/hyperlink" Target="http://dl.cuni.cz/cuni/mod/resource/view.php?id=9459" TargetMode="External"/><Relationship Id="rId21" Type="http://schemas.openxmlformats.org/officeDocument/2006/relationships/hyperlink" Target="http://dl.cuni.cz/cuni/mod/resource/view.php?id=9459" TargetMode="External"/><Relationship Id="rId22" Type="http://schemas.openxmlformats.org/officeDocument/2006/relationships/hyperlink" Target="http://dl.cuni.cz/cuni/mod/resource/view.php?id=9459" TargetMode="External"/><Relationship Id="rId23" Type="http://schemas.openxmlformats.org/officeDocument/2006/relationships/hyperlink" Target="http://dl.cuni.cz/cuni/mod/resource/view.php?id=9459" TargetMode="External"/><Relationship Id="rId24" Type="http://schemas.openxmlformats.org/officeDocument/2006/relationships/hyperlink" Target="http://dl.cuni.cz/cuni/mod/resource/view.php?id=9459" TargetMode="External"/><Relationship Id="rId25" Type="http://schemas.openxmlformats.org/officeDocument/2006/relationships/hyperlink" Target="http://dl.cuni.cz/cuni/mod/resource/view.php?id=9459" TargetMode="External"/><Relationship Id="rId26" Type="http://schemas.openxmlformats.org/officeDocument/2006/relationships/hyperlink" Target="http://dl.cuni.cz/cuni/mod/resource/view.php?id=9459" TargetMode="External"/><Relationship Id="rId27" Type="http://schemas.openxmlformats.org/officeDocument/2006/relationships/hyperlink" Target="http://dl.cuni.cz/cuni/mod/resource/view.php?id=9459" TargetMode="External"/><Relationship Id="rId28" Type="http://schemas.openxmlformats.org/officeDocument/2006/relationships/hyperlink" Target="http://dl.cuni.cz/cuni/mod/resource/view.php?id=9459" TargetMode="External"/><Relationship Id="rId29" Type="http://schemas.openxmlformats.org/officeDocument/2006/relationships/hyperlink" Target="http://dl.cuni.cz/cuni/mod/resource/view.php?id=9459" TargetMode="External"/><Relationship Id="rId30" Type="http://schemas.openxmlformats.org/officeDocument/2006/relationships/hyperlink" Target="http://dl.cuni.cz/cuni/mod/resource/view.php?id=9459" TargetMode="External"/><Relationship Id="rId31" Type="http://schemas.openxmlformats.org/officeDocument/2006/relationships/hyperlink" Target="http://dl.cuni.cz/cuni/mod/resource/view.php?id=9459" TargetMode="External"/><Relationship Id="rId32" Type="http://schemas.openxmlformats.org/officeDocument/2006/relationships/hyperlink" Target="http://dl.cuni.cz/cuni/mod/resource/view.php?id=9459" TargetMode="External"/><Relationship Id="rId33" Type="http://schemas.openxmlformats.org/officeDocument/2006/relationships/hyperlink" Target="http://dl.cuni.cz/cuni/mod/resource/view.php?id=9459" TargetMode="External"/><Relationship Id="rId34" Type="http://schemas.openxmlformats.org/officeDocument/2006/relationships/hyperlink" Target="http://www.jergym.hiedu.cz/~canovm/mechanic/pravidl2.html" TargetMode="External"/><Relationship Id="rId35" Type="http://schemas.openxmlformats.org/officeDocument/2006/relationships/hyperlink" Target="http://www.jergym.hiedu.cz/~canovm/mechanic/pravidl2.html" TargetMode="External"/><Relationship Id="rId36" Type="http://schemas.openxmlformats.org/officeDocument/2006/relationships/hyperlink" Target="http://www.jergym.hiedu.cz/~canovm/mechanic/pravidl2.html" TargetMode="External"/><Relationship Id="rId37" Type="http://schemas.openxmlformats.org/officeDocument/2006/relationships/hyperlink" Target="http://www.jergym.hiedu.cz/~canovm/mechanic/pravidl2.html" TargetMode="External"/><Relationship Id="rId38" Type="http://schemas.openxmlformats.org/officeDocument/2006/relationships/hyperlink" Target="http://www.jergym.hiedu.cz/~canovm/mechanic/pravidl2.html" TargetMode="External"/><Relationship Id="rId39" Type="http://schemas.openxmlformats.org/officeDocument/2006/relationships/hyperlink" Target="http://www.jergym.hiedu.cz/~canovm/mechanic/pravidl2.html" TargetMode="External"/><Relationship Id="rId40" Type="http://schemas.openxmlformats.org/officeDocument/2006/relationships/hyperlink" Target="http://www.jergym.hiedu.cz/~canovm/mechanic/pravidl2.html" TargetMode="External"/><Relationship Id="rId41" Type="http://schemas.openxmlformats.org/officeDocument/2006/relationships/hyperlink" Target="http://www.jergym.hiedu.cz/~canovm/mechanic/pravidl2.html" TargetMode="External"/><Relationship Id="rId42" Type="http://schemas.openxmlformats.org/officeDocument/2006/relationships/hyperlink" Target="http://www.jergym.hiedu.cz/~canovm/mechanic/pravidl2.html" TargetMode="External"/><Relationship Id="rId43" Type="http://schemas.openxmlformats.org/officeDocument/2006/relationships/hyperlink" Target="http://www.jergym.hiedu.cz/~canovm/mechanic/pravidl2.html" TargetMode="External"/><Relationship Id="rId44" Type="http://schemas.openxmlformats.org/officeDocument/2006/relationships/hyperlink" Target="http://www.jergym.hiedu.cz/~canovm/mechanic/pravidl2.html" TargetMode="External"/><Relationship Id="rId45" Type="http://schemas.openxmlformats.org/officeDocument/2006/relationships/hyperlink" Target="http://www.jergym.hiedu.cz/~canovm/mechanic/pravidl2.html" TargetMode="External"/><Relationship Id="rId4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ber-Boshova syntéza amoniaku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aneb počátek blahoby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2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C050-9C99-4F6E-B4B7-6FA25D021B4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kazy na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belova cena (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6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7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8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0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1"/>
              </a:rPr>
              <a:t>/pravidl2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2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4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6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ce výroby NH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: 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7"/>
              </a:rPr>
              <a:t>http:/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8"/>
              </a:rPr>
              <a:t>dl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0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2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4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5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6"/>
              </a:rPr>
              <a:t>mod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7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8"/>
              </a:rPr>
              <a:t>resource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0"/>
              </a:rPr>
              <a:t>view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2"/>
              </a:rPr>
              <a:t>php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3"/>
              </a:rPr>
              <a:t>?id=945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odkazy na významné reakce organických chem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4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5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6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7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8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9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0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1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2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3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4"/>
              </a:rPr>
              <a:t>/pravidl2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5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B15B-7963-4AFB-9AE7-4CBBA1B3DE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on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yntéza amoniaku ze syntézní směsi N2 a H2 probíhá katalytickou reakcí při vysokém tlaku a teplotě (20-100 kPa, 500) podle rovnice: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2 + 3H2 --------&gt; 2 NH3 + 46,05 kJ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obený amoniak může být používán k přímému hnojení, nebo je výchozí surovinou pro výrobu kyseliny dusičné, ledků, močoviny, N roztoků, vícesložkových hnojiv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dusíkatých hnojiv je energeticky náročná. Na výrobu 1 kg čistého N v hnojivu je zapotřebí podle druhu použité technologie 1,5 i více litrů nafty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D506-ED1C-406F-9E59-5AD3097E51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28:48Z</dcterms:modified>
  <cp:revision>22</cp:revision>
  <dc:subject/>
  <dc:title>Prezentace aplikace PowerPoint</dc:title>
</cp:coreProperties>
</file>