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5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37.wmf" ContentType="image/x-wmf"/>
  <Override PartName="/ppt/media/image30.jpeg" ContentType="image/jpeg"/>
  <Override PartName="/ppt/media/image47.wmf" ContentType="image/x-wmf"/>
  <Override PartName="/ppt/media/image27.png" ContentType="image/png"/>
  <Override PartName="/ppt/media/image48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859-C790-4E40-8A38-9635CDD6495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BA5B-C5CB-419A-8669-9DE79387F3C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D01-A7C0-4C30-BF38-DCEAD263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4F6-4F30-46AD-B882-E8F222DB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974-D350-4A4B-B0EA-CFA6CCE1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79B-A5F0-4941-B4CA-D06197AA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03FA-74F2-4F4B-AC75-B13A973A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1BCF-0B12-4506-ABC8-DFA075A5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D911-E8FF-4D41-9F41-0FE52419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6717-3C81-4B21-B3A7-FFD072C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2366-7BE2-4FC2-B2CA-5C39EEC5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3075-16D2-4AC5-803B-A70EB95F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2B2E-7060-4033-A797-7E70DC55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4A0-6D7E-4308-9724-EFFC10DB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39CD-B391-48D6-AA4D-FA671230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F65D-7129-4046-B414-16D7E50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0800-432A-4FB0-8E24-2CB4E5A2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6A8F-5B44-4F62-88CD-16DDFBC6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83CE-38A9-4753-87E3-1AD2C609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B9D-1027-40AA-BDA7-FE43B570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6B9-641B-4A6E-95AC-D8403C12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94A-8489-497B-86DF-5B9EB4FA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392-B22B-43B9-9D0B-9A99131C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EB7-3982-4964-ABA1-7E01C392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9B4-4A8B-4733-99CD-CAA859F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21B-8D02-488C-AA9C-20F72CF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E3AC-67D3-452F-9FA4-E824FE76F4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0173-BB42-42A9-9870-D7E81D2E464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71640" y="9522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http://www.spaceflight.esa.int/impress/text/education/Images/Catalysis/Image_001.png"/>
          <p:cNvPicPr/>
          <p:nvPr/>
        </p:nvPicPr>
        <p:blipFill>
          <a:blip r:embed="rId1"/>
          <a:stretch/>
        </p:blipFill>
        <p:spPr>
          <a:xfrm>
            <a:off x="1979640" y="306864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emické podstaty katalyzáto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37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250920" y="254160"/>
            <a:ext cx="87850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lasifikace v případech, kdy je katalyzátorem reaktant nebo produk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470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24000" y="3432240"/>
            <a:ext cx="835344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444600" y="4653000"/>
            <a:ext cx="81057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uto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http://upload.wikimedia.org/wikipedia/commons/thumb/5/55/Sigmoid_curve_for_an_autocatalytical_reaction.jpg/256px-Sigmoid_curve_for_an_autocatalytical_reaction.jpg"/>
          <p:cNvPicPr/>
          <p:nvPr/>
        </p:nvPicPr>
        <p:blipFill>
          <a:blip r:embed="rId1"/>
          <a:stretch/>
        </p:blipFill>
        <p:spPr>
          <a:xfrm>
            <a:off x="4803840" y="2556000"/>
            <a:ext cx="32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upload.wikimedia.org/math/b/3/7/b370df265a61aac09d6fc60660f4ce23.png"/>
          <p:cNvPicPr/>
          <p:nvPr/>
        </p:nvPicPr>
        <p:blipFill>
          <a:blip r:embed="rId2"/>
          <a:stretch/>
        </p:blipFill>
        <p:spPr>
          <a:xfrm>
            <a:off x="1403280" y="1679400"/>
            <a:ext cx="1720800" cy="23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http://upload.wikimedia.org/math/a/2/e/a2e8f292ed1676b68823e5e5bdcff432.png"/>
          <p:cNvPicPr/>
          <p:nvPr/>
        </p:nvPicPr>
        <p:blipFill>
          <a:blip r:embed="rId3"/>
          <a:stretch/>
        </p:blipFill>
        <p:spPr>
          <a:xfrm>
            <a:off x="4781520" y="1558800"/>
            <a:ext cx="213372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2"/>
          <p:cNvSpPr/>
          <p:nvPr/>
        </p:nvSpPr>
        <p:spPr>
          <a:xfrm>
            <a:off x="6213600" y="3564000"/>
            <a:ext cx="25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igmoidální průběh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9" name="Picture 8" descr="http://www.chemguide.co.uk/physical/catalysis/autocatgr2.gif"/>
          <p:cNvPicPr/>
          <p:nvPr/>
        </p:nvPicPr>
        <p:blipFill>
          <a:blip r:embed="rId4"/>
          <a:stretch/>
        </p:blipFill>
        <p:spPr>
          <a:xfrm>
            <a:off x="611280" y="2556000"/>
            <a:ext cx="31431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673560" y="319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8"/>
          <p:cNvSpPr/>
          <p:nvPr/>
        </p:nvSpPr>
        <p:spPr>
          <a:xfrm>
            <a:off x="510948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05720" cy="38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8839440" cy="1401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9360" y="115560"/>
            <a:ext cx="7772400" cy="708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podle rozlišení při výběru substrátu a cílového produktu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8852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ubstrátová specificita a selektivita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reaguje pouze určitá skupina, nebo dokonce jen jediný reaktant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2" descr="http://nd01.jxs.cz/194/383/b492d566a7_37034313_o2.jpg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2"/>
          <p:cNvSpPr/>
          <p:nvPr/>
        </p:nvSpPr>
        <p:spPr>
          <a:xfrm>
            <a:off x="702360" y="5229360"/>
            <a:ext cx="76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a přítomnosti katalyzátoru je substrátem jediný nebo skupina latek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349560" y="5805360"/>
            <a:ext cx="412344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anda je substrátově specif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Kočka je substrátově selektivní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ovéPole 3"/>
          <p:cNvSpPr/>
          <p:nvPr/>
        </p:nvSpPr>
        <p:spPr>
          <a:xfrm>
            <a:off x="5435640" y="5805360"/>
            <a:ext cx="331308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říklady produktové selektivity a specificity ?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roduktová specifita a selektiv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8600" y="2744640"/>
            <a:ext cx="8229600" cy="243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263520" y="1197000"/>
            <a:ext cx="846756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TextovéPole 1"/>
          <p:cNvSpPr/>
          <p:nvPr/>
        </p:nvSpPr>
        <p:spPr>
          <a:xfrm>
            <a:off x="7162920" y="299736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8"/>
          <p:cNvSpPr/>
          <p:nvPr/>
        </p:nvSpPr>
        <p:spPr>
          <a:xfrm>
            <a:off x="7162920" y="450864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elektiv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9"/>
          <p:cNvSpPr/>
          <p:nvPr/>
        </p:nvSpPr>
        <p:spPr>
          <a:xfrm>
            <a:off x="7792920" y="3700440"/>
            <a:ext cx="1295640" cy="73332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 na alkany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34800" y="5445000"/>
            <a:ext cx="8325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polohy – </a:t>
            </a:r>
            <a:r>
              <a:rPr b="1" lang="cs-CZ" sz="2000" spc="-1" strike="noStrike">
                <a:solidFill>
                  <a:srgbClr val="4d4d4d"/>
                </a:solidFill>
                <a:latin typeface="Arial Black"/>
              </a:rPr>
              <a:t>regioselektivita a regiospecificita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15280" cy="98100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1"/>
          <p:cNvSpPr/>
          <p:nvPr/>
        </p:nvSpPr>
        <p:spPr>
          <a:xfrm>
            <a:off x="309600" y="2565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gioselektivita: např. Nitrace toluen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0" name="Picture 9" descr="http://www.e-chembook.eu/cz/images/orgchem/Nitrace_toluenu.png"/>
          <p:cNvPicPr/>
          <p:nvPr/>
        </p:nvPicPr>
        <p:blipFill>
          <a:blip r:embed="rId2"/>
          <a:stretch/>
        </p:blipFill>
        <p:spPr>
          <a:xfrm>
            <a:off x="1116000" y="3357720"/>
            <a:ext cx="63500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4536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giospecificit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320760" y="2637000"/>
            <a:ext cx="6508800" cy="3159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13431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íklad: Elektrofilní adice dle Markovnikova pravidl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27640" y="1297080"/>
            <a:ext cx="2700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alší příklady: vysoká regioselektivita reakcí s enzymy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396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stereoizomerů – </a:t>
            </a:r>
            <a:r>
              <a:rPr b="1" lang="cs-CZ" sz="2400" spc="-1" strike="noStrike">
                <a:solidFill>
                  <a:srgbClr val="4d4d4d"/>
                </a:solidFill>
                <a:latin typeface="Arial Black"/>
              </a:rPr>
              <a:t>stereoselektivita a stereospecificit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olymerace oxiranů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65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380880" y="6045120"/>
            <a:ext cx="84582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656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33520" y="914400"/>
            <a:ext cx="77724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římá spojnice 2"/>
          <p:cNvSpPr/>
          <p:nvPr/>
        </p:nvSpPr>
        <p:spPr>
          <a:xfrm>
            <a:off x="4716360" y="5084640"/>
            <a:ext cx="338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a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31640" y="1106640"/>
            <a:ext cx="8204400" cy="1618920"/>
          </a:xfrm>
          <a:prstGeom prst="rect">
            <a:avLst/>
          </a:prstGeom>
          <a:ln w="0">
            <a:noFill/>
          </a:ln>
        </p:spPr>
      </p:pic>
      <p:sp>
        <p:nvSpPr>
          <p:cNvPr id="153" name="Přímá spojnice 3"/>
          <p:cNvSpPr/>
          <p:nvPr/>
        </p:nvSpPr>
        <p:spPr>
          <a:xfrm>
            <a:off x="523800" y="2349360"/>
            <a:ext cx="79200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46120" y="2873520"/>
            <a:ext cx="4471920" cy="31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560520" y="6165720"/>
            <a:ext cx="8489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říkl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521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380880" y="5705640"/>
            <a:ext cx="8382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alší termíny z oblasti katalýz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251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809880" y="2819520"/>
            <a:ext cx="25146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římá spojnice 2"/>
          <p:cNvSpPr/>
          <p:nvPr/>
        </p:nvSpPr>
        <p:spPr>
          <a:xfrm>
            <a:off x="3809880" y="1268280"/>
            <a:ext cx="4865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římá spojnice 4"/>
          <p:cNvSpPr/>
          <p:nvPr/>
        </p:nvSpPr>
        <p:spPr>
          <a:xfrm>
            <a:off x="539640" y="1484280"/>
            <a:ext cx="792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římá spojnice 6"/>
          <p:cNvSpPr/>
          <p:nvPr/>
        </p:nvSpPr>
        <p:spPr>
          <a:xfrm>
            <a:off x="3492360" y="3429000"/>
            <a:ext cx="5183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římá spojnice 8"/>
          <p:cNvSpPr/>
          <p:nvPr/>
        </p:nvSpPr>
        <p:spPr>
          <a:xfrm>
            <a:off x="539640" y="3645000"/>
            <a:ext cx="50403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římá spojnice 2"/>
          <p:cNvSpPr/>
          <p:nvPr/>
        </p:nvSpPr>
        <p:spPr>
          <a:xfrm>
            <a:off x="1619280" y="2492280"/>
            <a:ext cx="705636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římá spojnice 4"/>
          <p:cNvSpPr/>
          <p:nvPr/>
        </p:nvSpPr>
        <p:spPr>
          <a:xfrm>
            <a:off x="539640" y="2819520"/>
            <a:ext cx="8136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římá spojnice 6"/>
          <p:cNvSpPr/>
          <p:nvPr/>
        </p:nvSpPr>
        <p:spPr>
          <a:xfrm>
            <a:off x="6324480" y="4149720"/>
            <a:ext cx="23511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Přímá spojnice 8"/>
          <p:cNvSpPr/>
          <p:nvPr/>
        </p:nvSpPr>
        <p:spPr>
          <a:xfrm>
            <a:off x="380880" y="436572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římá spojnice 10"/>
          <p:cNvSpPr/>
          <p:nvPr/>
        </p:nvSpPr>
        <p:spPr>
          <a:xfrm>
            <a:off x="380880" y="465300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římá spojnice 12"/>
          <p:cNvSpPr/>
          <p:nvPr/>
        </p:nvSpPr>
        <p:spPr>
          <a:xfrm>
            <a:off x="380880" y="4869000"/>
            <a:ext cx="845820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římá spojnice 14"/>
          <p:cNvSpPr/>
          <p:nvPr/>
        </p:nvSpPr>
        <p:spPr>
          <a:xfrm>
            <a:off x="380880" y="5241960"/>
            <a:ext cx="2606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katalyzátor+prekurzor katalyzátor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1892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212760" y="3200400"/>
            <a:ext cx="6889680" cy="3324240"/>
          </a:xfrm>
          <a:prstGeom prst="rect">
            <a:avLst/>
          </a:prstGeom>
          <a:ln w="0">
            <a:noFill/>
          </a:ln>
        </p:spPr>
      </p:pic>
      <p:sp>
        <p:nvSpPr>
          <p:cNvPr id="253" name="TextovéPole 1"/>
          <p:cNvSpPr/>
          <p:nvPr/>
        </p:nvSpPr>
        <p:spPr>
          <a:xfrm>
            <a:off x="7299360" y="3170160"/>
            <a:ext cx="173664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nomer se „vtiskne“ do místa, které ma komplementární elektronovou hustotu. Nasledně dochází k přesunu a uvolnění aktivního místa katalyzátor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380880" y="95400"/>
            <a:ext cx="843912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Katalytický systém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-22320" y="1052640"/>
            <a:ext cx="9058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56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1219320" y="368280"/>
            <a:ext cx="6491160" cy="480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047760" cy="312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563868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2 katalytická centr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5960" y="1155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Základní pojm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45360" cy="2159280"/>
          </a:xfrm>
          <a:prstGeom prst="rect">
            <a:avLst/>
          </a:prstGeom>
          <a:ln w="0">
            <a:noFill/>
          </a:ln>
        </p:spPr>
      </p:pic>
      <p:sp>
        <p:nvSpPr>
          <p:cNvPr id="158" name="Obdélník 1"/>
          <p:cNvSpPr/>
          <p:nvPr/>
        </p:nvSpPr>
        <p:spPr>
          <a:xfrm>
            <a:off x="4427640" y="3533760"/>
            <a:ext cx="4572000" cy="34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převádí spaliny vznětového motoru obsahující uhlovodíky (CH) a oxid uhelnatý (CO) na vodu a oxid uhličitý (C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Kromě toho oxiduje oxid dusný (NO) na oxid dusičitý (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sestává z nosného tělesa z keramiky nebo kovu s axiálně průchozími kanály s šířkou hrany přibližně jeden milimetr. Stěny jsou potaženy platinou nebo Rhodiem jako katalyticky působící substance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U vozidel s filtrem částic je před filtr zařazen oxidační katalyzátor. V katalyzátoru uvolněný 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oxiduje v částečkovém filtru zbývající saze, které sestávají hlavně z uhlíku, na neškodlivou složku vzduchu dusík (N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 a na oxid uhličitý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Picture 5" descr="http://rb-kwin.bosch.com/cz/pool/de/Diesel/Nfz/Abgas/Oxi_Kat.jpg"/>
          <p:cNvPicPr/>
          <p:nvPr/>
        </p:nvPicPr>
        <p:blipFill>
          <a:blip r:embed="rId2"/>
          <a:stretch/>
        </p:blipFill>
        <p:spPr>
          <a:xfrm>
            <a:off x="158760" y="3073320"/>
            <a:ext cx="4032360" cy="264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http://img.cadillac.porcus.cz/radime/katalyzator/katalyzator-rozlozeny.jpg"/>
          <p:cNvPicPr/>
          <p:nvPr/>
        </p:nvPicPr>
        <p:blipFill>
          <a:blip r:embed="rId3"/>
          <a:stretch/>
        </p:blipFill>
        <p:spPr>
          <a:xfrm>
            <a:off x="1760400" y="4792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4000" y="785880"/>
            <a:ext cx="841356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25440" y="3284640"/>
            <a:ext cx="849168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41360" y="5705640"/>
            <a:ext cx="8380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849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://www.catalysis-ed.org.uk/principles/images/cycle.gif"/>
          <p:cNvPicPr/>
          <p:nvPr/>
        </p:nvPicPr>
        <p:blipFill>
          <a:blip r:embed="rId2"/>
          <a:stretch/>
        </p:blipFill>
        <p:spPr>
          <a:xfrm>
            <a:off x="684360" y="4229280"/>
            <a:ext cx="3166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měna Gibbsovy energi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7560" y="907920"/>
            <a:ext cx="66769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nergetika katalyzované reak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36920" y="1484280"/>
            <a:ext cx="4867200" cy="3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940200" cy="351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2556000" y="892080"/>
            <a:ext cx="790560" cy="362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4"/>
          <p:cNvSpPr/>
          <p:nvPr/>
        </p:nvSpPr>
        <p:spPr>
          <a:xfrm>
            <a:off x="179280" y="8715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Bez katalyzátoru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6"/>
          <p:cNvSpPr/>
          <p:nvPr/>
        </p:nvSpPr>
        <p:spPr>
          <a:xfrm>
            <a:off x="179280" y="15177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 katalyzátorem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ychlost určující krok při katalý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94280" cy="386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432320" cy="377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2124000" y="981000"/>
            <a:ext cx="4176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atalýza, katalyzátory - klasifik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87360" y="1082520"/>
            <a:ext cx="851364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arakteru reakční směsi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724120" y="2306520"/>
            <a:ext cx="6205680" cy="65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87360" y="3068640"/>
            <a:ext cx="8353440" cy="165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87360" y="4869000"/>
            <a:ext cx="8361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10:34Z</dcterms:modified>
  <cp:revision>161</cp:revision>
  <dc:subject/>
  <dc:title>C6730 Fázové rovnováhy</dc:title>
</cp:coreProperties>
</file>