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5.wmf" ContentType="image/x-wmf"/>
  <Override PartName="/ppt/media/image27.jpeg" ContentType="image/jpeg"/>
  <Override PartName="/ppt/media/image16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FADE-BBDC-451B-9990-1551CF977A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A7EF-7343-4D68-9621-E5F2BB488CD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DD3-8240-4A18-B323-A0C13AF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C6B-4AA7-45B4-ABB0-B8B29406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D19-D667-4B3B-B0C0-C4FDBAF2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17F-D7D9-410C-805D-265E1B16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E96A-AF65-471A-9ABE-3FB301D9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5AE1-D74E-4890-9FAF-7CDF7712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31E-C127-4C71-8B79-A241857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D54-55DE-43E6-951F-A174157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2E95-8CCE-4B4F-A568-4AF0C30D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F90-2039-4B1E-A7BA-433D109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9EAB-9396-424B-8EA4-F4ED612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9AA-81B1-4850-A53F-CFEAD55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B39-B9AC-47B4-A9D5-B33C8D6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591E-791C-4063-994A-58FD3AD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BFC-D7FA-4353-A0FF-0A0A5C72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0BDE-2242-4C49-915F-F00AAA95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7C30-4240-4382-9FD6-115F266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56E-F060-4FFA-9E6E-8772F00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8AA-65EC-411E-90A5-1127AC10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6F3-DB16-49B9-B231-C1FDE54A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919-3591-46D1-BD27-A6CCD600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300-9BD2-495D-89E2-D59483C3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3E3-7571-430E-BA27-79CC506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D1A-1717-4A78-BD0E-EBD857E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0F78-BD00-4A13-9D7B-61AE82C6F6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4F6-8AC7-4B1D-AF7F-C01428972AE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File:Non-competitive_inhibition.svg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40080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179280" y="2487600"/>
            <a:ext cx="4980240" cy="373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4643280" y="2205000"/>
            <a:ext cx="4518360" cy="338472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5"/>
          <p:cNvSpPr/>
          <p:nvPr/>
        </p:nvSpPr>
        <p:spPr>
          <a:xfrm>
            <a:off x="7634880" y="560700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un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ovéPole 6"/>
          <p:cNvSpPr/>
          <p:nvPr/>
        </p:nvSpPr>
        <p:spPr>
          <a:xfrm>
            <a:off x="4500720" y="5607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ovéPole 7"/>
          <p:cNvSpPr/>
          <p:nvPr/>
        </p:nvSpPr>
        <p:spPr>
          <a:xfrm>
            <a:off x="5982840" y="56102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non-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Obdélník 1"/>
          <p:cNvSpPr/>
          <p:nvPr/>
        </p:nvSpPr>
        <p:spPr>
          <a:xfrm>
            <a:off x="7459560" y="6016680"/>
            <a:ext cx="17636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Obdélník 6"/>
          <p:cNvSpPr/>
          <p:nvPr/>
        </p:nvSpPr>
        <p:spPr>
          <a:xfrm>
            <a:off x="5695920" y="6010200"/>
            <a:ext cx="17636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bdélník 7"/>
          <p:cNvSpPr/>
          <p:nvPr/>
        </p:nvSpPr>
        <p:spPr>
          <a:xfrm>
            <a:off x="3951360" y="6008760"/>
            <a:ext cx="176040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kompetitivní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2668680" y="304920"/>
            <a:ext cx="5867280" cy="6592680"/>
          </a:xfrm>
          <a:prstGeom prst="rect">
            <a:avLst/>
          </a:prstGeom>
          <a:ln w="0">
            <a:noFill/>
          </a:ln>
        </p:spPr>
      </p:pic>
      <p:sp>
        <p:nvSpPr>
          <p:cNvPr id="215" name="Obdélník 1"/>
          <p:cNvSpPr/>
          <p:nvPr/>
        </p:nvSpPr>
        <p:spPr>
          <a:xfrm>
            <a:off x="231120" y="1922400"/>
            <a:ext cx="18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xida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ood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bdélník 3"/>
          <p:cNvSpPr/>
          <p:nvPr/>
        </p:nvSpPr>
        <p:spPr>
          <a:xfrm>
            <a:off x="382680" y="596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ovéPole 5"/>
          <p:cNvSpPr/>
          <p:nvPr/>
        </p:nvSpPr>
        <p:spPr>
          <a:xfrm>
            <a:off x="406800" y="550224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 flipH="1">
            <a:off x="3132000" y="2565360"/>
            <a:ext cx="16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álné modely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1" name="Picture 5" descr="http://www.ub.edu/betaoxi/home/figuras/2010-6-9-FigurasBONA.jpg"/>
          <p:cNvPicPr/>
          <p:nvPr/>
        </p:nvPicPr>
        <p:blipFill>
          <a:blip r:embed="rId1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22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římá spojnice 2"/>
          <p:cNvSpPr/>
          <p:nvPr/>
        </p:nvSpPr>
        <p:spPr>
          <a:xfrm>
            <a:off x="3708360" y="4149720"/>
            <a:ext cx="201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2"/>
          <p:cNvSpPr/>
          <p:nvPr/>
        </p:nvSpPr>
        <p:spPr>
          <a:xfrm>
            <a:off x="911160" y="3897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6"/>
          <p:cNvSpPr/>
          <p:nvPr/>
        </p:nvSpPr>
        <p:spPr>
          <a:xfrm>
            <a:off x="1937520" y="16286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non-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7"/>
          <p:cNvSpPr/>
          <p:nvPr/>
        </p:nvSpPr>
        <p:spPr>
          <a:xfrm>
            <a:off x="3070080" y="345600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(uncompetitive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8"/>
          <p:cNvSpPr/>
          <p:nvPr/>
        </p:nvSpPr>
        <p:spPr>
          <a:xfrm>
            <a:off x="3163320" y="42973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33"/>
                </a:solidFill>
                <a:latin typeface="Times New Roman"/>
              </a:rPr>
              <a:t>(akompetitivní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274680" y="1305000"/>
            <a:ext cx="82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0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4360" y="1770120"/>
            <a:ext cx="4457520" cy="308124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1"/>
          <p:cNvSpPr/>
          <p:nvPr/>
        </p:nvSpPr>
        <p:spPr>
          <a:xfrm>
            <a:off x="108000" y="4894200"/>
            <a:ext cx="7056360" cy="18619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inhibitor je podobný substrátu, soutěží se substrátem o vazebné místo enzymu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áže se do aktivního centra, ale není přeměňová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vyšuje K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inhibuje enzym reverzibilně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4"/>
          <a:stretch/>
        </p:blipFill>
        <p:spPr>
          <a:xfrm>
            <a:off x="7308720" y="4878360"/>
            <a:ext cx="1579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-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44360" y="126828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461520" y="580536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1"/>
          <p:cNvSpPr/>
          <p:nvPr/>
        </p:nvSpPr>
        <p:spPr>
          <a:xfrm>
            <a:off x="6048360" y="1268280"/>
            <a:ext cx="3005280" cy="43628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nhibitor se váže na jiné místo enzymu než substrá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nemožní vazbu substrátu (změna konformace enzymu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nižuje Vmax (což odpovídá snížení koncentrace aktivního enzymu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everzibilní pouze pokud se inhibitor neváže kovalentně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4067280" y="5052960"/>
            <a:ext cx="15843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7" descr="https://upload.wikimedia.org/wikipedia/commons/thumb/5/55/Non-competitive_inhibition.svg/220px-Non-competitive_inhibition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1442880"/>
            <a:ext cx="4095720" cy="4578480"/>
          </a:xfrm>
          <a:prstGeom prst="rect">
            <a:avLst/>
          </a:prstGeom>
          <a:ln w="0">
            <a:noFill/>
          </a:ln>
        </p:spPr>
      </p:pic>
      <p:sp>
        <p:nvSpPr>
          <p:cNvPr id="190" name="Obdélník 1"/>
          <p:cNvSpPr/>
          <p:nvPr/>
        </p:nvSpPr>
        <p:spPr>
          <a:xfrm>
            <a:off x="5959440" y="1773360"/>
            <a:ext cx="3005280" cy="466776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nhibitor se váže na jiné místo enzymu než substrá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nemožní vazbu substrátu (změna konformace enzymu) nebo rozpad na produkt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nižuje Vmax (což odpovídá snížení koncentrace aktivního enzymu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everzibilní pouze pokud se inhibitor neváže kovalentně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bdélník 4"/>
          <p:cNvSpPr/>
          <p:nvPr/>
        </p:nvSpPr>
        <p:spPr>
          <a:xfrm>
            <a:off x="2482920" y="981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on-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250920" y="4976640"/>
            <a:ext cx="1584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Obdélník 2"/>
          <p:cNvSpPr/>
          <p:nvPr/>
        </p:nvSpPr>
        <p:spPr>
          <a:xfrm>
            <a:off x="6786720" y="1557360"/>
            <a:ext cx="2178000" cy="161856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</a:rPr>
              <a:t> 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Picture 9" descr="Výsledek obrázku pro uncompetitive inhibition"/>
          <p:cNvPicPr/>
          <p:nvPr/>
        </p:nvPicPr>
        <p:blipFill>
          <a:blip r:embed="rId1"/>
          <a:stretch/>
        </p:blipFill>
        <p:spPr>
          <a:xfrm>
            <a:off x="324000" y="1700280"/>
            <a:ext cx="6335640" cy="475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2"/>
          <a:stretch/>
        </p:blipFill>
        <p:spPr>
          <a:xfrm>
            <a:off x="6840360" y="3645000"/>
            <a:ext cx="2124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8-04-24T11:38:14Z</dcterms:modified>
  <cp:revision>159</cp:revision>
  <dc:subject/>
  <dc:title>C6730 Fázové rovnováhy</dc:title>
</cp:coreProperties>
</file>