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33.wmf" ContentType="image/x-wmf"/>
  <Override PartName="/ppt/media/image34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4.wmf" ContentType="image/x-wmf"/>
  <Override PartName="/ppt/media/image32.wmf" ContentType="image/x-wmf"/>
  <Override PartName="/ppt/media/image7.wmf" ContentType="image/x-wmf"/>
  <Override PartName="/ppt/media/image46.jpeg" ContentType="image/jpeg"/>
  <Override PartName="/ppt/media/image35.wmf" ContentType="image/x-wmf"/>
  <Override PartName="/ppt/media/image47.wmf" ContentType="image/x-wmf"/>
  <Override PartName="/ppt/media/image12.wmf" ContentType="image/x-wmf"/>
  <Override PartName="/ppt/media/image27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0.png" ContentType="image/png"/>
  <Override PartName="/ppt/media/image3.jpeg" ContentType="image/jpeg"/>
  <Override PartName="/ppt/media/image30.png" ContentType="image/png"/>
  <Override PartName="/ppt/media/image28.wmf" ContentType="image/x-wm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685E-EC02-426D-AD1E-0857E89ACF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641E-7138-43A7-BFD3-D809DAC84B5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E2D-BD31-474C-85D0-11B7E391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74D-7291-4A59-AC83-E5E2525E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3FA-157C-4830-8470-BE47346F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988-3D51-43F8-8CC6-7C3AFE71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F872-D95D-4FD2-A547-C04D9D9A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10EF-7055-4F6D-BE49-51C2615E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51FD-0966-4004-BA41-0FFAA2BE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C479-DFCC-4FD2-844B-3CD7778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2FF6-BA38-4CA6-90C6-7F4D22DB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51B5-912A-462F-B802-7423C914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571D-25A7-4F91-8E83-B9823DFA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841-F5B0-45DB-ADEF-B752FCE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8810-39FD-45B1-9D8C-9AE45663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8CAF-9193-4D5A-A9A0-8D217C0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B109-4CA1-4147-8398-3D67E594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A5ED-9D27-4B46-B77A-B7D607B7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AE02-57F2-4C86-9261-EA8F54C6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59D-C1F2-4335-823E-60139EDE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BDE-D602-4D6F-AC6C-E1314BF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397-D344-4352-BD72-2887C28C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850-1D6E-42DF-B009-A2B9031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5D2-9833-49B3-BF5C-FB6B6FF1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B85-0075-4982-9071-3D3B75A5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E07-590F-4832-A9FA-9E17F46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3C72-3BDC-4909-B9D9-0F0D99465FA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920D-F6EB-4505-8FEB-51200F274E9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4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084720" y="4478400"/>
            <a:ext cx="2372040" cy="11826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3"/>
          <p:cNvSpPr/>
          <p:nvPr/>
        </p:nvSpPr>
        <p:spPr>
          <a:xfrm>
            <a:off x="6659640" y="5516640"/>
            <a:ext cx="223200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92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3:23:15Z</dcterms:modified>
  <cp:revision>151</cp:revision>
  <dc:subject/>
  <dc:title>C6730 Fázové rovnováhy</dc:title>
</cp:coreProperties>
</file>