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23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6.jpeg" ContentType="image/jpeg"/>
  <Override PartName="/ppt/media/image5.png" ContentType="image/png"/>
  <Override PartName="/ppt/media/image2.gif" ContentType="image/gif"/>
  <Override PartName="/ppt/media/image24.wmf" ContentType="image/x-wmf"/>
  <Override PartName="/ppt/media/image4.jpeg" ContentType="image/jpeg"/>
  <Override PartName="/ppt/media/image10.wmf" ContentType="image/x-wmf"/>
  <Override PartName="/ppt/media/image25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513E-90C7-45F6-ACCC-831C12BC8FA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5203-22D7-4A65-80DF-42CA79BA518E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0056-BE20-488D-8990-94B27F8D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6F6-9236-4696-9BD2-58572D74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B83-8267-498F-A575-08E3791E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178-AAD5-44ED-8DDC-0CC7AB8C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315C-1801-4EDE-9DE2-D889FDD1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3129-FA84-486D-9E0E-9CEC7F2D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FCCC-1AF1-4689-AEF6-3883C27A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F3C3-7E10-439D-B046-3E7EBF6D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0F82-F35D-4107-979F-9785B596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6950-FD48-4C0B-8C1E-1D6181DC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C600-5401-4B75-8768-8273A913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AA4-5089-4CBC-9A8B-AD015B19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15FF-64B6-4B14-8E82-5A586CF9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9DB3-8C86-48B9-8D80-DD539D64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7A56-B112-4B3E-A2AC-24E2E671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11D1-8C7D-4BC1-B014-45C1364D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7E0A-3596-463B-9DA0-70BDD482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E72-0DF0-4D99-A72F-4D8B5B34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90E-136D-4681-A4DC-32EF2667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724-1185-45CA-B7A6-46DE8380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686-CCB2-4F11-B6C4-BE1B5F93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683-C302-4275-A1F5-0003E1B6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04B-630F-45D8-9DBD-7BC2D8B5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92C-F2B7-4F49-A1AB-1D5BBB90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6474-FF00-4010-865C-920C58893B4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8F79-3FB1-4BD7-A50E-43B49D6D8F82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bi.ac.uk/thornton-srv/databases/enzymes/" TargetMode="External"/><Relationship Id="rId2" Type="http://schemas.openxmlformats.org/officeDocument/2006/relationships/hyperlink" Target="D:\Vyuka\C6320_Kinetika\Texty k p&#345;edn&#225;&#353;ce C6320\L09_Enzymy a adsorpce\Nukleove_kyseliny.ppt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ový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apoenzym+kofaktor.jpg"/>
          <p:cNvPicPr/>
          <p:nvPr/>
        </p:nvPicPr>
        <p:blipFill>
          <a:blip r:embed="rId1"/>
          <a:stretch/>
        </p:blipFill>
        <p:spPr>
          <a:xfrm>
            <a:off x="1219320" y="3733920"/>
            <a:ext cx="63244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9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312040" cy="1273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ze k rovnici: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Lineweaver - Burk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2668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Eadie -Hofste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077320" cy="2039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1447920" y="3533760"/>
            <a:ext cx="5029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4" descr="C:\Documents and Settings\Sopoušek\Dokumenty\Obrázky\Enzymová katalýza\biodiesel.gif"/>
          <p:cNvPicPr/>
          <p:nvPr/>
        </p:nvPicPr>
        <p:blipFill>
          <a:blip r:embed="rId1"/>
          <a:stretch/>
        </p:blipFill>
        <p:spPr>
          <a:xfrm>
            <a:off x="1447920" y="2602080"/>
            <a:ext cx="39160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Text Box 1029"/>
          <p:cNvSpPr/>
          <p:nvPr/>
        </p:nvSpPr>
        <p:spPr>
          <a:xfrm>
            <a:off x="3808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znik v buňce viz prezenta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1030"/>
          <p:cNvSpPr/>
          <p:nvPr/>
        </p:nvSpPr>
        <p:spPr>
          <a:xfrm>
            <a:off x="609480" y="3048120"/>
            <a:ext cx="289584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atabáze enzymů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ebi.ac.uk/thornton-srv/databases/enzymes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AutoShape 1031">
            <a:hlinkClick r:id="rId2"/>
          </p:cNvPr>
          <p:cNvSpPr/>
          <p:nvPr/>
        </p:nvSpPr>
        <p:spPr>
          <a:xfrm>
            <a:off x="2031840" y="2514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9394" h="21600">
                <a:moveTo>
                  <a:pt x="24170" y="3985"/>
                </a:moveTo>
                <a:lnTo>
                  <a:pt x="31168" y="3985"/>
                </a:lnTo>
                <a:lnTo>
                  <a:pt x="35224" y="7484"/>
                </a:lnTo>
                <a:lnTo>
                  <a:pt x="35224" y="17615"/>
                </a:lnTo>
                <a:lnTo>
                  <a:pt x="24170" y="17615"/>
                </a:lnTo>
                <a:close/>
              </a:path>
              <a:path fill="darken" w="59394" h="21600">
                <a:moveTo>
                  <a:pt x="31168" y="3985"/>
                </a:moveTo>
                <a:lnTo>
                  <a:pt x="35224" y="7484"/>
                </a:lnTo>
                <a:lnTo>
                  <a:pt x="3116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3" descr="C:\Documents and Settings\Sopoušek\Dokumenty\Obrázky\Enzymová katalýza\isomeraza.jpg"/>
          <p:cNvPicPr/>
          <p:nvPr/>
        </p:nvPicPr>
        <p:blipFill>
          <a:blip r:embed="rId3"/>
          <a:stretch/>
        </p:blipFill>
        <p:spPr>
          <a:xfrm>
            <a:off x="4191120" y="2362320"/>
            <a:ext cx="456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Documents and Settings\Sopoušek\Dokumenty\Obrázky\Enzymová katalýza\zámek a klíč.jpg"/>
          <p:cNvPicPr/>
          <p:nvPr/>
        </p:nvPicPr>
        <p:blipFill>
          <a:blip r:embed="rId2"/>
          <a:stretch/>
        </p:blipFill>
        <p:spPr>
          <a:xfrm>
            <a:off x="1066680" y="495288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11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28600" y="2403360"/>
            <a:ext cx="861048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Sopoušek\Dokumenty\Obrázky\Enzymová katalýza\how-enzymes-work- sucrose.jpg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657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ucros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Documents and Settings\Sopoušek\Dokumenty\Obrázky\Enzymová katalýza\pH optimum.jpg"/>
          <p:cNvPicPr/>
          <p:nvPr/>
        </p:nvPicPr>
        <p:blipFill>
          <a:blip r:embed="rId2"/>
          <a:stretch/>
        </p:blipFill>
        <p:spPr>
          <a:xfrm>
            <a:off x="533520" y="25909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Sopoušek\Dokumenty\Obrázky\Enzymová katalýza\teplotní optimum.bmp"/>
          <p:cNvPicPr/>
          <p:nvPr/>
        </p:nvPicPr>
        <p:blipFill>
          <a:blip r:embed="rId3"/>
          <a:stretch/>
        </p:blipFill>
        <p:spPr>
          <a:xfrm>
            <a:off x="4724280" y="2590920"/>
            <a:ext cx="4114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kinetika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763120" cy="4151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4267080" y="4876920"/>
            <a:ext cx="3657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077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37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1828800" y="4122720"/>
            <a:ext cx="6019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7T12:31:00Z</dcterms:modified>
  <cp:revision>148</cp:revision>
  <dc:subject/>
  <dc:title>C6730 Fázové rovnováhy</dc:title>
</cp:coreProperties>
</file>