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png" ContentType="image/png"/>
  <Override PartName="/ppt/media/image25.png" ContentType="image/png"/>
  <Override PartName="/ppt/media/image2.gif" ContentType="image/gi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33.wmf" ContentType="image/x-wmf"/>
  <Override PartName="/ppt/media/image34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4.wmf" ContentType="image/x-wmf"/>
  <Override PartName="/ppt/media/image32.wmf" ContentType="image/x-wmf"/>
  <Override PartName="/ppt/media/image7.wmf" ContentType="image/x-wmf"/>
  <Override PartName="/ppt/media/image46.jpeg" ContentType="image/jpeg"/>
  <Override PartName="/ppt/media/image35.wmf" ContentType="image/x-wmf"/>
  <Override PartName="/ppt/media/image47.wmf" ContentType="image/x-wmf"/>
  <Override PartName="/ppt/media/image12.wmf" ContentType="image/x-wmf"/>
  <Override PartName="/ppt/media/image27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3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0.png" ContentType="image/png"/>
  <Override PartName="/ppt/media/image3.jpeg" ContentType="image/jpeg"/>
  <Override PartName="/ppt/media/image30.png" ContentType="image/png"/>
  <Override PartName="/ppt/media/image28.wmf" ContentType="image/x-wmf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EB4B-E855-4156-9D5B-29CD350FA5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B4D2-D1EF-4434-85F5-43AB781EA12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2CE-3C46-44D7-8E17-EF5E5DB9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38B-B280-46D5-A8CA-28A45B4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6C9-9A08-4CDD-9AD0-C0AF865C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631-11DC-4315-81A1-CEC9FD59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2225-5B35-40EB-9A99-8C0B6565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2273-EDAB-44B7-9F09-9379B7E6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C30B-5325-403D-A373-745F5578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84CF-5ED6-4C45-A2A5-FE04F0EE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86B3-8BE7-431A-9789-66C5366F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15C4-F5B5-4A48-A79E-8CA7AA0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0EF2-1072-4C9E-A69A-3DEECD88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51B-9A48-4B87-A747-732C2904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70BB-4ABD-4886-AFDB-B8BAE3FA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3427-2752-4B55-AA73-C7E8212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10AF-087F-467F-8AB7-F8A52165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5C44-3218-485A-B5B4-95B8E2D3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D296-D60F-4759-B1B3-375AAEDC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E75-F2EE-43DC-AEBB-FF69F3E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0C2-6D20-474E-A640-1C63B20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6F8-06B4-474B-A5EE-8DB766E5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0B6-AE83-49D2-B494-8D73DCA5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808-6C83-4F56-A528-38B45A8F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472-C734-4683-AF1E-2C47E25B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7BC-9E00-4BA0-A89C-0DE743C5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911B-9E08-4FCF-8FC1-0EDE24AAF27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4E27-5914-4C95-9D39-7ED94CC33C1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4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084720" y="4478400"/>
            <a:ext cx="2372040" cy="11826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3"/>
          <p:cNvSpPr/>
          <p:nvPr/>
        </p:nvSpPr>
        <p:spPr>
          <a:xfrm>
            <a:off x="6659640" y="5516640"/>
            <a:ext cx="2232000" cy="6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92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3:23:15Z</dcterms:modified>
  <cp:revision>151</cp:revision>
  <dc:subject/>
  <dc:title>C6730 Fázové rovnováhy</dc:title>
</cp:coreProperties>
</file>