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7AE6-5D9B-4CE2-82B6-B59DF4707B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8A6C-693D-466E-B701-773BD687423A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8D6-6384-4F1C-860E-BC892DF9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1E0-FE05-47EE-889A-C5B7FC3E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055-4CE9-43AC-8FCC-5B30612D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C58-9CD2-4DD3-86E0-F0FEFD9E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61EA-7F13-4D13-8C93-18EFAD1F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5D00-B30B-4994-B8BB-886D796F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3B4C-1860-4EED-BD5D-DACAE238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EA79-E39F-4612-BD6A-93E7B4C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4415-59F0-4994-82DA-88CE8BF9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F42F-411C-41C3-800A-683DA9F2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10FC-54B9-4EDA-9EAF-8C43145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08A-8621-4A2C-9F2E-B44F4C20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224A-38B5-4ECD-B3F0-4E2E9904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6874-3E01-4B3C-86D5-26E86160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00CA-2436-4240-958D-7E47289D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FEE8-133A-4CEE-92DB-E22938FF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88D3-FCDA-4BD5-8C3F-7FC0FD46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613-2FAA-4C34-B22D-83DBACF7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3C4-C79A-4A88-8155-18AE3B0F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D4B-1C34-4061-96C8-476ACBF6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8E3-448B-4A43-8984-2EE7F73D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BB3-43FE-4B2B-8035-A42AF437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EDC-20F8-43AA-80DC-595D5A5B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E5E-1AA8-440A-9A77-88644154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09BC-EA6D-44C4-98A5-63FB12C2D48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E40A-DC59-4B5F-9F6F-03010BF92AB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2:31:00Z</dcterms:modified>
  <cp:revision>148</cp:revision>
  <dc:subject/>
  <dc:title>C6730 Fázové rovnováhy</dc:title>
</cp:coreProperties>
</file>