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.gif" ContentType="image/gi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4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1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3E53-6DC5-480C-B7ED-844698A1A9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398A-5D06-472D-B69A-1E687FBF50E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7AB-F4FE-4B58-9D72-401457DF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448-18B2-4094-8391-49E706C0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FFF-618D-409D-823A-6AD72F4D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03A-1606-4E53-99EE-497A8E39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76B4-67B3-4EDF-B420-849DB91F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5F3F-78FD-4539-A25E-4DBFEDCE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0569-2C59-4CF8-9A82-431738DF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726F-974C-49DE-9BB5-4735941A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9C06-75C8-4F55-BC21-11DF2050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D511-F514-4744-8871-F86A66BF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D629-185A-47C6-B469-D750FC7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D9B-9DE8-4E39-B08B-9BE15FB9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DB66-2C09-4FAA-8520-CE6AF5E5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AD18-5F78-498C-8389-8AB7EB65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362E-31BB-4175-8428-1D360780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D3E7-6465-4842-89AB-39B0F701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57FC-267C-46D6-9495-3C6B1617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92F-1EE9-4EE6-A45F-D8EF713C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0D0-1907-4EA6-810E-D5FC0A24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8F7-FA4F-4018-B2C7-5FECC6C0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2AD-5FDA-43D1-B91D-2E6CCD34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A5B-223E-4DEB-9112-D7B1FD4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8B2-BD87-4534-8D06-EE575BEA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E1E-B1D8-4462-9B9E-A3AEA3C3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18A5-5B90-4510-A520-AE1824C8E1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F29C-0E79-4D79-9B93-A85B45DF8F3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28600" y="414036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8153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2382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189000" y="76500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619760" cy="516384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Přímá spojnice se šipkou 5"/>
          <p:cNvCxnSpPr/>
          <p:nvPr/>
        </p:nvCxnSpPr>
        <p:spPr>
          <a:xfrm flipH="1" flipV="1">
            <a:off x="4787280" y="4292280"/>
            <a:ext cx="187236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7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Katalýza\350px-Ne Comp_inhib_svg.png"/>
          <p:cNvPicPr/>
          <p:nvPr/>
        </p:nvPicPr>
        <p:blipFill>
          <a:blip r:embed="rId2"/>
          <a:stretch/>
        </p:blipFill>
        <p:spPr>
          <a:xfrm>
            <a:off x="5410080" y="0"/>
            <a:ext cx="29210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7:31:52Z</dcterms:modified>
  <cp:revision>146</cp:revision>
  <dc:subject/>
  <dc:title>C6730 Fázové rovnováhy</dc:title>
</cp:coreProperties>
</file>