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3E88-0780-4679-B54E-6E8275F948B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34B-58FB-498E-A5E3-26087800A8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4B44-4632-426F-9681-31AE8F460F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A3DB-CC60-41EA-9933-9BE4569008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Seznam Jardovych modifikaci ??? Do grafu pridat Binding efficiency of polyA:polyU systém 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Jen triplexy × presto vyber modifikaci vhodnych pro antisense, neboť pokud netvoril ani triplexy nemohl by vytvorit duplexy s otevrenym zlabk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Testovano mnoho modifikaci a znich vybrana ta nejvhodnejsi s ještě lepsimi schopnostmi nez prirozene 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 Konformace = postaveni bazi, puckering cukru, konformace fosfodiesterove spoj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2B2-BFC3-4DAE-A647-706C9960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25E-9EFF-48EF-9181-C43354E7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BAE-4581-41A4-8684-805F11D2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6C3-6BFD-422E-A41B-562F5E72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39A-406B-4D38-A6A7-681D60A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17F-9B1A-4153-AC22-A07DD52D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19C-702F-47BA-A704-591D97BC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B24-6A46-4D81-9774-782D81A5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7FB-619D-49BF-A204-CF332433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74F-9B30-41DF-AA4F-1344C0FE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772D-1AB4-4603-ABC5-4275AFB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686-55A6-43D8-9299-6A8D13C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963D-F2F6-4343-A2F5-6EC823A4A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84320" y="1389240"/>
            <a:ext cx="871992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ýznam genetické informace, její replik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a exprese pro živý organism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DNA – struktura, vlastnosti a funkce v organis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RNA – d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Virus ( = parazitující soubor ge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Možné využití syntetických oligonukleoti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Technické použití nukleových kyselin: aptamerové senzory, DNA nanomateriá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watson-crick"/>
          <p:cNvPicPr/>
          <p:nvPr/>
        </p:nvPicPr>
        <p:blipFill>
          <a:blip r:embed="rId1"/>
          <a:stretch/>
        </p:blipFill>
        <p:spPr>
          <a:xfrm>
            <a:off x="6991200" y="787320"/>
            <a:ext cx="188280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5840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kleov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é kyseli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yšší stupně uspořádání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15880" y="685800"/>
            <a:ext cx="81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ukleosomy jsou vázány na další vláknový histon a tvoř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„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0 nm vlákno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“. To je dále zprohýbáno a organizová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E:\PREDNASK\BunBiolBioch\podklady\nukleinky\Chromatin_packing.gif"/>
          <p:cNvPicPr/>
          <p:nvPr/>
        </p:nvPicPr>
        <p:blipFill>
          <a:blip r:embed="rId1"/>
          <a:srcRect l="0" t="0" r="0" b="8864"/>
          <a:stretch/>
        </p:blipFill>
        <p:spPr>
          <a:xfrm>
            <a:off x="606600" y="1508040"/>
            <a:ext cx="396540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4764240" y="1822320"/>
            <a:ext cx="4190760" cy="466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íky uspořádání je délka chromosomu 10.000x menší než délka rozvinuté D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ostatních životních fázích buňky dochází k rozvolnění. Málo rozvolněný chromat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heterochromati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je nedostupný pro expresi genetické inform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 v nejvíce rozvolněném chromatinu zůstává struktura nukleosomů. Základní pochody na DNA, tj. replikace, transkripce nebo opravy mohou probíhat přes nukleoso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" y="3789360"/>
            <a:ext cx="4570560" cy="3068640"/>
            <a:chOff x="193680" y="3789360"/>
            <a:chExt cx="4570560" cy="3068640"/>
          </a:xfrm>
        </p:grpSpPr>
        <p:sp>
          <p:nvSpPr>
            <p:cNvPr id="95" name="Rectangle 7"/>
            <p:cNvSpPr/>
            <p:nvPr/>
          </p:nvSpPr>
          <p:spPr>
            <a:xfrm>
              <a:off x="193680" y="3789360"/>
              <a:ext cx="4570560" cy="30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Picture 6" descr="E:\PREDNASK\BunBiolBioch\podklady\nukleinky\Nukleosomy_z_elektr_mikr.jpg"/>
            <p:cNvPicPr/>
            <p:nvPr/>
          </p:nvPicPr>
          <p:blipFill>
            <a:blip r:embed="rId2"/>
            <a:srcRect l="0" t="-16667" r="0" b="-16667"/>
            <a:stretch/>
          </p:blipFill>
          <p:spPr>
            <a:xfrm>
              <a:off x="193680" y="3789360"/>
              <a:ext cx="4570560" cy="306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v jádř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954000" y="941400"/>
            <a:ext cx="72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jádře se chromosomy (= molekula DNA + histony) uspořádávají do více a méně rozvinutých oblast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Jadro_a_okoli"/>
          <p:cNvPicPr/>
          <p:nvPr/>
        </p:nvPicPr>
        <p:blipFill>
          <a:blip r:embed="rId1"/>
          <a:stretch/>
        </p:blipFill>
        <p:spPr>
          <a:xfrm>
            <a:off x="1890720" y="2552760"/>
            <a:ext cx="536112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dávání a rekombinace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08120" y="1660680"/>
            <a:ext cx="60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</a:rPr>
              <a:t>Genetick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á informace při diferenciaci buněk nemi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omaticke_bunky_maji_veskerou_genetickou_informaci"/>
          <p:cNvPicPr/>
          <p:nvPr/>
        </p:nvPicPr>
        <p:blipFill>
          <a:blip r:embed="rId1"/>
          <a:srcRect l="0" t="0" r="0" b="36320"/>
          <a:stretch/>
        </p:blipFill>
        <p:spPr>
          <a:xfrm>
            <a:off x="744480" y="2392200"/>
            <a:ext cx="76532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-360"/>
            <a:ext cx="8431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plikace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Smycka_opozdujiciho_vlakna"/>
          <p:cNvPicPr/>
          <p:nvPr/>
        </p:nvPicPr>
        <p:blipFill>
          <a:blip r:embed="rId1"/>
          <a:stretch/>
        </p:blipFill>
        <p:spPr>
          <a:xfrm>
            <a:off x="1339920" y="890640"/>
            <a:ext cx="6464160" cy="343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55680" y="4427640"/>
            <a:ext cx="8431200" cy="2253600"/>
          </a:xfrm>
          <a:prstGeom prst="rect">
            <a:avLst/>
          </a:prstGeom>
          <a:solidFill>
            <a:srgbClr val="1c1c70"/>
          </a:solidFill>
          <a:ln w="1584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řesnost replik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rostá syntéza DNA vlákna:      pravděpodobnost chyby 1:1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bezprostřední kontrola a oprava:              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alší kontrola a oprava na novém vláknu:    pravd. chyby  1: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Celková pravděpodobnost chyby při replikaci:      </a:t>
            </a:r>
            <a:r>
              <a:rPr b="1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1 : 1 milia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6480" y="244080"/>
            <a:ext cx="73310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Důležitost předávání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06480" y="1214280"/>
            <a:ext cx="76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Je to především pojistka proti současnému poškození životně důležitých genů u celého společenství jednotliv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058760" y="2270160"/>
            <a:ext cx="7178760" cy="116748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bakterií je možné předání malého množství DNA přímo mezi jedinci, nebo i z okolí buňk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Dobře se uplatňují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plasmid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, malé kruhové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058760" y="4013280"/>
            <a:ext cx="7178760" cy="2082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U eukaryot se děje předávání genetické informace při pohlavním rozmnož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Somatické buňky jsou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diploid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– mají vždy 2 páry chromosomů, jeden od otce a jeden od matky, které se spojily při oplození, kdy se do jednoho jádra dostaly chromosomy z samční i samičí podhlavní buňk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590400" y="5046840"/>
            <a:ext cx="79614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nos genetické informace podle principu KOMPLEMENT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pouze bázové páry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: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: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ápis genetické inform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43000" y="1050840"/>
            <a:ext cx="8697960" cy="2342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 všech organismů se zápis genetické informace realiz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molekule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DNA = deoxyribonukleová kysel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 to pořadím čtyř báz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den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ytosin, </a:t>
            </a:r>
            <a:r>
              <a:rPr b="1" lang="cs-CZ" sz="3200" spc="-1" strike="noStrike">
                <a:solidFill>
                  <a:srgbClr val="ff66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uanin, </a:t>
            </a:r>
            <a:r>
              <a:rPr b="1" lang="cs-CZ" sz="28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ccccff"/>
                </a:solidFill>
                <a:latin typeface="Arial"/>
              </a:rPr>
              <a:t>hy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NAdvojsroubovice"/>
          <p:cNvPicPr/>
          <p:nvPr/>
        </p:nvPicPr>
        <p:blipFill>
          <a:blip r:embed="rId1"/>
          <a:srcRect l="0" t="0" r="45953" b="73977"/>
          <a:stretch/>
        </p:blipFill>
        <p:spPr>
          <a:xfrm>
            <a:off x="2381400" y="3763800"/>
            <a:ext cx="4381200" cy="12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241200"/>
            <a:ext cx="862164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o je příčinou principu komplementarit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Pepa\Profesura\WCparyDNA.jpg"/>
          <p:cNvPicPr/>
          <p:nvPr/>
        </p:nvPicPr>
        <p:blipFill>
          <a:blip r:embed="rId1"/>
          <a:stretch/>
        </p:blipFill>
        <p:spPr>
          <a:xfrm>
            <a:off x="2443320" y="1076400"/>
            <a:ext cx="3789360" cy="5629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4"/>
          <p:cNvGrpSpPr/>
          <p:nvPr/>
        </p:nvGrpSpPr>
        <p:grpSpPr>
          <a:xfrm>
            <a:off x="0" y="2523600"/>
            <a:ext cx="9144000" cy="4335480"/>
            <a:chOff x="0" y="2523600"/>
            <a:chExt cx="9144000" cy="4335480"/>
          </a:xfrm>
        </p:grpSpPr>
        <p:sp>
          <p:nvSpPr>
            <p:cNvPr id="117" name="Line 5"/>
            <p:cNvSpPr/>
            <p:nvPr/>
          </p:nvSpPr>
          <p:spPr>
            <a:xfrm>
              <a:off x="2847960" y="3124080"/>
              <a:ext cx="3148200" cy="2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 flipH="1" flipV="1">
              <a:off x="5603400" y="252396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2790720" y="5467320"/>
              <a:ext cx="3167280" cy="38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 flipV="1">
              <a:off x="2523960" y="4885920"/>
              <a:ext cx="60516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 flipV="1">
              <a:off x="2590920" y="2523600"/>
              <a:ext cx="604800" cy="785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 flipV="1">
              <a:off x="5565240" y="4857840"/>
              <a:ext cx="579960" cy="804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0" y="6216480"/>
              <a:ext cx="9144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ouze při zachování principu komplementarity lze při libovolném řazení čtyř bází na jednom řetězci vytvořit pravidelnou strukturu dvojšroubo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abilita dvojšroubovice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93840" y="990720"/>
            <a:ext cx="835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Relativně velká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citlivost na vnější podmínky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plota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, tlak, pH, koncentrace kationtů, koncentrace jednotlivých vícemocných io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22280" y="3606840"/>
            <a:ext cx="83566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vláštní struktury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dmíněné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peciálním bázovým složením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alternující G a C ………………………….levotočivá 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A a G v jednom vlákně … ……….trojšroubo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pouze G …………………………. ……….kvadru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úsek pouze s A a T s alternacemi ………ohy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93840" y="1765440"/>
            <a:ext cx="835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Závislost stability na </a:t>
            </a: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stavbě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délce řetěz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ccccff"/>
                </a:solidFill>
                <a:latin typeface="Arial"/>
              </a:rPr>
              <a:t>-  bázovém složení: stabilita roste s podílem G:C pá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NA - chemické slož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2000" y="5232240"/>
            <a:ext cx="70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ef2a8"/>
                </a:solidFill>
                <a:uFillTx/>
                <a:latin typeface="Arial"/>
              </a:rPr>
              <a:t>Chemické složení RNA se od DNA liší pouze ve dvou detail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báze Thymin je Uracil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Uracil nemá methylovou skupi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Místo deoxyribózy je ribóza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(má OH skupinu v pozici 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2’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527040" y="749160"/>
            <a:ext cx="3632040" cy="4280040"/>
            <a:chOff x="527040" y="749160"/>
            <a:chExt cx="3632040" cy="4280040"/>
          </a:xfrm>
        </p:grpSpPr>
        <p:pic>
          <p:nvPicPr>
            <p:cNvPr id="131" name="Picture 5" descr="Slozeni_retezce_DNA"/>
            <p:cNvPicPr/>
            <p:nvPr/>
          </p:nvPicPr>
          <p:blipFill>
            <a:blip r:embed="rId1"/>
            <a:stretch/>
          </p:blipFill>
          <p:spPr>
            <a:xfrm>
              <a:off x="527040" y="749160"/>
              <a:ext cx="363204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6"/>
            <p:cNvSpPr/>
            <p:nvPr/>
          </p:nvSpPr>
          <p:spPr>
            <a:xfrm>
              <a:off x="2589120" y="10332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7"/>
          <p:cNvGrpSpPr/>
          <p:nvPr/>
        </p:nvGrpSpPr>
        <p:grpSpPr>
          <a:xfrm>
            <a:off x="4932360" y="736560"/>
            <a:ext cx="3527280" cy="4230720"/>
            <a:chOff x="4932360" y="736560"/>
            <a:chExt cx="3527280" cy="4230720"/>
          </a:xfrm>
        </p:grpSpPr>
        <p:pic>
          <p:nvPicPr>
            <p:cNvPr id="134" name="Picture 8" descr="RNAchemstrukt"/>
            <p:cNvPicPr/>
            <p:nvPr/>
          </p:nvPicPr>
          <p:blipFill>
            <a:blip r:embed="rId2"/>
            <a:srcRect l="0" t="5965" r="0" b="8947"/>
            <a:stretch/>
          </p:blipFill>
          <p:spPr>
            <a:xfrm>
              <a:off x="4932360" y="736560"/>
              <a:ext cx="3527280" cy="42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9"/>
            <p:cNvSpPr/>
            <p:nvPr/>
          </p:nvSpPr>
          <p:spPr>
            <a:xfrm>
              <a:off x="7068960" y="1020600"/>
              <a:ext cx="110664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0"/>
          <p:cNvGrpSpPr/>
          <p:nvPr/>
        </p:nvGrpSpPr>
        <p:grpSpPr>
          <a:xfrm>
            <a:off x="6130800" y="1619280"/>
            <a:ext cx="1970280" cy="3306240"/>
            <a:chOff x="6130800" y="1619280"/>
            <a:chExt cx="1970280" cy="3306240"/>
          </a:xfrm>
        </p:grpSpPr>
        <p:sp>
          <p:nvSpPr>
            <p:cNvPr id="137" name="Oval 11"/>
            <p:cNvSpPr/>
            <p:nvPr/>
          </p:nvSpPr>
          <p:spPr>
            <a:xfrm>
              <a:off x="6130800" y="16603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2"/>
            <p:cNvSpPr/>
            <p:nvPr/>
          </p:nvSpPr>
          <p:spPr>
            <a:xfrm>
              <a:off x="7262640" y="3422520"/>
              <a:ext cx="322560" cy="307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3"/>
            <p:cNvSpPr/>
            <p:nvPr/>
          </p:nvSpPr>
          <p:spPr>
            <a:xfrm>
              <a:off x="7778880" y="4605120"/>
              <a:ext cx="322200" cy="32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4"/>
            <p:cNvSpPr/>
            <p:nvPr/>
          </p:nvSpPr>
          <p:spPr>
            <a:xfrm>
              <a:off x="6643800" y="2533320"/>
              <a:ext cx="32220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5"/>
            <p:cNvSpPr/>
            <p:nvPr/>
          </p:nvSpPr>
          <p:spPr>
            <a:xfrm>
              <a:off x="7107120" y="1619280"/>
              <a:ext cx="322560" cy="307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ole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7600" y="4940280"/>
            <a:ext cx="8996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hrube_schema_exprese"/>
          <p:cNvPicPr/>
          <p:nvPr/>
        </p:nvPicPr>
        <p:blipFill>
          <a:blip r:embed="rId1"/>
          <a:stretch/>
        </p:blipFill>
        <p:spPr>
          <a:xfrm>
            <a:off x="4983120" y="1297080"/>
            <a:ext cx="2949480" cy="33462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147600" y="1812960"/>
            <a:ext cx="483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Centrální dogma molekulární biologi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Přenos genetické informace v živých organismech vž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0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Znaky živého organis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488960" y="893880"/>
            <a:ext cx="6166080" cy="2868120"/>
          </a:xfrm>
          <a:prstGeom prst="rect">
            <a:avLst/>
          </a:prstGeom>
          <a:noFill/>
          <a:ln w="2232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získávání energie z živin pro své životní potře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možnost růstu, diferenciace a reprodu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udržování vnitřní uspořáda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e7a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e7ac"/>
                </a:solidFill>
                <a:latin typeface="Arial"/>
              </a:rPr>
              <a:t>   </a:t>
            </a:r>
            <a:r>
              <a:rPr b="0" lang="cs-CZ" sz="2000" spc="-1" strike="noStrike">
                <a:solidFill>
                  <a:srgbClr val="fee7ac"/>
                </a:solidFill>
                <a:latin typeface="Arial"/>
              </a:rPr>
              <a:t>aktivní reakce na změny vnějších podmín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Zabi_vajicko"/>
          <p:cNvPicPr/>
          <p:nvPr/>
        </p:nvPicPr>
        <p:blipFill>
          <a:blip r:embed="rId1"/>
          <a:srcRect l="1620" t="1532" r="1620" b="1532"/>
          <a:stretch/>
        </p:blipFill>
        <p:spPr>
          <a:xfrm>
            <a:off x="258840" y="466560"/>
            <a:ext cx="1117440" cy="118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4" name="Picture 6" descr="kvasinka"/>
          <p:cNvPicPr/>
          <p:nvPr/>
        </p:nvPicPr>
        <p:blipFill>
          <a:blip r:embed="rId2"/>
          <a:srcRect l="5257" t="60098" r="53448" b="2763"/>
          <a:stretch/>
        </p:blipFill>
        <p:spPr>
          <a:xfrm>
            <a:off x="7294680" y="4506840"/>
            <a:ext cx="1697040" cy="193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7886880" y="250920"/>
            <a:ext cx="981000" cy="135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6" name="Picture 8" descr="tvary_bakterii"/>
          <p:cNvPicPr/>
          <p:nvPr/>
        </p:nvPicPr>
        <p:blipFill>
          <a:blip r:embed="rId4"/>
          <a:srcRect l="65053" t="0" r="0" b="22904"/>
          <a:stretch/>
        </p:blipFill>
        <p:spPr>
          <a:xfrm>
            <a:off x="812880" y="4141800"/>
            <a:ext cx="1859040" cy="122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9" descr=""/>
          <p:cNvPicPr/>
          <p:nvPr/>
        </p:nvPicPr>
        <p:blipFill>
          <a:blip r:embed="rId5"/>
          <a:stretch/>
        </p:blipFill>
        <p:spPr>
          <a:xfrm>
            <a:off x="7770960" y="2313000"/>
            <a:ext cx="1215720" cy="110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10" descr=""/>
          <p:cNvPicPr/>
          <p:nvPr/>
        </p:nvPicPr>
        <p:blipFill>
          <a:blip r:embed="rId6"/>
          <a:srcRect l="3036" t="3150" r="3036" b="3150"/>
          <a:stretch/>
        </p:blipFill>
        <p:spPr>
          <a:xfrm>
            <a:off x="192240" y="2421000"/>
            <a:ext cx="1035000" cy="995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5880" y="4902120"/>
            <a:ext cx="52322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tyto životní projevy se realizují primárně na úrovni buně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855720" y="779400"/>
            <a:ext cx="6850080" cy="3695760"/>
            <a:chOff x="855720" y="779400"/>
            <a:chExt cx="6850080" cy="3695760"/>
          </a:xfrm>
        </p:grpSpPr>
        <p:pic>
          <p:nvPicPr>
            <p:cNvPr id="147" name="Picture 5" descr="genova_exprese_eu_pro"/>
            <p:cNvPicPr/>
            <p:nvPr/>
          </p:nvPicPr>
          <p:blipFill>
            <a:blip r:embed="rId1"/>
            <a:stretch/>
          </p:blipFill>
          <p:spPr>
            <a:xfrm>
              <a:off x="855720" y="779400"/>
              <a:ext cx="68500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6"/>
            <p:cNvSpPr/>
            <p:nvPr/>
          </p:nvSpPr>
          <p:spPr>
            <a:xfrm>
              <a:off x="892080" y="814680"/>
              <a:ext cx="12052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Eu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7"/>
            <p:cNvSpPr/>
            <p:nvPr/>
          </p:nvSpPr>
          <p:spPr>
            <a:xfrm>
              <a:off x="4804560" y="791280"/>
              <a:ext cx="1461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Prokaryo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Postup exprese genetické inform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8" descr=""/>
          <p:cNvPicPr/>
          <p:nvPr/>
        </p:nvPicPr>
        <p:blipFill>
          <a:blip r:embed="rId2"/>
          <a:stretch/>
        </p:blipFill>
        <p:spPr>
          <a:xfrm>
            <a:off x="6453360" y="2692440"/>
            <a:ext cx="734760" cy="209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/>
          <p:cNvPicPr/>
          <p:nvPr/>
        </p:nvPicPr>
        <p:blipFill>
          <a:blip r:embed="rId3"/>
          <a:srcRect l="0" t="7270" r="0" b="8482"/>
          <a:stretch/>
        </p:blipFill>
        <p:spPr>
          <a:xfrm>
            <a:off x="4995720" y="3114720"/>
            <a:ext cx="1838520" cy="13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10"/>
          <p:cNvSpPr/>
          <p:nvPr/>
        </p:nvSpPr>
        <p:spPr>
          <a:xfrm flipH="1" flipV="1">
            <a:off x="4705200" y="3602160"/>
            <a:ext cx="471600" cy="147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H="1" flipV="1">
            <a:off x="6662520" y="2298600"/>
            <a:ext cx="27000" cy="3636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0" y="49402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</a:rPr>
              <a:t>RNA molekuly se účastní v procesu exprese genetické informace ve 4 rol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m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informační) – nese informaci o pořadí aminokyse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r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ribosomální) - stavební jednotky ribosomu (kromě proteinů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t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(transferová) – přenašeč aminokyselin při syntéze proteinů na ribosom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</a:rPr>
              <a:t>krátké RNA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– účast při post-transkripčních úprav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Strukturní rysy 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47680" y="738360"/>
            <a:ext cx="8545320" cy="1191240"/>
          </a:xfrm>
          <a:prstGeom prst="rect">
            <a:avLst/>
          </a:prstGeom>
          <a:noFill/>
          <a:ln w="15840">
            <a:solidFill>
              <a:srgbClr val="fef2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RNA se zásadně vyskytuje jako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jednovláknová,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může ale vytvářet lokální interní dvojšroubovice a stabilizovat se ve složité prostorové struktuř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Základními strukturními motivy jsou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lásenk</a:t>
            </a:r>
            <a:r>
              <a:rPr b="1" lang="en-US" sz="1800" spc="-1" strike="noStrike">
                <a:solidFill>
                  <a:srgbClr val="fef2a8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hairpin</a:t>
            </a:r>
            <a:r>
              <a:rPr b="0" lang="en-US" sz="1800" spc="-1" strike="noStrike">
                <a:solidFill>
                  <a:srgbClr val="fef2a8"/>
                </a:solidFill>
                <a:latin typeface="Arial"/>
              </a:rPr>
              <a:t>, hairpin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loop) - obsahuje vlastní smyčku a stonek (stem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ýduť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bulge)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vnitřní smyčka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fef2a8"/>
                </a:solidFill>
                <a:latin typeface="Arial"/>
              </a:rPr>
              <a:t>křížení</a:t>
            </a:r>
            <a:r>
              <a:rPr b="0" lang="cs-CZ" sz="1800" spc="-1" strike="noStrike">
                <a:solidFill>
                  <a:srgbClr val="fef2a8"/>
                </a:solidFill>
                <a:latin typeface="Arial"/>
              </a:rPr>
              <a:t> (junction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RNA_local_structure"/>
          <p:cNvPicPr/>
          <p:nvPr/>
        </p:nvPicPr>
        <p:blipFill>
          <a:blip r:embed="rId1"/>
          <a:srcRect l="0" t="0" r="62216" b="0"/>
          <a:stretch/>
        </p:blipFill>
        <p:spPr>
          <a:xfrm>
            <a:off x="468360" y="2411280"/>
            <a:ext cx="2798640" cy="3635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RNA strukturni motivy"/>
          <p:cNvPicPr/>
          <p:nvPr/>
        </p:nvPicPr>
        <p:blipFill>
          <a:blip r:embed="rId2"/>
          <a:stretch/>
        </p:blipFill>
        <p:spPr>
          <a:xfrm>
            <a:off x="3990960" y="2421000"/>
            <a:ext cx="4417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5´konce viru HIV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21932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 – vlásenka, na kterou se vá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 proteiny virový Tat a bun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č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ý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cli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00"/>
              </a:buClr>
              <a:buFont typeface="Times New Roman"/>
              <a:buChar char="•"/>
              <a:tabLst>
                <a:tab algn="l" pos="3808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 (SL1) – vlásenka, která je zodpov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ná za dr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ž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í obou homologních vláken viru při sob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D:\clanky\disertace\obrazky\HIV\HIV 5konec - oriznuty.gif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49200" y="809640"/>
            <a:ext cx="8445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amostatně existující skupiny genů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 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hou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eplikovat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uz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okud infikují vhodnou hostitelskou buňku. </a:t>
            </a:r>
            <a:r>
              <a:rPr b="1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ebuněčné částic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, nepovažují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a živý organismus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M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imo hostitelskou buňku nevykazují životní projevy: nemají látkový ani energetický metabolismus, nerostou, nejsou dráždivé, nemají aktivní pohyb, nerozmnožují se. Žádný z virů neobsahuje geny klíčové pro jeho replikaci, především pro stavbu ribosomu nebo syntézu AT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V procesu své reprodukce představují vnitrobuněčné parazity, kt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ř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jsou zpravidla </a:t>
            </a: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patogenn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pro hostitelskou buň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ef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O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bsahují 3 až stovky genů a jejich velikosti se pohybují od 15 do cca 400 nm.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E:\PREDNASK\BunBiolBioch\podklady\viry\obrazky-pom\vir.jpg"/>
          <p:cNvPicPr/>
          <p:nvPr/>
        </p:nvPicPr>
        <p:blipFill>
          <a:blip r:embed="rId1"/>
          <a:stretch/>
        </p:blipFill>
        <p:spPr>
          <a:xfrm>
            <a:off x="1727280" y="4973760"/>
            <a:ext cx="1116000" cy="1884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E:\PREDNASK\BunBiolBioch\podklady\viry\obrazky-pom\vir2.jpg"/>
          <p:cNvPicPr/>
          <p:nvPr/>
        </p:nvPicPr>
        <p:blipFill>
          <a:blip r:embed="rId2"/>
          <a:stretch/>
        </p:blipFill>
        <p:spPr>
          <a:xfrm>
            <a:off x="3700440" y="5037120"/>
            <a:ext cx="2005200" cy="177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E:\PREDNASK\BunBiolBioch\podklady\viry\obrazky-pom\vir3.jpg"/>
          <p:cNvPicPr/>
          <p:nvPr/>
        </p:nvPicPr>
        <p:blipFill>
          <a:blip r:embed="rId3"/>
          <a:stretch/>
        </p:blipFill>
        <p:spPr>
          <a:xfrm>
            <a:off x="6608880" y="5008680"/>
            <a:ext cx="111420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58840" y="1082520"/>
            <a:ext cx="507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Lytický cyklus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– s využitím buněčného aparátu (permisivita buňky)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se replikuje nukleová kyselina i virové proteiny. Kapsidové proteiny se v procesu 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zv. maturace samovolně skládají a vytvářejí kapsid, sestavují se nové viriony. Konkrétní mechanismus závisí především na tom, jak je realizován zápis virových gen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ef2a8"/>
                </a:solidFill>
                <a:uFillTx/>
                <a:latin typeface="Arial"/>
                <a:ea typeface="Times New Roman"/>
              </a:rPr>
              <a:t>DNA viry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 - přímá transkripce a translace virové D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E:\PREDNASK\BunBiolBioch\podklady\viry\obrazky-pom\cyklus_DNA_viru.gif"/>
          <p:cNvPicPr/>
          <p:nvPr/>
        </p:nvPicPr>
        <p:blipFill>
          <a:blip r:embed="rId1"/>
          <a:stretch/>
        </p:blipFill>
        <p:spPr>
          <a:xfrm>
            <a:off x="5616720" y="835200"/>
            <a:ext cx="30495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votní cyklus retrovir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84040" y="746280"/>
            <a:ext cx="857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ef2a8"/>
                </a:solidFill>
                <a:latin typeface="Arial"/>
                <a:ea typeface="Times New Roman"/>
              </a:rPr>
              <a:t>RNA je virovou reverzní transkriptázou přepsána do DNA a ta je virovou integrázou včleněna do buněčné DNA v jádře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" descr="E:\PREDNASK\BunBiolBioch\podklady\viry\obrazky-pom\zivotni_cyklus_retroviru.gif"/>
          <p:cNvPicPr/>
          <p:nvPr/>
        </p:nvPicPr>
        <p:blipFill>
          <a:blip r:embed="rId1"/>
          <a:stretch/>
        </p:blipFill>
        <p:spPr>
          <a:xfrm>
            <a:off x="754200" y="1500120"/>
            <a:ext cx="7941960" cy="417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:\PREDNASK\BunBiolBioch\podklady\viry\obrazky-pom\reverzni_transkriptaza.jpg"/>
          <p:cNvPicPr/>
          <p:nvPr/>
        </p:nvPicPr>
        <p:blipFill>
          <a:blip r:embed="rId2"/>
          <a:stretch/>
        </p:blipFill>
        <p:spPr>
          <a:xfrm>
            <a:off x="1782720" y="5383080"/>
            <a:ext cx="2978280" cy="147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144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žití oligonukleotidu k „uspání“ g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8280" y="1028880"/>
            <a:ext cx="57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</a:rPr>
              <a:t>oligonukleotid = krátký úsek nukleové kyseli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084320" y="1608120"/>
            <a:ext cx="6959520" cy="46800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Motiv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Chemoterap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lektivní likvidace nežádoucích organis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eprodukce virů, především retrovi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tlačení růstu vlastních buněk s patogenním chování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Molekulární biologi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í zkoumání funkcí řízených jednotlivými ge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946080" y="0"/>
            <a:ext cx="725184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Možné mechanis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1480" y="1193760"/>
            <a:ext cx="8153640" cy="43866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gen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dvojšroubovici DNA a vytvář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i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blokuje transkripci (vznik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ntisens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se váže na mRNA a vytváří duplex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blokuje translaci (syntézu proteinů) nebo dokonce vede ke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štěpení mRNA pomocí RNasy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ptamerní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 – oligonukleotid </a:t>
            </a:r>
            <a:r>
              <a:rPr b="0" lang="en-US" sz="2000" spc="-1" strike="noStrike">
                <a:solidFill>
                  <a:srgbClr val="f7ffd1"/>
                </a:solidFill>
                <a:latin typeface="Arial"/>
              </a:rPr>
              <a:t>zabr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ňuje funkci proteinu zajišťujícímu     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nezbytný krok v realizaci genetické informace (reverzní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transkriptáza, integráza, apod.) 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siRNA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krátká dvojšroubovice RNA obsahující nežádoucí sekve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7ffd1"/>
                </a:solidFill>
                <a:latin typeface="Arial"/>
                <a:ea typeface="Times New Roman"/>
              </a:rPr>
              <a:t>•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 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Ribozymy</a:t>
            </a:r>
            <a:r>
              <a:rPr b="0" lang="cs-CZ" sz="2000" spc="-1" strike="noStrike">
                <a:solidFill>
                  <a:srgbClr val="f7ffd1"/>
                </a:solidFill>
                <a:latin typeface="Arial"/>
                <a:ea typeface="Times New Roman"/>
              </a:rPr>
              <a:t> – speciální RNA sekvence katalyzující štěpení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66960" y="0"/>
            <a:ext cx="7251480" cy="114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Chemicky modifikovaná analoga nukleových kyse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23800" y="1143000"/>
            <a:ext cx="8153640" cy="703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7ffd1"/>
                </a:solidFill>
                <a:latin typeface="Arial"/>
              </a:rPr>
              <a:t>Krátké úseky přírozených nukleových kyselin nejsou v buněčném prostředí stabilní – působení štěpících enzymů (nukleáz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90680" y="2195640"/>
            <a:ext cx="82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Prvn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fosforothioá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ktivují RNázu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esítky přípravků ve stadiu klinick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estů, jeden lék povolen pro lékařské použit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blémem je nespecifická vazba na nukleové kyseliny a prote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5367240" y="2289240"/>
            <a:ext cx="1090800" cy="1001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455760" y="4297320"/>
            <a:ext cx="820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Druhá a třetí generace antisense léků:</a:t>
            </a: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Založené na ochranných O-methyl nebo O-methoxy-ethyl skupinách, někdy v kombinaci s fosforothioáty (2.generace) nebo jiné typy modifikací (3.gener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aktivují RNázu H, řeší se to tvorbou „chimerických“ oligonukleotid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íce než desítka ve stadiu klinických tes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46080" y="368280"/>
            <a:ext cx="7251840" cy="8380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ýběr z přehledu testovaných příprav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240" y="1479600"/>
            <a:ext cx="90295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40840"/>
            <a:ext cx="777240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Jednotná molekulární strategie buně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55680" y="1028880"/>
            <a:ext cx="84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fff99"/>
                </a:solidFill>
                <a:uFillTx/>
                <a:latin typeface="Arial"/>
              </a:rPr>
              <a:t>Polysacharidy a lipidy</a:t>
            </a:r>
            <a:r>
              <a:rPr b="0" lang="cs-CZ" sz="2400" spc="-1" strike="noStrike">
                <a:solidFill>
                  <a:srgbClr val="ffff99"/>
                </a:solidFill>
                <a:latin typeface="Arial"/>
              </a:rPr>
              <a:t> … stavební a zásob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0120" y="1798560"/>
            <a:ext cx="848376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fbc75f"/>
                </a:solidFill>
                <a:uFillTx/>
                <a:latin typeface="Arial"/>
              </a:rPr>
              <a:t>Bílkoviny (proteiny</a:t>
            </a:r>
            <a:r>
              <a:rPr b="1" lang="cs-CZ" sz="2400" spc="-1" strike="noStrike">
                <a:solidFill>
                  <a:srgbClr val="fbc75f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… univerzální, mohou mít funkc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stavební, zásobní, biochemickou (enzymy),  transportní, pohybovo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kontrolní, signální,..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Specifický vztah mezi strukturou a funkcí</a:t>
            </a:r>
            <a:r>
              <a:rPr b="0" lang="cs-CZ" sz="2400" spc="-1" strike="noStrike">
                <a:solidFill>
                  <a:srgbClr val="fbc75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        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posloupnost aminokyselin  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  struktu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bc75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fbc75f"/>
                </a:solidFill>
                <a:latin typeface="Arial"/>
              </a:rPr>
              <a:t>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bc75f"/>
                </a:solidFill>
                <a:latin typeface="Arial"/>
              </a:rPr>
              <a:t>Kritická podmínka pro zachování životních pochodů buň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bc75f"/>
                </a:solidFill>
                <a:latin typeface="Arial"/>
              </a:rPr>
              <a:t>mít možnost podle potřeby vytvořit protein pro zabezpečení dané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30120" y="5316480"/>
            <a:ext cx="8483760" cy="825480"/>
          </a:xfrm>
          <a:prstGeom prst="rect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6600"/>
                </a:solidFill>
                <a:latin typeface="Arial"/>
              </a:rPr>
              <a:t>To zajišťují </a:t>
            </a:r>
            <a:r>
              <a:rPr b="1" lang="cs-CZ" sz="2400" spc="-1" strike="noStrike" u="sng">
                <a:solidFill>
                  <a:srgbClr val="ff6600"/>
                </a:solidFill>
                <a:uFillTx/>
                <a:latin typeface="Arial"/>
              </a:rPr>
              <a:t>Nukleové kyseliny</a:t>
            </a:r>
            <a:r>
              <a:rPr b="1" lang="cs-CZ" sz="24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ff6600"/>
                </a:solidFill>
                <a:latin typeface="Arial"/>
              </a:rPr>
              <a:t>v DNA je informace uložená, RNA je prostředníkem její realizace (expre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0880" y="20559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o je motivace pro hledání nových, vhodnějších modifikací</a:t>
            </a: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30080" y="3987720"/>
            <a:ext cx="7683840" cy="2441880"/>
          </a:xfrm>
          <a:prstGeom prst="rect">
            <a:avLst/>
          </a:prstGeom>
          <a:solidFill>
            <a:srgbClr val="24248e"/>
          </a:solidFill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00cc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cc99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ostatečná stabilita vůči enzymům v buňce štěpícím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á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fin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 cílovému úseku přirozené nukleové kyseli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 komplementární bázovou sekvenc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pro antisense aplikaci schopnost aktivovat enzym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N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áza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 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úspěšné pronikání do buně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 správná distrib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e vnitrobuněčném prostřed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-   netoxičnost a to ani metabolických produk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960" y="573120"/>
            <a:ext cx="8344080" cy="838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ádná z dosud používaných modifikací nemá bohužel optimální vlastnosti, aby se mohl plně využít potenciál antisensní strate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641520" y="2997360"/>
            <a:ext cx="7860960" cy="838080"/>
          </a:xfrm>
          <a:prstGeom prst="rect">
            <a:avLst/>
          </a:prstGeom>
          <a:noFill/>
          <a:ln w="19080">
            <a:solidFill>
              <a:srgbClr val="fee7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Po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ž</a:t>
            </a:r>
            <a:r>
              <a:rPr b="1" lang="en-US" sz="2000" spc="-1" strike="noStrike">
                <a:solidFill>
                  <a:srgbClr val="f7ffd1"/>
                </a:solidFill>
                <a:latin typeface="Arial"/>
              </a:rPr>
              <a:t>adavky</a:t>
            </a:r>
            <a:r>
              <a:rPr b="1" lang="cs-CZ" sz="2000" spc="-1" strike="noStrike">
                <a:solidFill>
                  <a:srgbClr val="f7ffd1"/>
                </a:solidFill>
                <a:latin typeface="Arial"/>
              </a:rPr>
              <a:t> na syntetická analoga nukleových kyselin pro terapeutické použi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220680" y="2098800"/>
            <a:ext cx="8672400" cy="338040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Studované problé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tvorba a rozpad duplexů, triplexů a kvadruplex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liv vnějších podmínek : pH, jednotlivé kationty, speciální moleku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abilita a dynamika duplexů s neúplnou komplementarit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a, dynamika a interakce s enzymy regulačních úseků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s enzymy (HIV integráza, RNasa H) významné pro terap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interakce vazebných strukturních motivů s aptamery (TAR smyč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onikání oligonukleotidů do buněk a jejich vnitrobuněčný os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49440" y="263520"/>
            <a:ext cx="7843680" cy="1251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tudium struktury, dynamiky a mezimolekulárních interakcí strukturních motivů přirozených i modifikovaných nukleových kys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0680" y="2098800"/>
            <a:ext cx="8672400" cy="4214880"/>
          </a:xfrm>
          <a:prstGeom prst="rect">
            <a:avLst/>
          </a:prstGeom>
          <a:solidFill>
            <a:srgbClr val="00008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</a:rPr>
              <a:t>Používané met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UV absorp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amanova spektrosk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enzory na bázi rezonance povrchových plasmo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kalorime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strukturní a dynamická NMR měře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ikulární dichroismus (v UV absorp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gelová elektroforé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ikrofluorescenční techni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7ffd1"/>
                </a:solidFill>
                <a:latin typeface="Arial"/>
                <a:ea typeface="Times New Roman"/>
              </a:rPr>
              <a:t>	</a:t>
            </a:r>
            <a:r>
              <a:rPr b="1" i="1" lang="cs-CZ" sz="1800" spc="-1" strike="noStrike">
                <a:solidFill>
                  <a:srgbClr val="fee7ac"/>
                </a:solidFill>
                <a:latin typeface="Arial"/>
              </a:rPr>
              <a:t>počítačové modelová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-36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Testování syntetických oligonukleotid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-285840" y="1096920"/>
          <a:ext cx="9429840" cy="545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85840" y="1096920"/>
                    <a:ext cx="942984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ovéPole 4"/>
          <p:cNvSpPr/>
          <p:nvPr/>
        </p:nvSpPr>
        <p:spPr>
          <a:xfrm>
            <a:off x="1397160" y="101772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Testování vazby na přirozený řetězec – SPR biose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DNA_complements (small)"/>
          <p:cNvPicPr/>
          <p:nvPr/>
        </p:nvPicPr>
        <p:blipFill>
          <a:blip r:embed="rId1"/>
          <a:stretch/>
        </p:blipFill>
        <p:spPr>
          <a:xfrm>
            <a:off x="0" y="558720"/>
            <a:ext cx="57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UV_histogram"/>
          <p:cNvPicPr/>
          <p:nvPr/>
        </p:nvPicPr>
        <p:blipFill>
          <a:blip r:embed="rId2"/>
          <a:stretch/>
        </p:blipFill>
        <p:spPr>
          <a:xfrm>
            <a:off x="3381480" y="3416400"/>
            <a:ext cx="5762520" cy="327636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69056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6172200" y="5105520"/>
            <a:ext cx="914400" cy="1015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7861320" y="4775040"/>
            <a:ext cx="1028520" cy="14734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6905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ovéPole 9"/>
          <p:cNvSpPr/>
          <p:nvPr/>
        </p:nvSpPr>
        <p:spPr>
          <a:xfrm>
            <a:off x="6100920" y="1150920"/>
            <a:ext cx="2885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Arial"/>
                <a:ea typeface="Arial"/>
              </a:rPr>
              <a:t>Specificita vaz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99"/>
                </a:solidFill>
                <a:latin typeface="Arial"/>
                <a:ea typeface="Arial"/>
              </a:rPr>
              <a:t>(výsledky UV absorp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pA-oT 2"/>
          <p:cNvPicPr/>
          <p:nvPr/>
        </p:nvPicPr>
        <p:blipFill>
          <a:blip r:embed="rId1"/>
          <a:stretch/>
        </p:blipFill>
        <p:spPr>
          <a:xfrm>
            <a:off x="380880" y="2692440"/>
            <a:ext cx="7696440" cy="4006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8" name="Line 5"/>
          <p:cNvSpPr/>
          <p:nvPr/>
        </p:nvSpPr>
        <p:spPr>
          <a:xfrm>
            <a:off x="403200" y="4592520"/>
            <a:ext cx="2438280" cy="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 flipV="1">
            <a:off x="2865600" y="2676240"/>
            <a:ext cx="1440" cy="190476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8"/>
          <p:cNvGrpSpPr/>
          <p:nvPr/>
        </p:nvGrpSpPr>
        <p:grpSpPr>
          <a:xfrm>
            <a:off x="1219320" y="2110320"/>
            <a:ext cx="7237080" cy="4425120"/>
            <a:chOff x="1219320" y="2110320"/>
            <a:chExt cx="7237080" cy="4425120"/>
          </a:xfrm>
        </p:grpSpPr>
        <p:grpSp>
          <p:nvGrpSpPr>
            <p:cNvPr id="211" name="Group 9"/>
            <p:cNvGrpSpPr/>
            <p:nvPr/>
          </p:nvGrpSpPr>
          <p:grpSpPr>
            <a:xfrm>
              <a:off x="1219320" y="4935240"/>
              <a:ext cx="2438280" cy="1371600"/>
              <a:chOff x="1219320" y="4935240"/>
              <a:chExt cx="2438280" cy="1371600"/>
            </a:xfrm>
          </p:grpSpPr>
          <p:sp>
            <p:nvSpPr>
              <p:cNvPr id="212" name="Line 10"/>
              <p:cNvSpPr/>
              <p:nvPr/>
            </p:nvSpPr>
            <p:spPr>
              <a:xfrm>
                <a:off x="1219320" y="4935240"/>
                <a:ext cx="2438280" cy="121896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"/>
              <p:cNvSpPr/>
              <p:nvPr/>
            </p:nvSpPr>
            <p:spPr>
              <a:xfrm flipV="1">
                <a:off x="1295640" y="4935240"/>
                <a:ext cx="2209680" cy="137160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2"/>
            <p:cNvGrpSpPr/>
            <p:nvPr/>
          </p:nvGrpSpPr>
          <p:grpSpPr>
            <a:xfrm>
              <a:off x="3962520" y="4285440"/>
              <a:ext cx="457200" cy="305280"/>
              <a:chOff x="3962520" y="4285440"/>
              <a:chExt cx="457200" cy="305280"/>
            </a:xfrm>
          </p:grpSpPr>
          <p:sp>
            <p:nvSpPr>
              <p:cNvPr id="215" name="Line 13"/>
              <p:cNvSpPr/>
              <p:nvPr/>
            </p:nvSpPr>
            <p:spPr>
              <a:xfrm>
                <a:off x="3962520" y="443808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14"/>
              <p:cNvSpPr/>
              <p:nvPr/>
            </p:nvSpPr>
            <p:spPr>
              <a:xfrm flipV="1">
                <a:off x="4115160" y="428544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15"/>
            <p:cNvGrpSpPr/>
            <p:nvPr/>
          </p:nvGrpSpPr>
          <p:grpSpPr>
            <a:xfrm>
              <a:off x="4952880" y="6230160"/>
              <a:ext cx="457200" cy="305280"/>
              <a:chOff x="4952880" y="6230160"/>
              <a:chExt cx="457200" cy="305280"/>
            </a:xfrm>
          </p:grpSpPr>
          <p:sp>
            <p:nvSpPr>
              <p:cNvPr id="218" name="Line 16"/>
              <p:cNvSpPr/>
              <p:nvPr/>
            </p:nvSpPr>
            <p:spPr>
              <a:xfrm>
                <a:off x="4952880" y="6382800"/>
                <a:ext cx="152640" cy="15264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17"/>
              <p:cNvSpPr/>
              <p:nvPr/>
            </p:nvSpPr>
            <p:spPr>
              <a:xfrm flipV="1">
                <a:off x="5105520" y="6230160"/>
                <a:ext cx="304560" cy="304920"/>
              </a:xfrm>
              <a:prstGeom prst="line">
                <a:avLst/>
              </a:prstGeom>
              <a:ln w="25560">
                <a:solidFill>
                  <a:srgbClr val="ec3d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"/>
            <p:cNvSpPr/>
            <p:nvPr/>
          </p:nvSpPr>
          <p:spPr>
            <a:xfrm rot="2400000">
              <a:off x="5122800" y="2954160"/>
              <a:ext cx="3200400" cy="1579320"/>
            </a:xfrm>
            <a:prstGeom prst="ellipse">
              <a:avLst/>
            </a:prstGeom>
            <a:noFill/>
            <a:ln w="25560">
              <a:solidFill>
                <a:srgbClr val="ec3d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9"/>
          <p:cNvGrpSpPr/>
          <p:nvPr/>
        </p:nvGrpSpPr>
        <p:grpSpPr>
          <a:xfrm>
            <a:off x="1714680" y="3983040"/>
            <a:ext cx="5715000" cy="2168640"/>
            <a:chOff x="1714680" y="3983040"/>
            <a:chExt cx="5715000" cy="2168640"/>
          </a:xfrm>
        </p:grpSpPr>
        <p:sp>
          <p:nvSpPr>
            <p:cNvPr id="222" name="Oval 20"/>
            <p:cNvSpPr/>
            <p:nvPr/>
          </p:nvSpPr>
          <p:spPr>
            <a:xfrm>
              <a:off x="4305240" y="39830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21"/>
            <p:cNvSpPr/>
            <p:nvPr/>
          </p:nvSpPr>
          <p:spPr>
            <a:xfrm>
              <a:off x="7048440" y="4211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22"/>
            <p:cNvSpPr/>
            <p:nvPr/>
          </p:nvSpPr>
          <p:spPr>
            <a:xfrm>
              <a:off x="5246640" y="5354640"/>
              <a:ext cx="38124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23"/>
            <p:cNvSpPr/>
            <p:nvPr/>
          </p:nvSpPr>
          <p:spPr>
            <a:xfrm>
              <a:off x="6438960" y="59230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Oval 24"/>
            <p:cNvSpPr/>
            <p:nvPr/>
          </p:nvSpPr>
          <p:spPr>
            <a:xfrm>
              <a:off x="2629080" y="581184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25"/>
            <p:cNvSpPr/>
            <p:nvPr/>
          </p:nvSpPr>
          <p:spPr>
            <a:xfrm>
              <a:off x="1714680" y="5278680"/>
              <a:ext cx="380880" cy="228600"/>
            </a:xfrm>
            <a:prstGeom prst="ellipse">
              <a:avLst/>
            </a:prstGeom>
            <a:noFill/>
            <a:ln w="1908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27"/>
          <p:cNvSpPr/>
          <p:nvPr/>
        </p:nvSpPr>
        <p:spPr>
          <a:xfrm>
            <a:off x="209520" y="787320"/>
            <a:ext cx="872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stabilita komplexu s přirozeným vláknem, strukturní podobn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6600"/>
                </a:solidFill>
                <a:latin typeface="Arial"/>
              </a:rPr>
              <a:t>(UV absorpce, počítačové simulace, Ramanův rozpty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8"/>
          <p:cNvSpPr/>
          <p:nvPr/>
        </p:nvSpPr>
        <p:spPr>
          <a:xfrm>
            <a:off x="1593720" y="15494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biochemický test:                 aktivace RN</a:t>
            </a:r>
            <a:r>
              <a:rPr b="0" lang="en-US" sz="2000" spc="-1" strike="noStrike">
                <a:solidFill>
                  <a:srgbClr val="99ff66"/>
                </a:solidFill>
                <a:latin typeface="Arial"/>
              </a:rPr>
              <a:t>asy</a:t>
            </a:r>
            <a:r>
              <a:rPr b="0" lang="cs-CZ" sz="2000" spc="-1" strike="noStrike">
                <a:solidFill>
                  <a:srgbClr val="99ff66"/>
                </a:solidFill>
                <a:latin typeface="Arial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4572000" y="1523880"/>
            <a:ext cx="2603520" cy="470160"/>
          </a:xfrm>
          <a:prstGeom prst="wedgeRoundRectCallout">
            <a:avLst>
              <a:gd name="adj1" fmla="val 18231"/>
              <a:gd name="adj2" fmla="val 121282"/>
              <a:gd name="adj3" fmla="val 16667"/>
            </a:avLst>
          </a:prstGeom>
          <a:noFill/>
          <a:ln w="255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Centrální dogma molekulární bi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rube_schema_exprese"/>
          <p:cNvPicPr/>
          <p:nvPr/>
        </p:nvPicPr>
        <p:blipFill>
          <a:blip r:embed="rId1"/>
          <a:stretch/>
        </p:blipFill>
        <p:spPr>
          <a:xfrm>
            <a:off x="2773440" y="2136600"/>
            <a:ext cx="3597120" cy="4081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46040" y="122868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Přenos genetické informace  v živých organismech vž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D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RNA </a:t>
            </a:r>
            <a:r>
              <a:rPr b="0" lang="en-US" sz="2400" spc="-1" strike="noStrike">
                <a:solidFill>
                  <a:srgbClr val="fef2a8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ef2a8"/>
                </a:solidFill>
                <a:latin typeface="Arial"/>
                <a:ea typeface="Times New Roman"/>
              </a:rPr>
              <a:t> protei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6280" y="0"/>
            <a:ext cx="8191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Chemické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složení D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95120" y="4746600"/>
            <a:ext cx="43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Asymetrický řetězec s jasně rozlišeným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ef2a8"/>
                </a:solidFill>
                <a:latin typeface="Arial"/>
              </a:rPr>
              <a:t>’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konc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Polymer"/>
          <p:cNvPicPr/>
          <p:nvPr/>
        </p:nvPicPr>
        <p:blipFill>
          <a:blip r:embed="rId1"/>
          <a:stretch/>
        </p:blipFill>
        <p:spPr>
          <a:xfrm>
            <a:off x="4834080" y="1127160"/>
            <a:ext cx="430992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lozeni_retezce_DNA"/>
          <p:cNvPicPr/>
          <p:nvPr/>
        </p:nvPicPr>
        <p:blipFill>
          <a:blip r:embed="rId2"/>
          <a:stretch/>
        </p:blipFill>
        <p:spPr>
          <a:xfrm>
            <a:off x="4572000" y="1008000"/>
            <a:ext cx="4572000" cy="5388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44440" y="1415880"/>
            <a:ext cx="3654360" cy="265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polymerní řetězec, vzniklý polymerací</a:t>
            </a:r>
            <a:r>
              <a:rPr b="0" lang="cs-CZ" sz="20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nukleotidů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Nukleotid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=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ccff"/>
                </a:solidFill>
                <a:latin typeface="Arial"/>
              </a:rPr>
              <a:t>báze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eoxyribóza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+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9999"/>
                </a:solidFill>
                <a:latin typeface="Arial"/>
              </a:rPr>
              <a:t>fosfátová sku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38320" y="0"/>
            <a:ext cx="50673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spořádání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HelixChar"/>
          <p:cNvPicPr/>
          <p:nvPr/>
        </p:nvPicPr>
        <p:blipFill>
          <a:blip r:embed="rId1"/>
          <a:stretch/>
        </p:blipFill>
        <p:spPr>
          <a:xfrm>
            <a:off x="366840" y="1879560"/>
            <a:ext cx="8410320" cy="4978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147600" y="785880"/>
            <a:ext cx="884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NA je v buňkách ve formě dimeru tvořeného antiparalelně uspořádanými řetězci s komplementárním bázovým složen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5"/>
          <p:cNvGrpSpPr/>
          <p:nvPr/>
        </p:nvGrpSpPr>
        <p:grpSpPr>
          <a:xfrm>
            <a:off x="1392120" y="4334040"/>
            <a:ext cx="4886280" cy="1952640"/>
            <a:chOff x="1392120" y="4334040"/>
            <a:chExt cx="4886280" cy="1952640"/>
          </a:xfrm>
        </p:grpSpPr>
        <p:graphicFrame>
          <p:nvGraphicFramePr>
            <p:cNvPr id="76" name="Object 6"/>
            <p:cNvGraphicFramePr/>
            <p:nvPr/>
          </p:nvGraphicFramePr>
          <p:xfrm>
            <a:off x="3559320" y="4334040"/>
            <a:ext cx="2719080" cy="195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7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9320" y="4334040"/>
                      <a:ext cx="2719080" cy="1952640"/>
                    </a:xfrm>
                    <a:prstGeom prst="rect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8" name="Rectangle 7"/>
            <p:cNvSpPr/>
            <p:nvPr/>
          </p:nvSpPr>
          <p:spPr>
            <a:xfrm>
              <a:off x="1392120" y="4600440"/>
              <a:ext cx="1292400" cy="449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8"/>
            <p:cNvSpPr/>
            <p:nvPr/>
          </p:nvSpPr>
          <p:spPr>
            <a:xfrm flipV="1">
              <a:off x="1392120" y="4334040"/>
              <a:ext cx="2167200" cy="2664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392120" y="5049720"/>
              <a:ext cx="2167200" cy="12369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76280" y="196560"/>
            <a:ext cx="819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sah buněčné genetické inform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47600" y="1047600"/>
            <a:ext cx="884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Kompletní genetická informace organismu = </a:t>
            </a:r>
            <a:r>
              <a:rPr b="1" lang="cs-CZ" sz="2400" spc="-1" strike="noStrike">
                <a:solidFill>
                  <a:srgbClr val="fef2a8"/>
                </a:solidFill>
                <a:latin typeface="Arial"/>
              </a:rPr>
              <a:t>gen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Genom obsahuje typicky jednotky tisíc genů. Existují však i primitivní bakterie s méně než 100 ge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Eukaryota: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Desetitisíce až statisíce genů v genomu. Primitivní eukaryota nemají o mnoho více genů než nejlépe geneticky vybavená prokaryo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(kvasinka </a:t>
            </a: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Saccharomy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ef2a8"/>
                </a:solidFill>
                <a:latin typeface="Arial"/>
              </a:rPr>
              <a:t>cerevisiae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má 6 tisíc genů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95520" y="2738520"/>
            <a:ext cx="2409840" cy="69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7270" r="0" b="8482"/>
          <a:stretch/>
        </p:blipFill>
        <p:spPr>
          <a:xfrm>
            <a:off x="4572000" y="4498920"/>
            <a:ext cx="32418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98480" y="333000"/>
            <a:ext cx="327672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g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3" descr="sekvence_genu_lidskeho_betaglobinu"/>
          <p:cNvPicPr/>
          <p:nvPr/>
        </p:nvPicPr>
        <p:blipFill>
          <a:blip r:embed="rId1"/>
          <a:stretch/>
        </p:blipFill>
        <p:spPr>
          <a:xfrm>
            <a:off x="5148360" y="0"/>
            <a:ext cx="24289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gene_structure"/>
          <p:cNvPicPr/>
          <p:nvPr/>
        </p:nvPicPr>
        <p:blipFill>
          <a:blip r:embed="rId2"/>
          <a:stretch/>
        </p:blipFill>
        <p:spPr>
          <a:xfrm>
            <a:off x="0" y="3429000"/>
            <a:ext cx="48988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c1c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6280" y="-360"/>
            <a:ext cx="819144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Uložení DNA v buň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47600" y="901800"/>
            <a:ext cx="884880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Genom 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pro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uložen v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jediné molekule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á je cyklická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V případě </a:t>
            </a:r>
            <a:r>
              <a:rPr b="0" lang="en-US" sz="2400" spc="-1" strike="noStrike" u="sng">
                <a:solidFill>
                  <a:srgbClr val="fef2a8"/>
                </a:solidFill>
                <a:uFillTx/>
                <a:latin typeface="Arial"/>
              </a:rPr>
              <a:t>eu</a:t>
            </a:r>
            <a:r>
              <a:rPr b="0" lang="cs-CZ" sz="2400" spc="-1" strike="noStrike" u="sng">
                <a:solidFill>
                  <a:srgbClr val="fef2a8"/>
                </a:solidFill>
                <a:uFillTx/>
                <a:latin typeface="Arial"/>
              </a:rPr>
              <a:t>karyot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 je genom představová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adou molekul DNA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, které jsou základem jednotlivých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osomů</a:t>
            </a: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Například somatické (nepohlavní) lidské buňky obsahují dvě sady po 23 chromosomech. V každém chromosomu je DNA o délce kolem 10 c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Délka a počet DNA molekul v jádře vylučuje jejich volné uložení. Proto dochází k několikastupňové organizaci. Ta je maximální při přípravě pro buněčné dělení, kdy jsou zformovány chromosomy. Při ostatních životních fázích buňky dochází k částečnému rozvolně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ef2a8"/>
                </a:solidFill>
                <a:latin typeface="Arial"/>
              </a:rPr>
              <a:t>struktura DNA + podpůrné proteiny =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hrom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5:19:59Z</dcterms:created>
  <dc:creator>OFB</dc:creator>
  <dc:description/>
  <dc:language>en-US</dc:language>
  <cp:lastModifiedBy>ucitel</cp:lastModifiedBy>
  <dcterms:modified xsi:type="dcterms:W3CDTF">2011-04-29T06:01:04Z</dcterms:modified>
  <cp:revision>64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