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png" ContentType="image/png"/>
  <Override PartName="/ppt/media/image25.png" ContentType="image/png"/>
  <Override PartName="/ppt/media/image2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45.jpeg" ContentType="image/jpeg"/>
  <Override PartName="/ppt/media/image24.png" ContentType="image/png"/>
  <Override PartName="/ppt/media/image11.jpeg" ContentType="image/jpeg"/>
  <Override PartName="/ppt/media/image33.wmf" ContentType="image/x-wmf"/>
  <Override PartName="/ppt/media/image34.png" ContentType="image/png"/>
  <Override PartName="/ppt/media/image37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31.wmf" ContentType="image/x-wmf"/>
  <Override PartName="/ppt/media/image44.png" ContentType="image/png"/>
  <Override PartName="/ppt/media/image4.wmf" ContentType="image/x-wmf"/>
  <Override PartName="/ppt/media/image32.wmf" ContentType="image/x-wmf"/>
  <Override PartName="/ppt/media/image7.wmf" ContentType="image/x-wmf"/>
  <Override PartName="/ppt/media/image46.jpeg" ContentType="image/jpeg"/>
  <Override PartName="/ppt/media/image35.wmf" ContentType="image/x-wmf"/>
  <Override PartName="/ppt/media/image47.wmf" ContentType="image/x-wmf"/>
  <Override PartName="/ppt/media/image12.wmf" ContentType="image/x-wmf"/>
  <Override PartName="/ppt/media/image27.png" ContentType="image/png"/>
  <Override PartName="/ppt/media/image41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0.png" ContentType="image/png"/>
  <Override PartName="/ppt/media/image3.jpeg" ContentType="image/jpeg"/>
  <Override PartName="/ppt/media/image30.png" ContentType="image/png"/>
  <Override PartName="/ppt/media/image28.wmf" ContentType="image/x-wmf"/>
  <Override PartName="/ppt/media/image36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802-8AD3-457A-B98F-9D95D973E1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C164-02A2-4F6A-88A5-4B10FFFB2651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D26-38F4-468F-B171-1957208D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BF5-A7A1-414A-B76B-54405F4B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610-3372-4DD0-936A-9E0FC7DB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D40-A237-434E-AC41-EDC8538F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670-8A9D-41E4-8131-61D97AE6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9688-3E91-47A8-839B-9D154B5A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82BB-B658-4379-8E40-1B1ED82A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9C6C-714C-4965-A218-E1D9E29E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A30D-4C1F-451B-88D1-2205E00B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1DF1-5F7E-46FE-A821-6348EA96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F396-68F3-434B-B2BF-E51D046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AF9-8C11-45C7-9CEC-0A67D6BF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83BC-F746-4DF7-B94A-9BC7D16C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2B84-2965-4F29-8C64-5F3BC700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A959-45B5-4CC9-A906-3D28D14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B07-7E03-4140-A8BA-AA226F5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DFBF-E2B0-497B-883A-1C47D283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9BA-A184-4142-8E6A-FA12C444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7F06-EC56-449F-A575-B824235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E5A-60C7-410D-B3EC-98DE31A5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59B-E2A1-453B-83E3-6EC64C9D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F0F-8CB0-4111-B12F-D04EB57E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B43-EFE9-4B76-A4C9-F505B9F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764-F2C1-4DCA-A065-C4CDD3C9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FD21-15F3-4586-B308-F9952B1BFE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318-8221-449B-994C-E00E3BF345B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239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adsorpce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8" descr="C:\Documents and Settings\Sopoušek\Dokumenty\Obrázky\Adsorpce\images adsorpce fyzikální.jpg"/>
          <p:cNvPicPr/>
          <p:nvPr/>
        </p:nvPicPr>
        <p:blipFill>
          <a:blip r:embed="rId1"/>
          <a:stretch/>
        </p:blipFill>
        <p:spPr>
          <a:xfrm>
            <a:off x="533520" y="2438280"/>
            <a:ext cx="48006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15328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termy pro disociativní adsorpci a koadsorpci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914400" y="1052640"/>
            <a:ext cx="7086600" cy="5805360"/>
          </a:xfrm>
          <a:prstGeom prst="rect">
            <a:avLst/>
          </a:prstGeom>
          <a:ln w="0">
            <a:noFill/>
          </a:ln>
        </p:spPr>
      </p:pic>
      <p:sp>
        <p:nvSpPr>
          <p:cNvPr id="173" name="TextovéPole 1"/>
          <p:cNvSpPr/>
          <p:nvPr/>
        </p:nvSpPr>
        <p:spPr>
          <a:xfrm>
            <a:off x="4859280" y="39546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Vede to k řešení kvadratické rovn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4" name="Přímá spojnice se šipkou 2"/>
          <p:cNvCxnSpPr/>
          <p:nvPr/>
        </p:nvCxnSpPr>
        <p:spPr>
          <a:xfrm>
            <a:off x="2627280" y="2276640"/>
            <a:ext cx="937440" cy="505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084720" y="4478400"/>
            <a:ext cx="2372040" cy="11826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3"/>
          <p:cNvSpPr/>
          <p:nvPr/>
        </p:nvSpPr>
        <p:spPr>
          <a:xfrm>
            <a:off x="6659640" y="5516640"/>
            <a:ext cx="2232000" cy="60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Linearizace a m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Viz nedisoc. isoterm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disociativní ko-adsorpce dvou a více látek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851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84582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3"/>
          <a:stretch/>
        </p:blipFill>
        <p:spPr>
          <a:xfrm>
            <a:off x="7280280" y="2963880"/>
            <a:ext cx="1131840" cy="26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8443800" y="2968560"/>
            <a:ext cx="398520" cy="255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www.circle4.com/nelson/nelgifs/lazeo.gif"/>
          <p:cNvPicPr/>
          <p:nvPr/>
        </p:nvPicPr>
        <p:blipFill>
          <a:blip r:embed="rId5"/>
          <a:stretch/>
        </p:blipFill>
        <p:spPr>
          <a:xfrm>
            <a:off x="4676760" y="2781360"/>
            <a:ext cx="2354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2082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http://upload.wikimedia.org/wikipedia/commons/thumb/0/0b/Langmuir_izoterma.png/800px-Langmuir_izoterma.png"/>
          <p:cNvPicPr/>
          <p:nvPr/>
        </p:nvPicPr>
        <p:blipFill>
          <a:blip r:embed="rId2"/>
          <a:stretch/>
        </p:blipFill>
        <p:spPr>
          <a:xfrm>
            <a:off x="611280" y="4653000"/>
            <a:ext cx="3605040" cy="1293840"/>
          </a:xfrm>
          <a:prstGeom prst="rect">
            <a:avLst/>
          </a:prstGeom>
          <a:ln w="0">
            <a:noFill/>
          </a:ln>
        </p:spPr>
      </p:pic>
      <p:sp>
        <p:nvSpPr>
          <p:cNvPr id="186" name="TextovéPole 1"/>
          <p:cNvSpPr/>
          <p:nvPr/>
        </p:nvSpPr>
        <p:spPr>
          <a:xfrm>
            <a:off x="587880" y="60930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inglelayer 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=1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Izoterma BET – vícevrstvá adsorp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0" y="992160"/>
            <a:ext cx="9144000" cy="539100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0" y="2133720"/>
            <a:ext cx="8964720" cy="79056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763120" cy="6485040"/>
          </a:xfrm>
          <a:prstGeom prst="rect">
            <a:avLst/>
          </a:prstGeom>
          <a:ln w="0">
            <a:noFill/>
          </a:ln>
        </p:spPr>
      </p:pic>
      <p:sp>
        <p:nvSpPr>
          <p:cNvPr id="192" name="Přímá spojnice 2"/>
          <p:cNvSpPr/>
          <p:nvPr/>
        </p:nvSpPr>
        <p:spPr>
          <a:xfrm>
            <a:off x="971640" y="944640"/>
            <a:ext cx="1439640" cy="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římá spojnice 5"/>
          <p:cNvSpPr/>
          <p:nvPr/>
        </p:nvSpPr>
        <p:spPr>
          <a:xfrm>
            <a:off x="826920" y="4149720"/>
            <a:ext cx="3168720" cy="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6"/>
          <p:cNvSpPr/>
          <p:nvPr/>
        </p:nvSpPr>
        <p:spPr>
          <a:xfrm>
            <a:off x="473040" y="450684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tvorby mono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8"/>
          <p:cNvSpPr/>
          <p:nvPr/>
        </p:nvSpPr>
        <p:spPr>
          <a:xfrm>
            <a:off x="3635280" y="449568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Times New Roman"/>
              </a:rPr>
              <a:t>Rychlost zániku bivrstv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ovéPole 1"/>
          <p:cNvSpPr/>
          <p:nvPr/>
        </p:nvSpPr>
        <p:spPr>
          <a:xfrm>
            <a:off x="250920" y="120960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adsorpce na volný povrch =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ovéPole 7"/>
          <p:cNvSpPr/>
          <p:nvPr/>
        </p:nvSpPr>
        <p:spPr>
          <a:xfrm>
            <a:off x="2987640" y="1228680"/>
            <a:ext cx="302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desorpce z monovrstvy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Heterogenní 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1029" descr=""/>
          <p:cNvPicPr/>
          <p:nvPr/>
        </p:nvPicPr>
        <p:blipFill>
          <a:blip r:embed="rId1"/>
          <a:stretch/>
        </p:blipFill>
        <p:spPr>
          <a:xfrm>
            <a:off x="152280" y="1093680"/>
            <a:ext cx="8763120" cy="1689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32" descr="C:\Documents and Settings\Sopoušek\Dokumenty\Obrázky\Adsorpce\Adsorpce energy.png"/>
          <p:cNvPicPr/>
          <p:nvPr/>
        </p:nvPicPr>
        <p:blipFill>
          <a:blip r:embed="rId2"/>
          <a:stretch/>
        </p:blipFill>
        <p:spPr>
          <a:xfrm>
            <a:off x="685800" y="2971800"/>
            <a:ext cx="569124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616104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1"/>
          <p:cNvSpPr/>
          <p:nvPr/>
        </p:nvSpPr>
        <p:spPr>
          <a:xfrm>
            <a:off x="6804000" y="4656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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7639200" y="1550880"/>
            <a:ext cx="857160" cy="352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8421840" y="1609560"/>
            <a:ext cx="4507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7631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28600" y="576360"/>
            <a:ext cx="8686800" cy="606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996840"/>
            <a:ext cx="84582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8188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C:\Documents and Settings\Sopoušek\Dokumenty\Obrázky\Adsorpce\BET.jpg"/>
          <p:cNvPicPr/>
          <p:nvPr/>
        </p:nvPicPr>
        <p:blipFill>
          <a:blip r:embed="rId1"/>
          <a:stretch/>
        </p:blipFill>
        <p:spPr>
          <a:xfrm>
            <a:off x="324000" y="838080"/>
            <a:ext cx="4452840" cy="6019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C:\Documents and Settings\Sopoušek\Dokumenty\Obrázky\Adsorpce\Adsorpce N2 gas.jpg"/>
          <p:cNvPicPr/>
          <p:nvPr/>
        </p:nvPicPr>
        <p:blipFill>
          <a:blip r:embed="rId2"/>
          <a:stretch/>
        </p:blipFill>
        <p:spPr>
          <a:xfrm>
            <a:off x="5292720" y="1773360"/>
            <a:ext cx="324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534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98320" y="760320"/>
            <a:ext cx="794736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dsorpční rovnováh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839080" cy="1414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1450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Documents and Settings\Sopoušek\Dokumenty\Obrázky\Adsorpce\adsorpce.bmp"/>
          <p:cNvPicPr/>
          <p:nvPr/>
        </p:nvPicPr>
        <p:blipFill>
          <a:blip r:embed="rId3"/>
          <a:stretch/>
        </p:blipFill>
        <p:spPr>
          <a:xfrm>
            <a:off x="304920" y="4648320"/>
            <a:ext cx="208440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Sopoušek\Dokumenty\Obrázky\Adsorpce\Heterogeneous-catalysis.jpg"/>
          <p:cNvPicPr/>
          <p:nvPr/>
        </p:nvPicPr>
        <p:blipFill>
          <a:blip r:embed="rId4"/>
          <a:stretch/>
        </p:blipFill>
        <p:spPr>
          <a:xfrm>
            <a:off x="2895480" y="3505320"/>
            <a:ext cx="579132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4087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Sopoušek\Dokumenty\Obrázky\Adsorpce\catalysis heterogen.jpg"/>
          <p:cNvPicPr/>
          <p:nvPr/>
        </p:nvPicPr>
        <p:blipFill>
          <a:blip r:embed="rId2"/>
          <a:stretch/>
        </p:blipFill>
        <p:spPr>
          <a:xfrm>
            <a:off x="4724280" y="4343400"/>
            <a:ext cx="30481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angmuirova adsorpční izoterm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534520" cy="215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28600" y="2970360"/>
            <a:ext cx="861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458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3:23:15Z</dcterms:modified>
  <cp:revision>151</cp:revision>
  <dc:subject/>
  <dc:title>C6730 Fázové rovnováhy</dc:title>
</cp:coreProperties>
</file>