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736-C113-4FF4-8C8B-2B867AC6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EC3-F898-4152-9E8D-E0802863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83B-70A5-4AFE-9B5A-913705EC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74D-7BBF-4C69-B1B6-A6D3473A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4E8-494F-4AA1-A6E6-1D83B44F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2A6-6296-489F-A3F5-24DF704E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2D5-3118-40B4-BAAF-8236E867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68E-E360-415C-8D07-4FEBECF0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E7D-DA01-4DA9-A62B-64EBB2AD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FA0-4755-48B9-8401-6C23E65F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81E-CBB4-4AFC-96A3-40B36A26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8EA-EA7F-4A98-87FE-C93B8653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8A1B-E578-44CD-82E7-C1F7EDCFE6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4" descr="http://www.chemguide.co.uk/physical/basicrates/reqnab1.gif"/>
          <p:cNvPicPr/>
          <p:nvPr/>
        </p:nvPicPr>
        <p:blipFill>
          <a:blip r:embed="rId1"/>
          <a:stretch/>
        </p:blipFill>
        <p:spPr>
          <a:xfrm>
            <a:off x="344520" y="1197000"/>
            <a:ext cx="615456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6" descr="http://img.youtube.com/vi/nZiOyVElo-s/0.jpg"/>
          <p:cNvPicPr/>
          <p:nvPr/>
        </p:nvPicPr>
        <p:blipFill>
          <a:blip r:embed="rId2"/>
          <a:stretch/>
        </p:blipFill>
        <p:spPr>
          <a:xfrm>
            <a:off x="4427640" y="400536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48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56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3:15:18Z</dcterms:modified>
  <cp:revision>103</cp:revision>
  <dc:subject/>
  <dc:title>Soustava</dc:title>
</cp:coreProperties>
</file>