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487-93E0-4EAB-ADF6-DA3D405B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9DA-CA32-41C0-ABC2-3EA6582C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94C-A055-4676-978B-A45348D0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BD4-5CEF-46D7-999C-693D3173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6F3-BD98-4EE1-84F2-E60E7382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2FD-43F7-44AB-8AD6-54350854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43B-4D5C-46C7-B6F3-5E4621D7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E72-E615-45BB-B402-43CC7172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D5C-F544-4C24-99DC-A9F8F933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B81-E937-4721-A6D2-000F4DD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6E6-B398-4C2A-AC10-8EC57FED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20F-64B4-4453-987A-08A87F5A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DA01-632C-421E-95D5-FDFA2FC085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3:15:18Z</dcterms:modified>
  <cp:revision>103</cp:revision>
  <dc:subject/>
  <dc:title>Soustava</dc:title>
</cp:coreProperties>
</file>