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1.jpeg" ContentType="image/jpeg"/>
  <Override PartName="/ppt/media/image29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64E-51AC-44BB-AC27-71057191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A26-366F-46DE-BC9F-1C9BAA3F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2D2-7085-4707-A3B4-E68FFA99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6E4-C166-4DA6-AAEA-AA73A74D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630-8F7F-4085-8534-D9C8AAB7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AD7-8CFF-4B72-9D1F-DD2E8E17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520-9E75-44A4-9E07-9FDACE83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924-857B-4EC5-8900-86AC3B6D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8EB-BFB9-4B4B-8668-6C7043EE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D7B-5270-4213-9292-247ECBF0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838-21A4-4193-B3C7-686E7BC9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CE9-F59B-4257-B199-D2333AF4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7832-630D-41C3-B73B-CAF8602D09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31258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xtovéPole 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979560" y="6093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konverze v jednotce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3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2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extovéPole 1" descr=""/>
          <p:cNvPicPr/>
          <p:nvPr/>
        </p:nvPicPr>
        <p:blipFill>
          <a:blip r:embed="rId4"/>
          <a:stretch/>
        </p:blipFill>
        <p:spPr>
          <a:xfrm>
            <a:off x="4395960" y="3438360"/>
            <a:ext cx="49356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55584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2"/>
          <p:cNvSpPr/>
          <p:nvPr/>
        </p:nvSpPr>
        <p:spPr>
          <a:xfrm>
            <a:off x="4643280" y="1916280"/>
            <a:ext cx="396108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ze zvolené výchozí hodnoty A na hodnotu ½ 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16T12:58:26Z</dcterms:modified>
  <cp:revision>124</cp:revision>
  <dc:subject/>
  <dc:title>Soustava</dc:title>
</cp:coreProperties>
</file>