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34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32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36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42B8-E855-4355-B056-AA1A04879F0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5979-9A68-441E-81CD-BC20D3E893FB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3415-72BC-4084-BCC7-1E06E081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0F40-D1A0-473D-B4B3-FC5FD1D6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230-96C1-4847-B46A-BE541112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F42-DD88-4248-8C2F-DCBC9079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5983-140A-4C9A-AC44-FD498559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B125-9906-4FEE-940D-AE8CA052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1626-8F00-4623-B91A-5E567C65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D25B-2C1E-411D-A50C-06B73C67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A7C3-9739-41ED-B225-3015E8DD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A644-D25C-4852-8E67-56E9E99B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E87B-5D1D-4DE4-9B04-DF073434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EBB-1D2B-4502-8CBA-85629EC0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6E28-0A3F-47AC-9505-14742219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1831-898A-4A80-A981-2B901D6A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64F5-789B-4914-8F64-22376FE4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CC77-8060-455B-B201-DCD815F8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B6A6-C4F5-432D-A4CF-180F64C4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AA75-F814-4BDF-BED8-CB26914D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CDB-A7B2-4D94-AA53-89194206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081-B4CF-47B8-87A4-15FDA1FF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2E4-BFCC-4BE8-A77F-686BEB7B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FF59-CF0A-4BB4-A997-A184D9FD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9CF-9BF7-41FB-A2B6-578C6DA0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0CC-9691-41A8-8719-36DF17FD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50F4-25A9-472B-93E1-44504B2FD38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25BD-46E8-4855-91B5-FF229DA3ACAD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407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ermodynamika chemických reakcí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49" name="Picture 4" descr="C:\Documents and Settings\Sopoušek\Dokumenty\Obrázky\Chemické reakce\reakce barevná.bmp"/>
          <p:cNvPicPr/>
          <p:nvPr/>
        </p:nvPicPr>
        <p:blipFill>
          <a:blip r:embed="rId1"/>
          <a:stretch/>
        </p:blipFill>
        <p:spPr>
          <a:xfrm>
            <a:off x="4114800" y="2286000"/>
            <a:ext cx="41148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094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Rozdělení reakcí (jeden z pohledů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304920" y="744480"/>
            <a:ext cx="883908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0" name="Picture 4" descr="C:\Documents and Settings\Sopoušek\Dokumenty\Obrázky\Chemické reakce\reakce ch4+H2o.gif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454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Documents and Settings\Sopoušek\Dokumenty\Obrázky\Chemické reakce\H2_O2.gif"/>
          <p:cNvPicPr/>
          <p:nvPr/>
        </p:nvPicPr>
        <p:blipFill>
          <a:blip r:embed="rId2"/>
          <a:stretch/>
        </p:blipFill>
        <p:spPr>
          <a:xfrm>
            <a:off x="56386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324480" y="12952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Odpovídají reakční rovnice skutečnosti? Najdi chybu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02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Termodynamické důvody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Samovolné procesy jsou provázeny růstem entropie (vysvětlení viz lit.: Olmsted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Entropii čistých látek i sloučenin lze vypočítat z 3.V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Pro uzavřené soustavy s konst. P a T je kriteriem Gibbsova energi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66"/>
                </a:solidFill>
                <a:latin typeface="Arial"/>
              </a:rPr>
              <a:t>Pro uzavřené soustavy s konst. V a T je kriteriem Helmholzova energie  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5"/>
          <a:stretch/>
        </p:blipFill>
        <p:spPr>
          <a:xfrm>
            <a:off x="6172200" y="3882960"/>
            <a:ext cx="2454120" cy="461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5943600" y="5105520"/>
            <a:ext cx="25909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92160"/>
            <a:ext cx="693432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Jak se mění Gibbsova energie při chemické reakci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3322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914400" y="1066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apř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2133720" cy="103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7791480" cy="55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2361960" cy="10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2438280" y="6095880"/>
            <a:ext cx="1184400" cy="532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380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 rovnováz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3548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2895480" y="990720"/>
                <a:ext cx="18288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Picture 15" descr=""/>
          <p:cNvPicPr/>
          <p:nvPr/>
        </p:nvPicPr>
        <p:blipFill>
          <a:blip r:embed="rId5"/>
          <a:stretch/>
        </p:blipFill>
        <p:spPr>
          <a:xfrm>
            <a:off x="5486400" y="838080"/>
            <a:ext cx="3429000" cy="3408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228600" y="1981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Rozsah reak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1371600" cy="42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7"/>
          <a:stretch/>
        </p:blipFill>
        <p:spPr>
          <a:xfrm>
            <a:off x="457200" y="2819520"/>
            <a:ext cx="1295280" cy="4521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9"/>
          <p:cNvSpPr/>
          <p:nvPr/>
        </p:nvSpPr>
        <p:spPr>
          <a:xfrm>
            <a:off x="4114800" y="52578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Chemické reakce způsobuje snaha o snížení G soustavy (integr. podmínka), látky reagují tak dlouho až dojde k vyrovnání chemického potenciálu (dif. podm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350532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8"/>
          <a:stretch/>
        </p:blipFill>
        <p:spPr>
          <a:xfrm>
            <a:off x="2514600" y="1752480"/>
            <a:ext cx="2590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Reakční Gibbsova energie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890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173760" y="1066680"/>
            <a:ext cx="2200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+3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2 N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371600" cy="690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0" y="26668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Obecný matematický zápi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3809880" cy="843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4"/>
          <a:stretch/>
        </p:blipFill>
        <p:spPr>
          <a:xfrm>
            <a:off x="6019920" y="3429000"/>
            <a:ext cx="2286000" cy="873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47242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Nebo-li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5"/>
          <a:stretch/>
        </p:blipFill>
        <p:spPr>
          <a:xfrm>
            <a:off x="609480" y="5013360"/>
            <a:ext cx="2971800" cy="744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8862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6"/>
          <a:stretch/>
        </p:blipFill>
        <p:spPr>
          <a:xfrm>
            <a:off x="4800600" y="4952880"/>
            <a:ext cx="914400" cy="641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66294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Např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125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3745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5943600" y="5562720"/>
                <a:ext cx="25797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≃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Text Box 20"/>
          <p:cNvSpPr/>
          <p:nvPr/>
        </p:nvSpPr>
        <p:spPr>
          <a:xfrm>
            <a:off x="533520" y="5943600"/>
            <a:ext cx="487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Reakce běží dokud Q nedosáhne rovnovážné hodnoty (K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Změny termodynamických funkcí a samovolnos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04920" y="24242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izké teploty: převládá entalpický příspěve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ysoké teploty: převládá entropický příspěvek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360" y="-3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abilita sádrov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74040"/>
            <a:ext cx="7259760" cy="94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Výpočty reakčních termodynamických funkcí: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7239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Z tvorných Gibbsových energií reaktantů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04920" y="29718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Analogicky pro entalpii a entropii: …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960" y="190080"/>
            <a:ext cx="7621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Efektivita buňk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920" y="1981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Prostá oxidace glukózy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91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1) Celková reakce v buň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3) Přeměna 36 ADP na 36 AT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99072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Celkový efekt kombinace reakcí v buňce (2) a (3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09480" y="52578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ýsledek: ačkoliv 1100kJ je uloženo do ATP , zbytek (tj. 1770kJ) se nevyužije a přemění se v tepelný pohyb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Tj. účinnost buňky je 38%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635040"/>
            <a:ext cx="74055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ákladní vztah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7621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Možný efekt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2860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V rovnov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2-17T08:47:41Z</dcterms:modified>
  <cp:revision>53</cp:revision>
  <dc:subject/>
  <dc:title>C6730 Fázové rovnováhy</dc:title>
</cp:coreProperties>
</file>