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2538E-A93F-40BF-86AB-D718F96C9F8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563B9-F360-40D9-B48E-01C174D23B2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61A4-2570-45FB-8325-278FC3540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7296-ED7B-46C0-B0F0-BBF0E3BE1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2878-0AC4-4D03-BECC-222331436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2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0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4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2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0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C8F3-9997-4181-B186-898191DD5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29940-CD06-4E9C-B6A9-A07086851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33496-C504-4EB1-BA99-862484E5B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74C14-9598-467C-B6DC-4EA6BC4F4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68AC6-E15A-4211-A497-6FA2EC24E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284AD-41A8-47E2-876A-D899205B1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4000" y="609120"/>
            <a:ext cx="8078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576A2-ABF0-4DCF-A5F8-50F9DDEFA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4FE7F-F87F-4C5C-8030-DD91D61B2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7205-7CA3-4261-997D-7AE205161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7859D-911D-4ECC-9E15-32F6E4700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BDFCA-FB45-4988-9C6B-1CA232EF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0CE21-6071-4750-9C7B-264B87845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7BA74-D7BB-459A-BE79-BFFA11006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2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0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4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2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0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A3AF8-6E3F-41F5-872E-AC624911D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57C4-40DD-4825-93AF-9506E7549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14F3-4048-4CC0-9D73-83B17A6DA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907C-B44F-4432-A497-DAA6771F7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4000" y="609120"/>
            <a:ext cx="8078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1660-25DA-458F-96F7-7C99F1BB8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FFE8-E1EA-49B5-AAA8-E4D8C5D1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D145-EB7B-495B-A8E7-F8776A88A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2EA9-E5DD-40B1-944A-56F01BAE3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2f5e76"/>
                </a:gs>
                <a:gs pos="100000">
                  <a:srgbClr val="66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66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4000" y="6365880"/>
            <a:ext cx="4267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52DC6-D7FC-4808-944B-49E6DFD85E5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2f5e76"/>
                </a:gs>
                <a:gs pos="100000">
                  <a:srgbClr val="66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7758000" y="1463760"/>
              <a:ext cx="13452480" cy="1079496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66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40F5A-7ADC-4856-BDB0-461168B8EF1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Haber-Boshova syntéza amoniaku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(aneb počátek blahobytu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dkazy na 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obelova cena (http://www.jergym.hiedu.cz/~canovm/mechanic/pravidl2/haber/haber.html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imace výroby NH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ovnice: http://dl.cuni.cz/cuni/mod/resource/view.php?id=9459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alší odkazy na významné reakce organických chemik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ttp://www.jergym.hiedu.cz/~canovm/mechanic/pravidl2.html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moni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6000"/>
          </a:bodyPr>
          <a:p>
            <a:pPr marL="329040" indent="-32904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lastní syntéza amoniaku ze syntézní směsi N2 a H2 probíhá katalytickou reakcí při vysokém tlaku a teplotě (20-100 kPa, 500) podle rovnice: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2 + 3H2 --------&gt; 2 NH3 + 46,05 kJ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robený amoniak může být používán k přímému hnojení, nebo je výchozí surovinou pro výrobu kyseliny dusičné, ledků, močoviny, N roztoků, vícesložkových hnojiv.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roba dusíkatých hnojiv je energeticky náročná. Na výrobu 1 kg čistého N v hnojivu je zapotřebí podle druhu použité technologie 1,5 i více litrů nafty.</a:t>
            </a:r>
            <a:br>
              <a:rPr sz="2000"/>
            </a:br>
            <a:br>
              <a:rPr sz="2000"/>
            </a:b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0000" y="357120"/>
            <a:ext cx="8078760" cy="65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ákladní vztahy k procvič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Zástupný symbol pro číslo snímku 2"/>
          <p:cNvSpPr/>
          <p:nvPr/>
        </p:nvSpPr>
        <p:spPr>
          <a:xfrm>
            <a:off x="7313760" y="6157800"/>
            <a:ext cx="1904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346A9-CE59-40AD-B91B-F637001141D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6" descr=""/>
          <p:cNvPicPr/>
          <p:nvPr/>
        </p:nvPicPr>
        <p:blipFill>
          <a:blip r:embed="rId1"/>
          <a:stretch/>
        </p:blipFill>
        <p:spPr>
          <a:xfrm>
            <a:off x="190440" y="1225440"/>
            <a:ext cx="3049560" cy="576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2"/>
          <a:stretch/>
        </p:blipFill>
        <p:spPr>
          <a:xfrm>
            <a:off x="3332160" y="1189080"/>
            <a:ext cx="5703840" cy="539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"/>
          <p:cNvPicPr/>
          <p:nvPr/>
        </p:nvPicPr>
        <p:blipFill>
          <a:blip r:embed="rId3"/>
          <a:stretch/>
        </p:blipFill>
        <p:spPr>
          <a:xfrm>
            <a:off x="920880" y="2114640"/>
            <a:ext cx="5400720" cy="1057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"/>
          <p:cNvPicPr/>
          <p:nvPr/>
        </p:nvPicPr>
        <p:blipFill>
          <a:blip r:embed="rId4"/>
          <a:stretch/>
        </p:blipFill>
        <p:spPr>
          <a:xfrm>
            <a:off x="360360" y="4414680"/>
            <a:ext cx="2709720" cy="533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"/>
          <p:cNvPicPr/>
          <p:nvPr/>
        </p:nvPicPr>
        <p:blipFill>
          <a:blip r:embed="rId5"/>
          <a:stretch/>
        </p:blipFill>
        <p:spPr>
          <a:xfrm>
            <a:off x="360360" y="5111640"/>
            <a:ext cx="2871720" cy="4906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" descr=""/>
          <p:cNvPicPr/>
          <p:nvPr/>
        </p:nvPicPr>
        <p:blipFill>
          <a:blip r:embed="rId6"/>
          <a:stretch/>
        </p:blipFill>
        <p:spPr>
          <a:xfrm>
            <a:off x="3332160" y="4948200"/>
            <a:ext cx="2403360" cy="65412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8"/>
          <p:cNvSpPr/>
          <p:nvPr/>
        </p:nvSpPr>
        <p:spPr>
          <a:xfrm>
            <a:off x="268200" y="29736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641880" y="5850000"/>
            <a:ext cx="553896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ih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. Olmsted III, G. M. Williams: Chemistry – The olekular Science, Moshby – Year Book, Inc., 199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13" descr=""/>
          <p:cNvPicPr/>
          <p:nvPr/>
        </p:nvPicPr>
        <p:blipFill>
          <a:blip r:embed="rId7"/>
          <a:stretch/>
        </p:blipFill>
        <p:spPr>
          <a:xfrm>
            <a:off x="4356000" y="4546440"/>
            <a:ext cx="4505400" cy="419400"/>
          </a:xfrm>
          <a:prstGeom prst="rect">
            <a:avLst/>
          </a:prstGeom>
          <a:ln w="0">
            <a:noFill/>
          </a:ln>
        </p:spPr>
      </p:pic>
      <p:sp>
        <p:nvSpPr>
          <p:cNvPr id="111" name="TextovéPole 4"/>
          <p:cNvSpPr/>
          <p:nvPr/>
        </p:nvSpPr>
        <p:spPr>
          <a:xfrm>
            <a:off x="3621240" y="4518000"/>
            <a:ext cx="70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Q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ovéPole 5"/>
          <p:cNvSpPr/>
          <p:nvPr/>
        </p:nvSpPr>
        <p:spPr>
          <a:xfrm>
            <a:off x="6012000" y="4979880"/>
            <a:ext cx="31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oncentrační kvoc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14" descr=""/>
          <p:cNvPicPr/>
          <p:nvPr/>
        </p:nvPicPr>
        <p:blipFill>
          <a:blip r:embed="rId8"/>
          <a:stretch/>
        </p:blipFill>
        <p:spPr>
          <a:xfrm>
            <a:off x="4317840" y="1989000"/>
            <a:ext cx="4581720" cy="24004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5" descr=""/>
          <p:cNvPicPr/>
          <p:nvPr/>
        </p:nvPicPr>
        <p:blipFill>
          <a:blip r:embed="rId9"/>
          <a:stretch/>
        </p:blipFill>
        <p:spPr>
          <a:xfrm>
            <a:off x="104760" y="3306600"/>
            <a:ext cx="442908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Zástupný symbol pro číslo snímku 2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081C6-DACA-4B09-9220-5093A813C5E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826920" y="1484280"/>
            <a:ext cx="458172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Zástupný symbol pro číslo snímku 1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66AE6-F03B-486C-873C-4EA615A77DB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595440" y="260280"/>
            <a:ext cx="7864200" cy="626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opousek</cp:lastModifiedBy>
  <dcterms:modified xsi:type="dcterms:W3CDTF">2016-02-24T14:54:19Z</dcterms:modified>
  <cp:revision>26</cp:revision>
  <dc:subject/>
  <dc:title>Prezentace aplikace PowerPoint</dc:title>
</cp:coreProperties>
</file>