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9BA9-0A92-4BE1-B7F1-B6759EB22DB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3F43-C110-4908-B7AE-FFDB03398FCF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BB1-CAA8-49DC-9987-7503643FD686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3BCB-AB0C-4058-BEFC-0ED6DBE61F7C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4C6F-58E8-4943-8E70-E0E67AE802CA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8B8-9F69-4F64-A450-A55F1443BA8B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551E-9A82-4CE4-BC50-EEE6DA41627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B39-07EA-4D1E-B4C9-7187D7F6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4DD-01AE-4B95-B0CA-6000A17A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3C45-4D55-4E12-AF0C-4D5446AA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3903-F9D8-422A-9BD5-784E9D6F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278-2910-4E89-A15B-9D24A1EC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DC6-6890-45D1-97D3-AD69970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4F4-8F9A-483E-846B-0018E01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E088-B9E7-4CFE-8120-6090D764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5A6-DBDC-4367-AC9C-69763745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6933-7A2E-42A6-B24E-48F65582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91D-D1B5-4E5B-B1F3-4336E4F2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709-196E-4496-B953-DA047EAE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37E9-A89F-4931-AFC9-FA229129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1840-EAED-4E67-B91F-F776008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DBCA-E8A5-4E14-AE1E-12FFC5FA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FB14-2948-4A46-98BA-19FE2C7D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3277-DC68-4B24-BE42-0F7BE254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E24-D3F3-4DA3-82D2-D7C94CD8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D954-59BF-4C12-BCDE-4627D128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65B-8E03-4C50-AB2C-159DD554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077-2B13-4B3F-9AA9-4E59CDF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F6F-9865-473E-99C9-CE7E376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FF4-20FD-4183-91AB-6944512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D4D-6077-4919-B62F-287FD66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1A5-FB18-4638-A368-2AA3918EE889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7990-1263-4645-8ADE-7D3D57994C2F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ká kinetika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Historie chemické kinetiky</a:t>
            </a:r>
            <a:br>
              <a:rPr sz="4400"/>
            </a:b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s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/([A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1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B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 rychlost zpětné reakce je úměrná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r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[S]</a:t>
            </a:r>
            <a:r>
              <a:rPr b="0" lang="cs-CZ" sz="2000" spc="-1" strike="noStrike" baseline="30000">
                <a:solidFill>
                  <a:srgbClr val="003366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analyzovali reakci mezi H2O2 a HI a mezi KMnO4 a (COOH)2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.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Uvedli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dále analyzoval teplotní závislost reakční rychlosti a zjistil, že lépe odpovídá vzta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 = A exp (-B / t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3366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1912 Mentenová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tala se profesorkou v 79-ti letech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cture 2" descr="http://1.bp.blogspot.com/-7DSc73P4M_Q/VQs6mrwwwdI/AAAAAAAABHY/dUGD7b9EDGU/s1600/menten.gif"/>
          <p:cNvPicPr/>
          <p:nvPr/>
        </p:nvPicPr>
        <p:blipFill>
          <a:blip r:embed="rId1"/>
          <a:stretch/>
        </p:blipFill>
        <p:spPr>
          <a:xfrm>
            <a:off x="5692680" y="1700280"/>
            <a:ext cx="2735280" cy="4268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s://acsundergrad.files.wordpress.com/2012/07/menten-and-michaelis.jpg"/>
          <p:cNvPicPr/>
          <p:nvPr/>
        </p:nvPicPr>
        <p:blipFill>
          <a:blip r:embed="rId2"/>
          <a:stretch/>
        </p:blipFill>
        <p:spPr>
          <a:xfrm>
            <a:off x="493236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306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366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ca 1890 J. Willard Gibbs (US): Shrnutí termodynamik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Shrnutí poznatků z histori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44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Řada pojmů a představ se kterými se setkáváme v chemické kinetice je již dlouho známých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imes New Roman"/>
              </a:rPr>
              <a:t>Moderní kinetika je interdisciplinární (biochemická kinetika, molekulová dynamika , kvantová chemi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http://jchemed.chem.wisc.edu/JCEWWW/Features/eChemists/Bios/Menten.htm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5:18:40Z</dcterms:modified>
  <cp:revision>32</cp:revision>
  <dc:subject/>
  <dc:title>Prezentace aplikace PowerPoint</dc:title>
</cp:coreProperties>
</file>