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1FA2-3A63-42E0-9798-DA834311E1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B91B-CAA2-4CAF-A503-B2B9B8491AB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00C8-6F3C-47AF-A3B3-8D28AE71E2F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D1B3-B7F3-42C1-A010-C8A33D67F9C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F90C-E453-4CDB-BB43-E1B22DB8CCC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2166-5F45-4806-BD13-A12BE19FD16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48D-B09B-44E8-B268-8DA99377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D12-C092-460D-A9D3-9625D69F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94807-9EBB-49E6-9227-CB7C007C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532A8-02DB-4240-BF6A-C961F698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FC4EA-3032-4550-AA69-D31190ED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F4EA1-C374-4DE7-9B8E-9F17F38F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5C5FB-96FD-4F1A-BC3E-4B6D2E58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6DAF3-F92C-49AA-B5F5-185481BD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3C392-6B90-44C3-9122-67ECE5C5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FCF26-60DE-4341-8296-458BA495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4587A-ECAE-4546-A6A0-90389293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6DC58-6DAA-4872-AE43-7134F7F8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B75-D931-46E8-AA3D-F55C493B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82221-F596-403E-93E6-7FD5E7BF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41EA6-8FBB-48C3-BBD7-F3CAF579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12353-00A8-4536-B29C-B997F3C6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9FB2C-88DA-44A5-95CD-1BDDB72E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FD221-0879-4B1A-A42C-33FE6B9F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9430D0-0A73-4505-964D-CD12FB34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B073D-A15D-4179-B187-9AD4BED5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6AD0C-BAB7-4A61-ADB7-5EE56DDE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9A1E7-2D34-4D90-9FB1-393F9284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E1F9D-2D69-408D-AEBD-C3C169CE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D80-7E1E-4C37-A197-7CD13DF1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5FE22-DF02-44AF-B398-3DCA091A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DCD59-435D-4038-95B7-F42CCF1C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E2C00-A872-4D2C-8ED8-9F55B990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98CFD-20BE-411D-9918-BF54A436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2078E-38D2-423C-9B82-89DBB31C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BEA08-A3F7-45E4-A29E-1EDD7D09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4E808-2179-4F2C-A2EF-F812FC93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72731-4F67-4DAC-A65E-E0BDC708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7CEAA-48A2-45A7-89D3-090B169E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CC133-D7E8-4CE8-8C72-0CEA2623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0F90-434C-4162-880F-3B88CDE3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533AF-0517-47A4-8313-F9E18FFD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066FF-530A-4CED-B517-1E585F69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27D73-4046-47A0-9F80-5A347806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7725B-C3E9-4D63-BC95-00C688A2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D1A24-9748-4858-A1E7-A13269A1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DCE98-1381-4CCD-8408-9A5AA3EE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3DDC7-F885-4EA5-BF68-A8776819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22D5F-B5C6-46B1-8F3F-2C178F0C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C2F1B-D032-4F3C-8C76-772FC598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B4590-7998-4E7A-8665-3EF6D151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5034-6E90-4A84-A810-01B82641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BF7EDF-A1ED-4CF6-848A-59108070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1D910-23EF-45C8-9B52-789EAC33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91264-283C-495A-9D32-C99D5CFF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07CE6-808F-4C3B-9113-3FE9085E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87A9F-A245-443D-84A7-A0D1A208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F9BA-8CC2-4500-958A-753DF295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9353-ABC3-4084-A682-388B9E58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6456-8394-431C-87A2-FB1C187E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A887-544D-4B76-BEAC-1A24169F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9230-C0C3-4B66-8905-44D9B24D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27C-CBDB-46CE-A3B5-2D8E92C9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F437-A3CA-42A8-8FD3-AFBF3DA4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3ABB-4344-49AA-9DCB-398FD0D6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E355-BF2D-457D-81FD-D9AE72AE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CC5C-D15C-4555-8C9C-11D2AD1F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513D-001C-4EA2-B99C-98CD3C9B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2C78F-4D40-46D8-AF41-85241ED64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96AD1-7D54-435F-97B3-6ED61DDA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5417C-94C7-4007-A620-084707FD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2133E-D393-4A1B-A9CD-1930ACD4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76A87-F40E-4F8A-BA17-D9F8D7A9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9D6-C67F-49F8-BA37-CA25782A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75F4D-51D6-41F1-B8FC-AF528DD6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E47E8-921D-4BD2-9233-46EAFC4B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F7AE2-A43D-4F64-A910-61C33FA7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6409-2D90-4E7A-B0A9-81972EC6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BFC1A-C72B-4542-B462-FDCC57C4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5FC6B-00BD-4431-8DA5-00330A59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54766-B47A-4CDB-881C-C299AA854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40F8E-F546-4C6A-BD67-034934D5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49B1C-AF2A-44DB-8617-D5AAF54C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E39F1-4FB9-4C61-94E1-8C59FB8D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A87-0E2A-459E-9D3F-94776661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60A23-272D-40CC-B735-9ABB447D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7F94A-898F-4E03-8AF1-D06E5257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700B-FF94-4684-BA51-301C4FA3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1CF2E-D05E-42A5-91CC-CA5E95EE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A11E8-8942-4B6F-8555-B4855B6D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4C83C-869F-4556-9379-1D2C5FF1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7C8AE-F863-446A-A979-AFEF02E9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9FE81-45C6-419E-ADBC-9D00C7C3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3A8E1-BCB9-4426-9EA6-2F0D52E2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0AAD0-0B29-4C14-99CA-F34F4693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3EC-83CE-4C18-A4A6-6942AFD7D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6EF2F-AF84-4F6F-8CC2-A7778CE3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B5BC5-F47F-46A5-9299-C547F844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3FDE4-6B62-407A-BA17-27DF6570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1D3B6-AAE7-436D-9BF0-3AFDD798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BA40C-217D-4552-A769-A18A14E6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CA951-0288-4F83-BE5A-9AE1B562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53124-C23A-4270-BA80-B601043A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5EC5B-E579-4AAD-BF1D-8362619F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25F50-9114-489E-AECA-91BECDB6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9D98C-88A0-497E-AD79-97372F32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584-F709-4E8F-B8C6-F82C3872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20EAD-E4C3-4100-9FD0-A8279FEB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37559-7D7A-45F2-ACF7-9C922DB4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F30A9-42CF-45ED-BF6B-9743D7F6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F5760-4221-461C-952F-786B81A2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4583F-09A2-4EEE-B81E-D54A970F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252B1-CADD-4FED-9C8B-7C022C29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61FCF-78C5-415B-AF43-9AE1914C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DB4A1-A806-45C8-BB5D-9BFF9A8B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07F33-8FFB-4414-87FE-72A29F15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26979-B1D9-40B3-BAAF-F4375AD5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48E-33ED-4938-8C82-CD60EA4C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2A3F2-6002-4896-9FF7-FED8AD44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17815-760E-4317-96E5-23FA6141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897EF-19D6-4188-9A6E-5197111B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46F05-E1BC-4FE5-AEA9-239B7093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EB784-5C92-4636-9E59-59D9FBF3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FCEDE-9701-4ACA-9E0E-6B01DF19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5DE03-2AE9-471F-AAE8-46E089AC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E2BF8-5C9D-4444-8BDE-67662245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1DC2B-FFDD-4FDC-AF24-09729B96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813AA-03BB-46B6-A7D2-5FF122A6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728-FA79-48BB-AB3C-BE31628C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11804-6572-4196-918C-C45637B7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AD30D-4A68-4888-9032-4095FB6A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8C90D-5EEC-4ECD-8ABB-B83660D3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7A18B-D1FD-443E-B28A-2CDE2506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18AF3-5D5C-4227-B6BE-BFD1BA4D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159AE-7704-4C98-B559-71649329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921B2-1B3F-42DB-A9E4-BC3F0D06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5FF1F-BD23-4CD7-A819-5F1BCB77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CAB8C-899A-410E-9CF6-880F8286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04D2C-6427-47D7-BC0C-9E6905FC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469-0170-4335-8FF4-3C0383E6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EDAFE-0797-4CB1-96C7-C2D281E4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B1BAA-AFE1-4F3F-901A-85F6A62F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FE829-EDCD-4DFD-A00D-B23660D5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EAD81-5F66-414E-8B6D-0043D291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2B761-90EF-451E-A3CF-3F2995DC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C7905-4228-4EB4-833F-8BB34E9B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2C60B-F426-4BBC-8EB0-BC05297B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ADCD9-BD5C-43D4-861A-AF8A69EA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F8199-5D6D-4478-AD73-8D5F6643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19D0D-5066-46EA-B13F-7619B653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CE1E-0A73-4CE2-8011-1A6977CBE9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9371-EFF5-4674-BBBB-5C5473A30B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D8BE-C104-4A57-973E-EB0FCF789A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415C-404A-4E79-B824-FB234A5E79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48FA-74D2-411C-B827-0DDBBC81EA3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533B-910A-4209-BEB9-E047EE0A9B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D1FB-D5EA-4461-80A2-B2F58AB32A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15B8-F69B-40A7-B9D3-8E294D5641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DEEF-9ECF-4161-A1AC-567C64382D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5731-F659-4DC6-8E6E-1C6843FE3F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9F7D-E7B8-4590-AAAB-F369083B49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E5C3-4608-45DD-941A-C5BF0B3ED4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pousek@chemi.muni.cz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8E57-BE71-418B-A2DE-BC6EA6FEAAC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C6320 Chemická kinetika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Úvodní hodin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D4D4-971A-495F-B85E-885A7A0DE4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Experiment. Vsádkový, 05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4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Řešení technických problémů s experimentem v praxi</a:t>
            </a: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41D6-C98B-48FB-B7E7-9E90D672A6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Reakce katalyzované 1: homogenní katalýza, acidobazická katalýza, autokatalýza, enzymová katalýza, rovnice Michalisova-Mentenové, nestacionární kinetika, integrovaná rovnice Michaelisova-Mentenové, složité enzymové reakce (Clelandova symbolika, Kingova-Altmanova metoda), inhib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rčení konstanty Michaelis – Mentenov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6444-855A-476A-A9E2-29C7ACA5FD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Reakce katalyzované 2: heterogenní katalýza, chemisorpce a pokrytí povrchu, adsorpční izotermy (Langmuirova, BET, Freundlichova, Temkinova), uni a bimolekulární reakce na povrchu, inhibice produkt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Reakce řetězové: iniciace, propagace, terminace, reakce radikálové, reakce větvené, polymerace, hoření, exploz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4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5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3698-7FF8-4026-A427-530879B7CE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P9: Reakce oscilující: osciláto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(Lotka-Volterra, Brusselátor, Oregonátor), limitní cyklus, rekurentní rovnice Metody relaxační: teplotní, tlakový skok, ultrazvuk, mikrovln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C29C-9CE6-40A5-87F2-BF71CAFA4A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Závislost rychlostní konstanty na teplotě 1: Arrheniova rovnice, srážková teorie, pravděpodobnostní faktor, Lindemannova teorie unimolekulárních reakcí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Závislost rychlostní konstanty na teplotě 2: plochy potenciální energie aktivovaný komplex, Eyringova rovnice, reakční termodynamik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Mechanismy difúze. Látkové toky a difúzní koeficienty. 1 a 2. Fickův zákon. Analytické a numerické řešení difúzních rovnic, okrajové podmínky. Difúze v~neideálních soustavách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817C-C31E-495A-B27A-B099E01CC9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Elektrodová kinetika Mechanismus přenosu elektronu v~homogenním a v~heterogenním prostředí (na rozhraní elektroda/roztok), Marcusova teorie, přepětí, Butlerova a Volmerova rovnice, koeficient přenosu náboje,rychlost elektrodové reakce, elektrodový proces s~chemickou reakcí (předřazená, vřazená a následná chemická reakce), heterogenní rychlostní konstanta, vyhodnocení heterogenních rychlostních, konstant pomocí běžných elektrochemických meto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CB93-CA07-4DC0-89DC-54325288C1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ce přednášky: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Garant a vyučující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Doc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NDr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 Sopouše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Sc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. 549497138, </a:t>
            </a:r>
            <a:r>
              <a:rPr b="0" lang="cs-CZ" sz="2800" spc="-1" strike="noStrike" u="sng">
                <a:solidFill>
                  <a:srgbClr val="6600cc"/>
                </a:solidFill>
                <a:uFillTx/>
                <a:latin typeface="Times New Roman"/>
                <a:hlinkClick r:id="rId1"/>
              </a:rPr>
              <a:t>sopousek@chemi.muni.c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Ústav chem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KB, bu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ka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. 2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rerekvizit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vování přednášek Fyzik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emie I a II.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Podmínky ke připuštění ke zkoušc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kázání schopnosti samostatně řešit modelové    problémy kinetiky reak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ískání zápočtu ze semináře C63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01B5-14B8-4280-9B6F-3C55834131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ce semináře:</a:t>
            </a:r>
            <a:br>
              <a:rPr sz="3600"/>
            </a:b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C6330 Chemická kinetika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yučující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c. Jiří Sopouš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bsah cvičen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tické procvičování učiva probraného na přednášce (kalkulačku sebou, práce s 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hodnocování příkladů experimentálního měření (viz např. měření praktika fyzikální chemie, nebo videa z internetu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žívání software urychlujícího práci (zejména EXCEL, math CAD, ) Matematika: Wolf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vojení si vyhledávat potřebné informace (internet, , wifi internet připoje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dmínky získání zápočt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lost probírané tématiky dle sylabu přednášky C6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pracování zápočtových příkladů  a identifikace kinetického v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6E39-1243-466D-AA8D-2E4D32D543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Doporučená literatura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indl, Ľudovít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ká kinetika [Treindl, 1990]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. přeprac. vyd. Bratislava : Slovenské pedagogické nakladateĺstvo, 1990. 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71717"/>
                </a:solidFill>
                <a:latin typeface="Times New Roman"/>
              </a:rPr>
              <a:t>J. Vohlídal, Chemická kinetika, Karolinum, Praha 2001 (scrip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87D2-4A10-4359-B0D2-050C586C83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kladník z fyzikální chemie VŠChT: http://www.vscht.cz/fch/prikladnik/prikladnik/p.ht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B107-52DE-408D-9B09-3431A4D78D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snova přednášky a seminář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1: Úvodní hodina. Proč probíhají chemické reakce? Jak můžeme jejich rychlost popisovat?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kladní pojmy chemické kinetiky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Typy chemických reakcí, elementární reakce, molekula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030"/>
          <p:cNvSpPr/>
          <p:nvPr/>
        </p:nvSpPr>
        <p:spPr>
          <a:xfrm>
            <a:off x="6172200" y="293364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Procvičování základní termodynami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C14D-497D-49D7-8C50-C1506474B8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Rychlost reakce, rozsah reakce,rychlostní rovnice, řád reakce. Reakce jednosměrné (1. a 2. řádu, následné, simultánní, následné,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Příklady na analytické a numerické řešeni reakčních schémat jednosměrných reakc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28BE-91DF-4749-9F17-FEEC2E15B2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34632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Určení řádu reakce: metoda integrální, metoda zlomkových časů (poločas reakce, střední doba života), metody cílených experimentů (metoda izolační, metoda počátečních rychlostí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030"/>
          <p:cNvSpPr/>
          <p:nvPr/>
        </p:nvSpPr>
        <p:spPr>
          <a:xfrm>
            <a:off x="0" y="3276720"/>
            <a:ext cx="4191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2000"/>
          </a:bodyPr>
          <a:p>
            <a:pPr marL="350280" indent="-3502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0280" indent="-3502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Numerické řešení reakčních schémat a jejich grafická vizualizace. Určení řádu reakce z experimentálních dat. Lineární a nelineární regre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ásledná nevratná reakce prvního řád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B7BB-81E1-44D7-8A02-C0E4DCF332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Reakce vratné: dynamická rovnováha, stacionární stav, rovnovážná konstanta, rychlostní rovnice lineární a exponenciální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Příklady a numerické řešení reakcí s vratným a paralelním krok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6-02-23T14:41:49Z</dcterms:modified>
  <cp:revision>36</cp:revision>
  <dc:subject/>
  <dc:title>Prezentace aplikace PowerPoint</dc:title>
</cp:coreProperties>
</file>