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34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32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3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01C9-4EA2-48B9-9514-D2FF8B56CF3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CCFD-600B-4785-8998-864BDA9597C9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E60-C037-4382-B04D-9445CEE5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4D3-A263-44F8-8840-5EBAEC15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D6A-23C4-4D88-A480-700ABD92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D90-523C-450D-B7A7-FE60EE37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0AC2-4C09-4E97-A674-9470ED9B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226E-E0AD-4DD9-AB74-C91892A6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06D0-DA8B-4559-A6A6-76F8DE4D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74F9-F02B-45F7-89CD-2CA68B60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0227-B7CF-4CA9-9B64-52D526F1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20D8-00BA-41A3-8CF2-AFC45408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C086-F56A-48C6-93B0-EA4CF343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466-84AB-439C-847E-B8FE0B9D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7F77-65EE-445B-B53F-593450AC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98D4-41E3-49E2-B0BF-648CE7F7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8F8D-85F0-4A26-AC7C-57AD161A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59DB-DBE7-48DD-BA42-B2149E34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BD31-D179-45AD-99EE-8C62FB4E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0D49-F0B6-4FE4-8032-A35451C4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B40-8BCC-459F-B6D1-5AB51AAA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B7D-4F88-457B-8339-EC9F121D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1F1-89D8-47BE-9DF5-CFC04FF2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D63-126C-4C46-8995-6A24C1E2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B5C-0783-41FD-B05E-5472EA58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BE5-796E-4070-A1DF-EE9B6FB5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7095-8E85-43CB-B808-DCF348625A7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2416-C2D8-4493-AA8D-B5DC64D4CC01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407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ermodynamika chemických reakc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9" name="Picture 4" descr="C:\Documents and Settings\Sopoušek\Dokumenty\Obrázky\Chemické reakce\reakce barevná.bmp"/>
          <p:cNvPicPr/>
          <p:nvPr/>
        </p:nvPicPr>
        <p:blipFill>
          <a:blip r:embed="rId1"/>
          <a:stretch/>
        </p:blipFill>
        <p:spPr>
          <a:xfrm>
            <a:off x="4114800" y="2286000"/>
            <a:ext cx="41148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094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Rozdělení reakcí (jeden z pohledů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0" name="Picture 4" descr="C:\Documents and Settings\Sopoušek\Dokumenty\Obrázky\Chemické reakce\reakce ch4+H2o.gif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454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Documents and Settings\Sopoušek\Dokumenty\Obrázky\Chemické reakce\H2_O2.gif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324480" y="12952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Odpovídají reakční rovnice skutečnosti? Najdi chybu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Termodynamické důvody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Samovolné procesy jsou provázeny růstem entropie (vysvětlení viz lit.: Olmst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Entropii čistých látek i sloučenin lze vypočítat z 3.V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Pro uzavřené soustavy s konst. P a T je kriteriem Gibbsova energi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Pro uzavřené soustavy s konst. V a T je kriteriem Helmholzova energie  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5"/>
          <a:stretch/>
        </p:blipFill>
        <p:spPr>
          <a:xfrm>
            <a:off x="6172200" y="3882960"/>
            <a:ext cx="2454120" cy="461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5943600" y="5105520"/>
            <a:ext cx="2590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92160"/>
            <a:ext cx="693432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Jak se mění Gibbsova energie při chemické reakci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3322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914400" y="1066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apř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2133720" cy="10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7791480" cy="55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236196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2438280" y="6095880"/>
            <a:ext cx="1184400" cy="532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380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 rovnováz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3548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2895480" y="990720"/>
                <a:ext cx="18288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5486400" y="838080"/>
            <a:ext cx="3429000" cy="3408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228600" y="1981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Rozsah reak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1371600" cy="42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7"/>
          <a:stretch/>
        </p:blipFill>
        <p:spPr>
          <a:xfrm>
            <a:off x="457200" y="2819520"/>
            <a:ext cx="1295280" cy="4521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9"/>
          <p:cNvSpPr/>
          <p:nvPr/>
        </p:nvSpPr>
        <p:spPr>
          <a:xfrm>
            <a:off x="4114800" y="52578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Chemické reakce způsobuje snaha o snížení G soustavy (integr. podmínka), látky reagují tak dlouho až dojde k vyrovnání chemického potenciálu (dif. podm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35053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8"/>
          <a:stretch/>
        </p:blipFill>
        <p:spPr>
          <a:xfrm>
            <a:off x="2514600" y="1752480"/>
            <a:ext cx="2590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Reakční Gibbsova energi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890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173760" y="1066680"/>
            <a:ext cx="2200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+3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2 N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371600" cy="690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0" y="26668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Obecný matematický zápi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809880" cy="84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286000" cy="873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47242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Nebo-li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5"/>
          <a:stretch/>
        </p:blipFill>
        <p:spPr>
          <a:xfrm>
            <a:off x="609480" y="5013360"/>
            <a:ext cx="2971800" cy="74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8862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6"/>
          <a:stretch/>
        </p:blipFill>
        <p:spPr>
          <a:xfrm>
            <a:off x="4800600" y="4952880"/>
            <a:ext cx="914400" cy="641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66294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Např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12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3745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5943600" y="5562720"/>
                <a:ext cx="25797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Text Box 20"/>
          <p:cNvSpPr/>
          <p:nvPr/>
        </p:nvSpPr>
        <p:spPr>
          <a:xfrm>
            <a:off x="533520" y="5943600"/>
            <a:ext cx="487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Reakce běží dokud Q nedosáhne rovnovážné hodnoty (K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Změny termodynamických funkcí a samovolnos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04920" y="24242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izké teploty: převládá entalpický příspěve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ysoké teploty: převládá entropický příspěvek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360" y="-3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abilita sádrov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74040"/>
            <a:ext cx="7259760" cy="94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Výpočty reakčních termodynamických funkcí: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7239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Z tvorných Gibbsových energií reaktantů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29718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Analogicky pro entalpii a entropii: …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960" y="190080"/>
            <a:ext cx="7621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fektivita buňk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920" y="1981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Prostá oxidace glukózy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91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1) Celková reakce v buň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3) Přeměna 36 ADP na 36 AT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Celkový efekt kombinace reakcí v buňce (2) a (3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09480" y="52578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ýsledek: ačkoliv 1100kJ je uloženo do ATP , zbytek (tj. 1770kJ) se nevyužije a přemění se v tepelný pohyb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Tj. účinnost buňky je 38%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635040"/>
            <a:ext cx="74055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vztah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621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Možný efekt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2860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 rovnov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2-17T08:47:41Z</dcterms:modified>
  <cp:revision>53</cp:revision>
  <dc:subject/>
  <dc:title>C6730 Fázové rovnováhy</dc:title>
</cp:coreProperties>
</file>