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E89E-B846-4826-AAC4-084784B8FD7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C739-0816-4C79-95F3-77CDC61EF83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385-32CA-4282-B8B2-CC6130A9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92A-8B6A-431D-B9A9-47AF92B2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759-FA44-4283-B226-B1150EFF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475-9C2F-4FD9-AA23-35729D9E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325C-6134-4C1D-83C8-721CE11F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4640-DCF6-4FC7-BEC9-BE07F24F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5F02-C174-450F-88F4-E42E3560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93CB-0A1B-44B8-B84B-54775411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9E97-306B-4BDE-A8F3-FD995923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0D09-E2B3-401D-80D8-F23A970B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B064-FA16-4B8F-802B-F8510E07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ABF-B2E6-4E45-8536-A012EF25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06E8-79DF-4624-842A-76EA40FD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7B32-5D9C-429E-A639-5CFE25D4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5C65-EF32-4EDB-81CD-8674200C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2392-BA5E-4137-B385-1FD5D691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4DFC-0BE9-4C23-96FF-5CD78A1C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9E8-0CA4-4828-A9B0-622790BF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8CA-88FC-4D51-BB83-C2CCFC47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7F6-2B50-45E4-A6C7-6DB19F93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402-6DE6-4F1F-90EA-C692A83E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9F8-3D9B-493B-A188-F5F54F18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28C-D8D6-4AEB-9003-339181C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820-7F72-43DD-BC66-BE0DBC34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6AE5-06A6-4905-B8C8-D9DCAA18095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97F9-2DEB-419C-AB59-06EE63CD1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http://www.jergym.hiedu.cz/~canovm/mechanic/pravidl2/haber/haber.htm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http://dl.cuni.cz/cuni/mod/resource/view.php?id=945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jergym.hiedu.cz/~canovm/mechanic/pravidl2.html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000" y="357120"/>
            <a:ext cx="807876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vztahy k pro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pro číslo snímku 2"/>
          <p:cNvSpPr/>
          <p:nvPr/>
        </p:nvSpPr>
        <p:spPr>
          <a:xfrm>
            <a:off x="7313760" y="6157800"/>
            <a:ext cx="190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1532-407F-41AA-A62E-C690B4D6A7D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90440" y="1225440"/>
            <a:ext cx="304956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332160" y="1189080"/>
            <a:ext cx="5703840" cy="53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920880" y="2114640"/>
            <a:ext cx="5400720" cy="10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360360" y="4414680"/>
            <a:ext cx="270972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5"/>
          <a:stretch/>
        </p:blipFill>
        <p:spPr>
          <a:xfrm>
            <a:off x="360360" y="5111640"/>
            <a:ext cx="2871720" cy="490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6"/>
          <a:stretch/>
        </p:blipFill>
        <p:spPr>
          <a:xfrm>
            <a:off x="3332160" y="4948200"/>
            <a:ext cx="2403360" cy="6541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268200" y="2973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641880" y="5850000"/>
            <a:ext cx="5538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h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Olmsted III, G. M. Williams: Chemistry – The olekular Science, Moshby – Year Book, Inc.,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7"/>
          <a:stretch/>
        </p:blipFill>
        <p:spPr>
          <a:xfrm>
            <a:off x="4356000" y="4546440"/>
            <a:ext cx="4505400" cy="419400"/>
          </a:xfrm>
          <a:prstGeom prst="rect">
            <a:avLst/>
          </a:prstGeom>
          <a:ln w="0">
            <a:noFill/>
          </a:ln>
        </p:spPr>
      </p:pic>
      <p:sp>
        <p:nvSpPr>
          <p:cNvPr id="111" name="TextovéPole 4"/>
          <p:cNvSpPr/>
          <p:nvPr/>
        </p:nvSpPr>
        <p:spPr>
          <a:xfrm>
            <a:off x="3621240" y="451800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ovéPole 5"/>
          <p:cNvSpPr/>
          <p:nvPr/>
        </p:nvSpPr>
        <p:spPr>
          <a:xfrm>
            <a:off x="6012000" y="497988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centrační kvo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4" descr=""/>
          <p:cNvPicPr/>
          <p:nvPr/>
        </p:nvPicPr>
        <p:blipFill>
          <a:blip r:embed="rId8"/>
          <a:stretch/>
        </p:blipFill>
        <p:spPr>
          <a:xfrm>
            <a:off x="4317840" y="1989000"/>
            <a:ext cx="4581720" cy="2400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9"/>
          <a:stretch/>
        </p:blipFill>
        <p:spPr>
          <a:xfrm>
            <a:off x="104760" y="3306600"/>
            <a:ext cx="44290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2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4BB8-0636-4144-92DA-8075FD6B5C8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581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číslo snímku 1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BEDE-284E-4C9C-B42E-134B543A25F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8642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4T14:54:19Z</dcterms:modified>
  <cp:revision>26</cp:revision>
  <dc:subject/>
  <dc:title>Prezentace aplikace PowerPoint</dc:title>
</cp:coreProperties>
</file>