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F873-0D66-41E9-A9FC-AC6A9B5692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1AA4-9DB5-40EB-AF52-FD4B53596B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13C9-85C2-4242-9515-718EFF4318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9E33-01D6-4867-A304-5957070E0A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13F2-98E1-4C1D-96CA-4F102714EAE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6D10-38FF-476A-971A-B212A15AA35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D31-516A-4943-AF5E-FBBA35DC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45C-9C3A-4D13-B0F6-2C86C021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17020-8551-4F6A-8227-D56A75D7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24548-12A3-468A-907A-7C068A2E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1E945-638B-4130-81A4-18506858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B0570-7A19-4CFB-8D3A-5951E43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67892-ADBE-4E43-BA1B-4A51E254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294EC-B7BB-4716-94B7-87206C6D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B2347-2066-45C9-B119-B9D7FFCE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64C5D-CF94-4B8D-818A-D0C64930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AEA18-A842-4B35-A6B0-59F03B66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2DB55-DEEC-4EC5-89B5-9E182F3B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C75-9E43-4034-B71D-B9CC621F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5F99C-8E39-466F-B592-A0D584E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B9CC0-37BB-42F0-85AD-68335799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62C47-06E4-4AE6-835D-562C7C49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25E2C-CCD4-494F-A429-D48872C9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C1205-089C-42DA-8C3A-F72C1062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8F437-71CF-4B49-ADCC-DD44390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EAF70-0A36-4D6E-88C6-E7F0930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C035C-ADBB-4BBD-84C0-632C381D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9D272-40D9-4AE0-98D4-FABF3D37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9C8A3-82E0-4811-BDC9-0733B49E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FC2-6488-4E12-AB71-040E3574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9D07F-7C6D-4C86-B437-5FB4CBE4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2258B-D09C-4216-B2DD-EB2736DA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12EA5-0637-4D6E-AF80-86B689C5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12417-8923-4E19-B965-39A16649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AB3F6-B098-4252-802B-1C6DA4FE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969C9-83EE-4DA9-8E46-41829756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50226-4807-46B7-AF84-65A0973D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99F2-130E-43C3-8D6A-B058FB2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CE356-0E59-4A52-AA2C-F028F9C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72F06-1E0B-4E5D-8C20-C084E10F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37F9-80CE-4426-84ED-E1B9B256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51B4D-14CA-42DD-A437-E3D350ED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6D14F-3ACC-4B0B-B8FD-11353972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0B9BE-1125-420F-BB25-057F45DC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B03D2-C811-4DD6-8094-BAC74B32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70056-A93A-4EC3-A030-32D101D4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FC81B-821B-4F8C-92E2-14E16AF6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42703-C615-4054-8476-B278D5E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EAD0C-3ACD-4D5C-8D1B-82D15C6F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BA337-2C6E-4ADA-985A-C12F0D31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322CA-824B-4A85-9FF7-D61B6916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1CB5-2A5E-481D-A3E9-5A463C46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430AE-BAD4-456D-9D31-A6B72340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18E51-8BCF-4CC6-9618-B347F6B4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07342-03CA-4FCE-8553-EB147930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5508D-2A8C-44E0-887B-D00F439A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548D4-C9D8-471A-B94A-B01D1048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628-8ABF-4AA7-B716-752DA2A5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5D5E-D4E7-4D0C-B2FB-54B52E87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7AD3-CFF2-4002-8BB1-E0A24515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E026-7965-4F3F-8F33-70FF0A7E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22B5-03CA-47DF-8638-1921B8B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5BA-3616-4512-B308-1D811114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CA64-2257-43AF-BE22-BB4453D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389E-D837-4290-83E2-E88ACD40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372C-7E01-41DD-A023-B2CE9BAF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7D8C-4E31-4609-895E-814BAD10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EE16-4E6D-4FD0-8899-6ABEB4E9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BE84E-9892-4438-9A44-056ECEF8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21DF-3965-407F-8F0F-6C3153C8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BB98-32A1-459A-9D20-8CF8ED16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C319-633A-4E49-85AA-E0C42D4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F76F-225A-4257-A42F-B83111C2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8B8-2C81-4072-89D9-04E48A0B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D866-7483-4FD4-A09A-00B12DAC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B1F8-89C6-48E2-800F-FB676358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B8CB-175E-44F7-A4D6-EB4958CD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B16F2-02B0-462D-9723-04DA027B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F19F-1209-4D79-84EB-5C1EC26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EF621-298C-4A71-A1B1-0A6BA183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8CAD1-8FF0-4D16-B871-5A1B995D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A157-0700-45F2-9751-7C8E50A9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E11A-27CC-4DC4-9252-88951AFD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C07C-101F-4013-A5FF-7E8DC520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4B2-C3D0-486D-9402-71E42452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7FC6-799C-4F7D-8806-E288A73F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A0E73-6E08-4D89-9BD0-A413EAE3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2E444-C445-4E0C-B41A-45DAA4F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84BDB-1C81-4651-8761-CFE11164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B065-91B4-4BBE-8991-A90D894B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86F3-F5E4-44C4-AA47-C255006C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E2E5F-7597-4A47-BFAC-D97A9BC9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788BC-A669-4470-98EB-1B5B82DD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18BD2-6C3F-46BD-BCE4-484E71BD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42B9B-8BC3-4F45-B497-6D8F9E8B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2C9-4CBE-493B-B20D-DE8E5AD7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4573-4BEC-4C60-B904-EB6EE8C9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54FC-A218-4FE1-A057-1966837D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A4D3-945A-453C-A6AA-3D2D360B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65CA-7ECE-4C15-8C25-A62D5293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1DEA-7CE7-4BDF-97E0-7C2B4329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7905-24C9-49CC-A0BB-3CE289C4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98BD-6864-4B35-9780-0C57C25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2EDD-8049-4865-8A37-80EBDDE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36F7-71FE-43B3-9011-8743CBF3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4E74-8DB9-4FB4-BECB-65C2E993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EE0-BA65-4BBD-89B8-23F17969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6905-AD20-49E3-B484-E05CAB57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021E-72DD-4D79-8E9A-F52C2198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AC58D-67EE-4D5A-AB8B-671EA1F9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B26A-722D-4908-BD7C-A7A3448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AD44-FFAB-4941-944D-4C57EAF8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DF08B-C409-4E13-BE38-3B0C973F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F3657-FBB7-4F0E-A77C-BF5DB010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BC5EE-D79D-4469-81A5-C8C2DA7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B40FE-86EA-4C1D-A60B-EB2532F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8B27A-A327-44D2-BD07-6468E44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DAD-4736-4B98-A3B2-8ED27784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836F7-761C-48AF-AD96-9BB1AE34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EA28-C6BC-4C56-8FAC-216B11BD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04B23-B5CD-49C2-9B26-5B8B79C4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E87F-6D03-4EC5-AABA-87692C21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ABAA1-E915-420D-BAE7-C168303C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2C7EF-2930-48EB-9D00-47D94EED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CF58D-56F3-4DB9-91AD-85F52586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7BBF-0185-430A-9DD3-330D08DD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34843-E417-45C7-9835-797EB29F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D15CC-598E-4F8B-921D-10DA6ED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360-DB61-4E74-9F33-2D22BFBB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40C05-2E0B-4668-8A7C-E5517DAD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B0DE6-A5C5-4CE3-85F2-F948D95D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8570F-59E9-40B3-A102-1926FE73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7D47A-CC3B-4C76-AA35-00723F34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22429-BAAE-4070-8AA1-A95D94BA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FF29E-A3C4-4ACB-9CD7-E95A309F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C39AB-2CC0-483B-B57A-94B63CD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1336A-4FE2-4143-96EC-647C4D76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A4D57-9EB4-435B-A312-909CD505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37AC8-3A7A-44F1-8C24-2253FA69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D16-8C3C-4434-8797-86F95681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5AC97-DD04-4166-8D50-7DBFDC72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31BB7-F8DB-4B1E-BE80-EF74B76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9A83C-AF09-4067-82F1-D2FC41B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7053C-1E68-493A-A3F9-DD6BF75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80A76-E6A2-4E63-8BAC-C5417074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6D24-B4AD-4DE2-83C3-F9513184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8B61F-AE26-466B-97FE-203F875A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52A26-6C62-440C-9633-00FBAAD2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31054-FD66-4743-8F59-FA672A90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EADC5-8632-465B-9524-62A84BDD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B7FE-FC73-4C19-B059-094AC56579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A156-C34A-4DB1-B73F-7AA09F9A08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7BEF-A9F4-4421-8560-23BD16F9A2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F8EB-0E41-4A66-8120-985F64B058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6C9F-E236-4D8D-A8FF-29C90DF54CD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6EFD-9E26-4D54-91B6-8A989D80A6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88A4-50CB-4025-8756-8C0F93B3A9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E073-359B-4F29-9303-137F877B97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C605-721A-4C8A-9392-411C61104B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5181-BEC6-435C-896E-86200955B1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1BF2-FA00-4273-B5CB-C23F30FD2D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409A-85A2-4192-AC20-8CF5B15EB2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86F1-A582-424F-B8B5-ED495371A12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0AAB-446D-418F-B9AC-2281C9D8FD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4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4467-CC89-4D8B-9A12-EDC05056B3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335E-F48C-4523-B352-BBAFCAC110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5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EAE-85A5-4B6F-83D4-94E7C61D0C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03D5-6AEC-449E-8441-F60C37A089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DF82-A224-4E2D-B141-AE12739585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8EBC-8EE5-44C5-A455-D200AB1F4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sopousek@chemi.muni.c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kázání schopnosti samostatně řešit modelové    problémy kinetiky reak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5059-7FB7-4408-B4A5-C1B0B1BD69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ce semináře:</a:t>
            </a:r>
            <a:br>
              <a:rPr sz="3600"/>
            </a:b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C6330 Chemická kinetik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ání software urychlujícího práci (zejména EXCEL, math CAD, ) Matematika: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 probírané tématiky dle sylabu přednášky C6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1076-17FF-411C-8FB3-838CE49C38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1717"/>
                </a:solidFill>
                <a:latin typeface="Times New Roman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66FB-04EE-4717-A379-6DAB19A35B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ník z fyzikální chemie VŠChT: http://www.vscht.cz/fch/prikladnik/prikladnik/p.ht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A32-A5A0-4926-85AA-C9AFA6583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DD01-44B3-42F8-B25C-E8D997D5CA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3D42-6849-443B-BD32-37E247BBE9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C95E-BC2E-42C3-8999-27CCDE2821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4:41:49Z</dcterms:modified>
  <cp:revision>36</cp:revision>
  <dc:subject/>
  <dc:title>Prezentace aplikace PowerPoint</dc:title>
</cp:coreProperties>
</file>