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7DCF-E886-462A-8D73-71AAE3A230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7184-DF4E-4549-8E98-8E04D44ECA17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EDF3-0F2D-4A21-B95A-AE38832F05FA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B6C4-D3E5-4087-8649-F449344CA18A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2C7A-4A41-4973-8062-8869D16B8A8F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A5D5-C124-4187-A507-D55B73741FAF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07F6-C000-4472-8905-CB022235C346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355-174C-469C-AF50-4D55C881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087-73A3-42AF-A317-D861BCE8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A6B-D825-4BDA-B609-C7D680CB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2C6-1494-4532-8A2E-5F146E7C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E538-72DA-4306-9958-462A23FC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4B7D-04E2-454C-8590-423BE497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D132-7C30-42E7-86CE-170A1EDB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C528-8C4F-4685-BB49-D232DC0A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27B1-1A2C-4D56-84F8-A7C111B1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3CD7-D856-46CA-9DB0-DFE16CC8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260F-8AF2-478D-906B-7B3F247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86C-179D-40B8-8F70-B39FFAAD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F85F-2E66-4A33-9D1C-602E7CD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4AF3-2380-4B26-8399-FF3A74A6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5CD6-3B58-4AE1-8BEC-2206D475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B02A-CBE8-4752-8863-92673784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C706-0712-4CB2-858B-0CA3F77D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49A-3B8B-4391-B05D-55619ED3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DD9-13EE-439F-A0FE-A8F182FC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818-6B06-4218-A721-B57278DD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A67-9264-40DD-911D-01B1B4CA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84E-CC1C-4065-93A7-3EF06F6A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531-86B4-48FF-999E-23A783B6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F48-6E28-41D8-A4F5-4C19FE83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75E6-E330-452E-8FC4-648BC79C12BA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4BE0-99CE-4B9B-8AE6-B90DBC906321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ká kinetika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br>
              <a:rPr sz="4400"/>
            </a:b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85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studoval rychlost inverze sacharózy (tj. hydrolýzy na D - (+) - glukózu a D - (-) - fruktózu v přítomnosti kyseliny) a zjistil, že je úměrná koncentraci jak cukru tak i kyseliny.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formuloval "zákon působení hmoty", podle kterého reakční "síly" jsou přímo úměrné součinu koncentrace reaktantů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s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/([A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de a, b, r and s jsou stechiometrické koeficienty pro chemickou reakci A+B=R+S. A to tak, že rychlost dopředné reakce je  úměrná součinu [A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 rychlost zpětné reakce je úměrná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analyzovali reakci mezi H2O2 a HI a mezi KMnO4 a (COOH)2.  Napsali odpovídající diferenciální rovnice, integrovali je a určili koncentrace v závislosti na čase. Také navrhli rovnici pro teplotní závislosti rychlosti reakce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.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publikoval své "Studie o chemické dynamice" (Études de dynamique CHIMIQUE), ve kterých zobecnil a dále rozvíjel práci Wilhelmyho (o sacharoze)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1885 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Uvedli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iferenciální metodu analýzy a rovněž analyzovali teplotní závislost rovnovážné konstanty (pojmenovali ji "van't Hoff rovnice"). Sledovali reakcí dopřednou i zpětnou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zavádí pojmy "řád reakce" a „poločas reakce" ve své knize: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ále analyzoval teplotní závislost reakční rychlosti a zjistil, že lépe odpovídá vzta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 exp (-B / t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de zajedl pojem "energetická bariéra" .  Dnes nese tato rovnice jeho jmén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1912 Mentenová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Se zabývala enzymovou kinetikou a popsala rychlost enzymové reakc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ovéPole 1"/>
          <p:cNvSpPr/>
          <p:nvPr/>
        </p:nvSpPr>
        <p:spPr>
          <a:xfrm>
            <a:off x="684360" y="2349360"/>
            <a:ext cx="39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racovala v oddělení prof. Michael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tala se profesorkou v 79-ti letech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Picture 2" descr="http://1.bp.blogspot.com/-7DSc73P4M_Q/VQs6mrwwwdI/AAAAAAAABHY/dUGD7b9EDGU/s1600/menten.gif"/>
          <p:cNvPicPr/>
          <p:nvPr/>
        </p:nvPicPr>
        <p:blipFill>
          <a:blip r:embed="rId1"/>
          <a:stretch/>
        </p:blipFill>
        <p:spPr>
          <a:xfrm>
            <a:off x="5692680" y="1700280"/>
            <a:ext cx="2735280" cy="4268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s://acsundergrad.files.wordpress.com/2012/07/menten-and-michaelis.jpg"/>
          <p:cNvPicPr/>
          <p:nvPr/>
        </p:nvPicPr>
        <p:blipFill>
          <a:blip r:embed="rId2"/>
          <a:stretch/>
        </p:blipFill>
        <p:spPr>
          <a:xfrm>
            <a:off x="4932360" y="2060640"/>
            <a:ext cx="4008600" cy="2114640"/>
          </a:xfrm>
          <a:prstGeom prst="rect">
            <a:avLst/>
          </a:prstGeom>
          <a:ln w="0">
            <a:noFill/>
          </a:ln>
        </p:spPr>
      </p:pic>
      <p:sp>
        <p:nvSpPr>
          <p:cNvPr id="306" name="Obdélník 3"/>
          <p:cNvSpPr/>
          <p:nvPr/>
        </p:nvSpPr>
        <p:spPr>
          <a:xfrm>
            <a:off x="655560" y="54910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366"/>
                </a:solidFill>
                <a:latin typeface="Times New Roman"/>
              </a:rPr>
              <a:t>http://www.chemheritage.org/discover/online-resources/chemistry-in-history/themes/biomolecules/proteins-and-sugars/michaelis-and-menten.aspx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ca 1890 J. Willard Gibbs (US): Shrnutí termodynam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 poznatků z histor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4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Řada pojmů a představ se kterými se setkáváme v chemické kinetice je již dlouho známýc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Získání některých kinetických informací je velmi náročné (mechanismy reakcí, reakční koordináta,…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Moderní kinetika je interdisciplinární (biochemická kinetika, molekulová dynamika , kvantová chemi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Významné ženy a muži věd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http://jchemed.chem.wisc.edu/JCEWWW/Features/eChemists/Bios/Menten.htm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5:18:40Z</dcterms:modified>
  <cp:revision>32</cp:revision>
  <dc:subject/>
  <dc:title>Prezentace aplikace PowerPoint</dc:title>
</cp:coreProperties>
</file>