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818EE-98C2-460B-8405-97EEBCB79B7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B22E0-7180-47A5-99E8-9B5DA62BDB3F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1519E-3E24-49EB-9660-8381E87B2A37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64128-903D-4CBE-9259-639DF174850D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AB98E-43E1-442A-AD65-DD523A6853CF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27E22-0509-4686-85F7-BA802A33C8AB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361EA-55B3-47A1-89CE-9196B8B49DB6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1F72-B817-49D8-B580-CC8E43C78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F7A7-49B3-46D6-905D-A24249912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F7C8-975C-430D-8CFA-A40F26DBF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C5E3-F4C4-4727-9D52-0DC332044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8C4EC-12E8-434E-BBD6-452DFCD9B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A1101-69CA-4C2E-BB14-CF983F5C5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AADE6-1EAB-4F80-BB9C-0D747A1EB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46850-4D68-4D47-A418-17DC1889B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D02ED-133C-4D67-AC1B-DAF882DF6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E71B5-41C2-4C0D-A920-2E368ACFF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01820-A456-4662-8965-111556F5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60EE-0630-4231-9E32-756C86F31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5284F-F25F-49B4-B23D-6D0273A1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5D6B2-13EA-4D58-81AC-7328A18E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AAB5E-BC3B-428C-B9E2-B620780A5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47207-676D-4413-A3EB-7C387C5B5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C5E26-3264-4E14-AD85-1BA61AD8D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A67B-9D5C-44A1-911C-D6E775536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D191-FA84-4675-81CC-B0BEE903A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DD17-732F-49FD-B7ED-76580F2DB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81D3-1C49-43D6-9048-ED50EC67A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4F77-9C86-4D94-B2E9-5E35360B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A4B4-D76D-49A1-9AC8-223AAD78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91F1-9C28-443F-95CD-F33FF7D1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Group 1027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Line 1028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Line 1029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Line 1030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Line 1031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Line 1032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Line 1033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Line 1034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Line 1035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Line 1036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Line 1037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Line 1038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Line 1039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Line 1040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Line 1041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Line 1042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Line 1043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Line 1044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Line 1045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Line 1046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Line 1047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Line 1048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Line 1049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Line 1050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Line 1051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Line 1052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Line 1053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Line 1054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Line 1055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Line 1056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Line 1057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Line 1058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Line 1059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Line 1060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Line 1061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Line 1062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Line 1063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Line 1064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Line 1065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Line 1066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Line 1067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Line 1068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Line 1069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Line 1070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Line 1071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Line 1072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Line 1073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Line 1074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Line 1075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Line 1076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Line 1077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Line 1078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Line 1079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Line 1080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Line 1081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Line 1082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Line 1083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Line 1084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Line 1085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Line 1086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Line 1087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Line 1088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Line 1089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Line 1090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Line 1091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Line 1092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Line 1093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Line 1094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Line 1095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Line 1096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Line 1097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Line 1098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Line 1099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Line 1100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Line 1101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Line 1102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Line 1103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Line 1104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Line 1105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Line 1106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Line 1107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Line 1108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Line 1109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Line 1110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Line 1111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Line 1112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Line 1113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Line 1114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Line 1115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Line 1116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Line 1117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Line 1118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Line 1119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Line 1120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Line 1121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Line 1122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Line 1123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Line 1124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Line 1125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1126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Rectangle 1127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Rectangle 1128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Rectangle 1129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Rectangle 1130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156A0-F4FC-4E1B-A715-F3DFA9002668}" type="slidenum">
              <a:rPr b="0" lang="cs-CZ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1026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Rectangle 1027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Group 1028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Line 1029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Line 1030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Line 1031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Line 1032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Line 1033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Line 1034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Line 1035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Line 1036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Line 1037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Line 1038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Line 1039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Line 1040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Line 1041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Line 1042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Line 1043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Line 1044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Line 1045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Line 1046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Line 1047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Line 1048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Line 1049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Line 1050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Line 1051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Line 1052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Line 1053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Line 1054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Line 1055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Line 1056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Line 1057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Line 1058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Line 1059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Line 1060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Line 1061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Line 1062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Line 1063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Line 1064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Line 1065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Line 1066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Line 1067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Line 1068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Line 1069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Line 1070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Line 1071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Line 1072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Line 1073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Line 1074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Line 1075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Line 1076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Line 1077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Line 1078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Line 1079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Line 1080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Line 1081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Line 1082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Line 1083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Line 1084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Line 1085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Line 1086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Line 1087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Line 1088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Line 1089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Line 1090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Line 1091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Line 1092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Line 1093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Line 1094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Line 1095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Line 1096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Line 1097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Line 1098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Line 1099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Line 1100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Line 1101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Line 1102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Line 1103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Line 1104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Line 1105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Line 1106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Line 1107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Line 1108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Line 1109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Line 1110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Line 1111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Line 1112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Line 1113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Line 1114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Line 1115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Line 1116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Line 1117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Line 1118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Line 1119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Line 1120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Line 1121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Line 1122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Line 1123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Line 1124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Line 1125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Line 1126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Rectangle 1132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Rectangle 1133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7C021-4883-4CD8-8473-F603A13BA16A}" type="slidenum">
              <a:rPr b="0" lang="cs-CZ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C6320 Chemická kinetika:</a:t>
            </a:r>
            <a:br>
              <a:rPr sz="4000"/>
            </a:br>
            <a:br>
              <a:rPr sz="4000"/>
            </a:b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Historie chemické kinetiky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Historie chemické kinetiky</a:t>
            </a:r>
            <a:br>
              <a:rPr sz="4400"/>
            </a:br>
            <a:r>
              <a:rPr b="0" lang="cs-CZ" sz="1600" spc="-1" strike="noStrike">
                <a:solidFill>
                  <a:srgbClr val="ff0000"/>
                </a:solidFill>
                <a:latin typeface="ArialNarrow"/>
              </a:rPr>
              <a:t>Ref: "The World of Physical Chemistry," by K. J. Laidler, Oxford Univ. Press, 1993)</a:t>
            </a:r>
            <a:br>
              <a:rPr sz="1600"/>
            </a:b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55640" y="1700280"/>
            <a:ext cx="7850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50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Wilhelmy (Germany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studoval rychlost inverze sacharózy (tj. hydrolýzy na D - (+) - glukózu a D - (-) - fruktózu v přítomnosti kyseliny) a zjistil, že je úměrná koncentraci jak cukru tak i kyseliny. 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(viz experimentální úloha v praktiku fyzikální chemie)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64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Guldberg and Waage (Norway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formuloval "zákon působení hmoty", podle kterého reakční "síly" jsou přímo úměrné součinu koncentrace reaktantů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K=[R]</a:t>
            </a:r>
            <a:r>
              <a:rPr b="1" lang="cs-CZ" sz="2000" spc="-1" strike="noStrike" baseline="30000">
                <a:solidFill>
                  <a:srgbClr val="003366"/>
                </a:solidFill>
                <a:latin typeface="Arial"/>
              </a:rPr>
              <a:t>r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 [S]</a:t>
            </a:r>
            <a:r>
              <a:rPr b="1" lang="cs-CZ" sz="2000" spc="-1" strike="noStrike" baseline="30000">
                <a:solidFill>
                  <a:srgbClr val="003366"/>
                </a:solidFill>
                <a:latin typeface="Arial"/>
              </a:rPr>
              <a:t>s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/([A]</a:t>
            </a:r>
            <a:r>
              <a:rPr b="1" lang="cs-CZ" sz="2000" spc="-1" strike="noStrike" baseline="30000">
                <a:solidFill>
                  <a:srgbClr val="003366"/>
                </a:solidFill>
                <a:latin typeface="Arial"/>
              </a:rPr>
              <a:t>a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 [B]</a:t>
            </a:r>
            <a:r>
              <a:rPr b="1" lang="cs-CZ" sz="2000" spc="-1" strike="noStrike" baseline="30000">
                <a:solidFill>
                  <a:srgbClr val="003366"/>
                </a:solidFill>
                <a:latin typeface="Arial"/>
              </a:rPr>
              <a:t>b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kde a, b, r and s jsou stechiometrické koeficienty pro chemickou reakci A+B=R+S. A to tak, že rychlost dopředné reakce je  úměrná součinu [A]</a:t>
            </a:r>
            <a:r>
              <a:rPr b="0" lang="cs-CZ" sz="2000" spc="-1" strike="noStrike" baseline="30000">
                <a:solidFill>
                  <a:srgbClr val="003366"/>
                </a:solidFill>
                <a:latin typeface="Arial"/>
              </a:rPr>
              <a:t>a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[B]</a:t>
            </a:r>
            <a:r>
              <a:rPr b="0" lang="cs-CZ" sz="2000" spc="-1" strike="noStrike" baseline="30000">
                <a:solidFill>
                  <a:srgbClr val="003366"/>
                </a:solidFill>
                <a:latin typeface="Arial"/>
              </a:rPr>
              <a:t>b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a rychlost zpětné reakce je úměrná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[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]</a:t>
            </a:r>
            <a:r>
              <a:rPr b="0" lang="cs-CZ" sz="2000" spc="-1" strike="noStrike" baseline="30000">
                <a:solidFill>
                  <a:srgbClr val="003366"/>
                </a:solidFill>
                <a:latin typeface="Arial"/>
              </a:rPr>
              <a:t>r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[S]</a:t>
            </a:r>
            <a:r>
              <a:rPr b="0" lang="cs-CZ" sz="2000" spc="-1" strike="noStrike" baseline="30000">
                <a:solidFill>
                  <a:srgbClr val="003366"/>
                </a:solidFill>
                <a:latin typeface="Arial"/>
              </a:rPr>
              <a:t>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65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Harcourt and Esson (UK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analyzovali reakci mezi H2O2 a HI a mezi KMnO4 a (COOH)2.  Napsali odpovídající diferenciální rovnice, integrovali je a určili koncentrace v závislosti na čase. Také navrhli rovnici pro teplotní závislosti rychlosti reakce: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k = A. TC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84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van't Hoff (The Netherlands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publikoval své "Studie o chemické dynamice" (Études de dynamique CHIMIQUE), ve kterých zobecnil a dále rozvíjel práci Wilhelmyho (o sacharoze).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1885 Harcourt and Esson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. Uvedli 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diferenciální metodu analýzy a rovněž analyzovali teplotní závislost rovnovážné konstanty (pojmenovali ji "van't Hoff rovnice"). Sledovali reakcí dopřednou i zpětnou.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87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Ostwald (Germany; Latvia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zavádí pojmy "řád reakce" a „poločas reakce" ve své knize: "Lehrbuch der allgemeinen Chemie.„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89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Arrhenius (Sweden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dále analyzoval teplotní závislost reakční rychlosti a zjistil, že lépe odpovídá vztah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K = A exp (-B / t)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kde zajedl pojem "energetická bariéra" .  Dnes nese tato rovnice jeho jméno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18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1912 Mentenová (Maude Lenora Menten, *1879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Se zabývala enzymovou kinetikou a popsala rychlost enzymové reakce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TextovéPole 1"/>
          <p:cNvSpPr/>
          <p:nvPr/>
        </p:nvSpPr>
        <p:spPr>
          <a:xfrm>
            <a:off x="684360" y="2349360"/>
            <a:ext cx="3958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Pracovala v oddělení prof. Michaelis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stala se profesorkou v 79-ti letech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4" name="Picture 2" descr="http://1.bp.blogspot.com/-7DSc73P4M_Q/VQs6mrwwwdI/AAAAAAAABHY/dUGD7b9EDGU/s1600/menten.gif"/>
          <p:cNvPicPr/>
          <p:nvPr/>
        </p:nvPicPr>
        <p:blipFill>
          <a:blip r:embed="rId1"/>
          <a:stretch/>
        </p:blipFill>
        <p:spPr>
          <a:xfrm>
            <a:off x="5692680" y="1700280"/>
            <a:ext cx="2735280" cy="42688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https://acsundergrad.files.wordpress.com/2012/07/menten-and-michaelis.jpg"/>
          <p:cNvPicPr/>
          <p:nvPr/>
        </p:nvPicPr>
        <p:blipFill>
          <a:blip r:embed="rId2"/>
          <a:stretch/>
        </p:blipFill>
        <p:spPr>
          <a:xfrm>
            <a:off x="4932360" y="2060640"/>
            <a:ext cx="4008600" cy="2114640"/>
          </a:xfrm>
          <a:prstGeom prst="rect">
            <a:avLst/>
          </a:prstGeom>
          <a:ln w="0">
            <a:noFill/>
          </a:ln>
        </p:spPr>
      </p:pic>
      <p:sp>
        <p:nvSpPr>
          <p:cNvPr id="306" name="Obdélník 3"/>
          <p:cNvSpPr/>
          <p:nvPr/>
        </p:nvSpPr>
        <p:spPr>
          <a:xfrm>
            <a:off x="655560" y="5491080"/>
            <a:ext cx="457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3366"/>
                </a:solidFill>
                <a:latin typeface="Times New Roman"/>
              </a:rPr>
              <a:t>http://www.chemheritage.org/discover/online-resources/chemistry-in-history/themes/biomolecules/proteins-and-sugars/michaelis-and-menten.aspx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5564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ca 1890 J. Willard Gibbs (US): Shrnutí termodynamik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8" name="Picture 3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53452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Shrnutí poznatků z histori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446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Řada pojmů a představ se kterými se setkáváme v chemické kinetice je již dlouho známých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Získání některých kinetických informací je velmi náročné (mechanismy reakcí, reakční koordináta,…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Moderní kinetika je interdisciplinární (biochemická kinetika, molekulová dynamika , kvantová chemie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Literatur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609480" y="1828800"/>
            <a:ext cx="7620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Významné ženy a muži vědy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http://jchemed.chem.wisc.edu/JCEWWW/Features/eChemists/Bios/Menten.html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pousek</cp:lastModifiedBy>
  <dcterms:modified xsi:type="dcterms:W3CDTF">2016-02-23T15:18:40Z</dcterms:modified>
  <cp:revision>32</cp:revision>
  <dc:subject/>
  <dc:title>Prezentace aplikace PowerPoint</dc:title>
</cp:coreProperties>
</file>