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C10C-EEB4-464A-BEC4-F79CBF020F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432C-CC0A-4256-8E30-A28E7CEED3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EA8-941F-4537-A7AE-7A8F15CF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9EF-2377-4083-B10C-75FE2B73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A4A-4E3A-46AE-969B-6C5264F7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2E3-60F3-4D13-9CEA-DDB4E2D7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8B04-27BA-499A-B96C-A4C2E2D6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DE38-FBF6-4EE9-AB29-766F06BE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B3B9-188F-4E1D-AA6E-0372573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2E63-0E6B-411D-B865-E332DCB2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D660-8DA4-4819-9563-0B45D595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88E9-E4C5-4C20-AC48-F78B355B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73E-9B18-41FB-933D-C904088C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8D6-139E-4413-B4FE-7D50A476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8FD8-6755-4CB1-9175-AA97090D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988E-1BFD-46C9-BAC8-F6DE1E1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49AF-0209-45B9-AD35-434CEFC2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79B2-BF4B-4DDF-B71D-2EF34984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2512-4B35-4172-9702-D440DE9E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BFD-E551-4E44-BCE5-ADC1FE5F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810-9A91-4D35-8A56-9A48B464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138-E75E-49B8-BD88-5F0C232A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BE0-85AC-4BC8-9FB5-D61884E8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598-91BB-452D-8A6F-CE4FF0D5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849-D00E-4EDD-86F4-F974D026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D6E-A422-468F-BD8C-93BFD77E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F51F-2673-41FC-B99D-668B87D578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6C26-19E1-4021-9657-448FE6FEB1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http://www.jergym.hiedu.cz/~canovm/mechanic/pravidl2/haber/haber.htm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http://dl.cuni.cz/cuni/mod/resource/view.php?id=94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jergym.hiedu.cz/~canovm/mechanic/pravidl2.htm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357120"/>
            <a:ext cx="807876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vztahy k pro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číslo snímku 2"/>
          <p:cNvSpPr/>
          <p:nvPr/>
        </p:nvSpPr>
        <p:spPr>
          <a:xfrm>
            <a:off x="7313760" y="615780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704C-866F-460F-B2C1-21697BFC638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90440" y="1225440"/>
            <a:ext cx="304956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332160" y="1189080"/>
            <a:ext cx="5703840" cy="5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920880" y="2114640"/>
            <a:ext cx="5400720" cy="10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360360" y="4414680"/>
            <a:ext cx="270972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360360" y="5111640"/>
            <a:ext cx="2871720" cy="490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6"/>
          <a:stretch/>
        </p:blipFill>
        <p:spPr>
          <a:xfrm>
            <a:off x="3332160" y="4948200"/>
            <a:ext cx="2403360" cy="654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268200" y="2973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41880" y="5850000"/>
            <a:ext cx="553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h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Olmsted III, G. M. Williams: Chemistry – The olekular Science, Moshby – Year Book, Inc.,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7"/>
          <a:stretch/>
        </p:blipFill>
        <p:spPr>
          <a:xfrm>
            <a:off x="4356000" y="4546440"/>
            <a:ext cx="4505400" cy="419400"/>
          </a:xfrm>
          <a:prstGeom prst="rect">
            <a:avLst/>
          </a:prstGeom>
          <a:ln w="0">
            <a:noFill/>
          </a:ln>
        </p:spPr>
      </p:pic>
      <p:sp>
        <p:nvSpPr>
          <p:cNvPr id="111" name="TextovéPole 4"/>
          <p:cNvSpPr/>
          <p:nvPr/>
        </p:nvSpPr>
        <p:spPr>
          <a:xfrm>
            <a:off x="3621240" y="45180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6012000" y="49798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centrační kvo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4" descr=""/>
          <p:cNvPicPr/>
          <p:nvPr/>
        </p:nvPicPr>
        <p:blipFill>
          <a:blip r:embed="rId8"/>
          <a:stretch/>
        </p:blipFill>
        <p:spPr>
          <a:xfrm>
            <a:off x="4317840" y="1989000"/>
            <a:ext cx="4581720" cy="240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9"/>
          <a:stretch/>
        </p:blipFill>
        <p:spPr>
          <a:xfrm>
            <a:off x="104760" y="3306600"/>
            <a:ext cx="44290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2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B60-EED0-47A0-9C97-7323BE1D62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581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číslo snímku 1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05D-CF77-49C3-AE60-A00C7D00BE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8642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4T14:54:19Z</dcterms:modified>
  <cp:revision>26</cp:revision>
  <dc:subject/>
  <dc:title>Prezentace aplikace PowerPoint</dc:title>
</cp:coreProperties>
</file>