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F838-3A71-458F-AE72-12FE084C0D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29C7-5D40-439E-88FF-BE646720B6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B6C3-B097-4BAF-A72A-3680C3FAF9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0A8-D4C3-4AA1-A7F1-4749054E71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FEC7-10E6-4BC4-918A-6E38890BED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669-315C-4D3E-8275-98CF0BCBFE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CEA-08EE-46CA-95DF-0AF6B656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F38-CAEF-42E3-A22D-DBF77413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8C77F-A090-4700-B624-9F670871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62EA-8702-478D-BA55-0A67C248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AC8EA-90D8-4D1E-AD0B-1FB2EE0B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5D2CD-DAE5-4F89-8DBD-A4E85731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E4911-AFEE-4803-AC0A-BC56A44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1DDC5-4642-4AFF-BD1F-1B37AB03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70225-BBE9-4010-8A97-5D28B6C3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EA7B9-1253-43F2-ABDB-01CC9A40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4BBD6-ABFF-4032-9431-DCF426D4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C51DA-CB60-4B14-BA96-F741810A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944-8645-484F-BDCF-9D717F8A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09E02-7923-4277-8243-6E904E70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B41C0-9E44-4E86-AF18-E55434BD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FB879-0F0A-4C9A-8623-87E37C97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394B1-B540-4C97-8AB2-FACC84F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F2324-CF9A-4EEF-A8A1-AC7AAECA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63633-C8DA-475A-9A1A-400F6CE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C8E88-A71B-4637-964D-2C60BE09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C61FC-AD30-45FC-A14F-FC83E9B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166BD-B7E8-46E1-B9FF-277C1C4E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7A7EC-E679-4FF2-9DB8-D34F99DA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4E9-2BE1-460C-9F04-9F6F138F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D315A-2F98-4BB7-9547-D75D7599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6A0E9-370C-490E-A6C6-9A9344CC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13A05-BC9D-4DAD-AB09-5BE6D394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BBF4-E6E3-4D5D-A49C-D121D10A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5E3E-72EB-49B5-BFFF-BF1B9A5E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D7E4-1C77-43B0-8D5C-523ED79A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D81C2-8610-4A92-8EC8-08092A54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B456F-E2E1-4D7F-BAE9-F3CF735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08C8F-559B-4D9C-9171-F6BC31F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BEC49-34D5-4C92-83E5-4C343B0A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D7C5-0B15-4BB5-BDE4-D5C87DC5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A15C5-955C-425C-959F-32D7273D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26D6C-AB1F-4813-A940-1FD18F9E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4BEF4-0AA8-49B3-AA83-F3EB3B28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5EFC7-A115-4E0C-941E-369E38C9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9B408-D095-4ECE-8031-5CE38A3F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87EA7-3BAA-4F49-A03D-53BEB451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F48A5-A074-494D-ADAE-E85BE732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35B63-C92D-41CF-9D1F-21EED571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F6035-BADC-40E0-A8D2-DF0D4F2D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68D5B-4B2C-4521-A3BB-4AB00333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87F0-8048-49FE-83F1-A108F2B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DA8B3-EFA5-4B47-A40D-5C186DB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B593C-0B7E-450F-A641-73746E3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8B6FA-A2D4-4BA5-B4A2-64B9A76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32BB6-1A4D-4C46-AF51-65BD4AA1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87587-744B-4EBC-BEE7-C4FF4B08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763F-A8F5-4ECF-8C70-8BC0A84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9A9A-4F4D-4960-A01A-76621AEE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8B8C-A76D-4D0D-B0E3-2831C40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F45C-EA6E-4700-9739-D1BF22A0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AA30-F358-4569-8046-491907F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CB6-E0CC-4524-BE60-5F60FC9A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EDD8-1091-4A0D-9612-7941570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FB26-339C-471A-809A-6FBBE2D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5B6A-C33C-4FB6-AE11-81A504B2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E62B-5B97-49AB-9799-FBEB33D2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FAB4-4EAF-4024-B7BA-D0F45B48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77BD-FA59-4D5E-90E5-8477FD9D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6328-D4DC-466D-BDE7-4661ACF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20FB-77E9-430F-AD80-EFB13BC6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C408B-91AA-4D25-A15C-2183CFA4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115E-C828-4304-9AA1-049C21D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CAB-AC9D-46F7-8DE6-EFFE52A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8518-E2B7-4E6F-8144-06AA420A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6FD2-B3CF-4E00-A5C2-033B4725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3F93-562E-492C-94BC-4D2D4BB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61D8-C57E-4E37-BEF0-E3D874C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1B26-B8B8-45FE-98FE-61C2A29E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B85B3-5C60-4A20-AA80-BFA9457F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85CC-7654-4E6B-BE53-D5CEC33A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B0B1-9353-4D27-B95E-BB0B0D1B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DB69-ACC4-4C54-94B0-E62884FB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F56D4-B972-4E7B-AED1-5E0ABDE6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791-076F-487E-B9A5-31101E9F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AA90-1F94-4073-9D4B-C408E13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2A2A-A05A-4403-A54D-E91DFF87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FC43-7B08-4AB8-B3F9-C465952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77C8-9EE6-4C56-A426-EC789DA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3D3A5-B648-4D30-B094-62B948CA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D98E-DE47-464C-BA96-2AB88D15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D749-435F-46E7-84D4-C423B7E6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304B8-E9F3-4144-9DDF-52912617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357C-0044-47E2-87D8-B1E63B84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0390-CD49-455F-9E35-3482BE6B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3B2-73E0-4763-A284-F7B74FAA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11C4B-07CC-4FF2-BE81-1A2222F3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EDFDB-1775-4E8B-A50A-4C7BAC14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6BEFD-FF4C-4144-995A-14CCE56D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2332D-11AD-4B2A-B256-A694B704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E6A14-9DC6-4F7B-B29E-59269780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12D2-B8C3-4AB6-B37D-7E55592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E611E-B14F-43C4-AFA1-1366D2F2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A0BD-952D-455E-A7BD-77C21D26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A472E-B9BD-42DA-B5A6-B0A9B1B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FFE7E-FA4B-40B7-AB9D-A48EB2F0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3F3-BB84-44BA-9B53-1F52660C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0D3C0-0349-4C49-A80F-C543E0D7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630E5-0B95-499B-B03C-D4D02002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2849-EE2C-4433-A739-33BF1053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7560E-0F9B-4A7C-9E19-C52B4DFD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7133-2C71-4842-A437-4B78AE26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3860-CE1E-4797-9528-C86B8449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5C773-D524-4F5B-A5B8-2216B218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2A6CA-5178-4873-900B-0C8E8D59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A0BFA-F4F2-4872-8F92-6E9275E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286B4-07A6-4954-8DA3-016A8099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984-DD30-4658-B542-9477169F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499AA-E679-41C2-A655-84C59CF8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F1BD4-D7E7-4681-A7DD-87A3E439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F811A-6880-44AE-A717-36E216AA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4177-53A2-4381-B2A4-F1B6356E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308DE-E1EF-426B-8CDA-FF8CE223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47FE4-819F-45B5-B01E-12270761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8330-D454-4EC1-A5BA-5CC6C076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60E5B-629A-4A71-92A5-A31703B4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BBE5F-44DC-4FDA-A728-2924C4EF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4E34B-5CEE-49A8-A3B3-E2BCE65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E11-53FA-492E-9FE4-24898EB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DD37E-260C-4472-AD87-A765DF8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F966D-B4CE-49F7-A6A3-C035473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7805-1C40-47BF-A1D0-CA2DBC9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B465-F6E8-44A7-B318-1CD5B125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04E6-E403-4D13-831B-CD8A9E73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5264B-D0DA-46C0-893E-2C534EAE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6180D-6712-486E-B142-A5E9CA4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0F79D-77D4-4DD9-8FCC-562CE376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606CC-7644-41A9-8A65-D6017923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7BBAB-6424-4FC3-A0CE-167FE5B0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891-971C-43F5-AB50-08017EE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6099E-1887-47E5-ACD3-9179AEA7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E92C-DF00-492D-A225-A0389D8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2B58-71A6-4EC5-8795-0C66934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F98C2-AF2D-4811-A143-DA70286C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F62C3-6210-458A-A6B4-AA0563A6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143E0-3C92-4661-988B-7F407997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B154C-0343-4AE2-82E2-8A364451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3CB4A-4C49-4D06-B225-8795589B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970C1-7901-481C-B2C1-0806BA4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9ED2-1CB4-41B6-910C-043B5346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BD36-6554-4523-A587-36779AC81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729-BF40-4C2C-BAF1-AD589B7A6F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F92-7BFD-4FD9-9DD2-BD2B4A184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D2D9-260F-4981-984A-78EA2665B1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9F5E-9E52-4A35-947D-53A88D3C21D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6B1-D197-488B-8925-9B0A8CA2F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0BDD-9645-4E6E-A462-3E8B4DEE19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B6EB-98B6-465A-A7DF-ACA9E31AD0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1DC0-FE6A-4567-ABE0-665CC60A3F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764-D32D-433E-AC71-24958047E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7EBF-3CEC-4E55-9643-040C16C016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1A73-F79F-41E4-AEDE-25F80C2B0A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C19-F4DA-4F13-8171-7D0B6A4013C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1D0B-4DD0-40E5-AB06-2C6B805A22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4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55FE-B9B3-4A84-AD95-BDCB553118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26EB-2492-4281-95BD-22F6F1CA75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5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852F-F52F-4DF4-B50F-09C564DEAF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100-06BE-43D0-BF51-CD743B852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65C2-0D9A-4054-84E8-963FBF368A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F36C-FEE1-4403-A660-B5609486AF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sopousek@chemi.muni.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kázání schopnosti samostatně řešit modelové    problémy kinetiky reak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B1FF-C660-4A57-A6BB-4D379707A5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ce semináře:</a:t>
            </a:r>
            <a:br>
              <a:rPr sz="3600"/>
            </a:b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C6330 Chemická kinetik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í software urychlujícího práci (zejména EXCEL, math CAD, ) Matematika: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 probírané tématiky dle sylabu přednášky C6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9228-4FE4-47E7-9836-9CCF69123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1717"/>
                </a:solidFill>
                <a:latin typeface="Times New Roman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295B-0CA2-439B-ABEA-78ED44F3B8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ník z fyzikální chemie VŠChT: http://www.vscht.cz/fch/prikladnik/prikladnik/p.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3E37-0B64-4F23-B2D4-C40ABCD81C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28C4-241E-4FA1-9043-B622A21E8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3614-DBFD-4803-85A2-31578B15D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A018-899E-423F-98D6-E73AEA727E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4:41:49Z</dcterms:modified>
  <cp:revision>36</cp:revision>
  <dc:subject/>
  <dc:title>Prezentace aplikace PowerPoint</dc:title>
</cp:coreProperties>
</file>