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34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32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20.png" ContentType="image/png"/>
  <Override PartName="/ppt/media/image18.wmf" ContentType="image/x-wmf"/>
  <Override PartName="/ppt/media/image36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935D-3E9E-4E54-B25E-9FE47B66A55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A29C-B337-4A4B-A0A6-E4938D4D1FD7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6F2-94D4-4D1C-BA2F-CDCB1974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19B-E9AE-4EA5-80C1-52E71234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F6E2-1F81-470F-BE9A-91854F74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5B8-9728-476C-980A-3DF1E0B0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A0BF-26A0-40BD-991A-7AE2D9D9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C5CD-7406-4BD4-A993-345319CF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2659-1980-4037-96CD-84D7D3B1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432E-F9C6-4FCA-B21E-BAF9A966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104C-02B5-43EA-BBFC-4C2992B8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495A-BA71-4C5F-B7C4-5D7A85A4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FBAB-6726-4722-972D-8618CF20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AC00-5335-41AC-9C33-956EBFDD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CEA9-F134-49A9-B6FB-18603A08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04A4-9321-45FC-AB0C-942B8AA4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2B75-F5A5-4F8F-A78F-2EBE67A5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0FBB-482D-48DB-9CF0-44F68BF1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A232-5630-43C5-8AF8-9B390BFD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1E6F-1C70-48B3-80AF-11A750E0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B453-92BF-4103-9B9C-D7C3462D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DA1-4A25-4F49-9BDC-B0F5B48B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CBFF-81A3-42C3-90A6-443A594A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4A7-9F7A-4CB8-B598-1CEFE17D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8FB-9E05-46CF-B74A-14914150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C51-1737-423A-8FAB-17D55B07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D389-2BFB-4226-813C-2D585EECCB4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9811-6923-4B6F-B07E-1AD9F1823CFF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407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ermodynamika chemických reakc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49" name="Picture 4" descr="C:\Documents and Settings\Sopoušek\Dokumenty\Obrázky\Chemické reakce\reakce barevná.bmp"/>
          <p:cNvPicPr/>
          <p:nvPr/>
        </p:nvPicPr>
        <p:blipFill>
          <a:blip r:embed="rId1"/>
          <a:stretch/>
        </p:blipFill>
        <p:spPr>
          <a:xfrm>
            <a:off x="4114800" y="2286000"/>
            <a:ext cx="41148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094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Rozdělení reakcí (jeden z pohledů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0" name="Picture 4" descr="C:\Documents and Settings\Sopoušek\Dokumenty\Obrázky\Chemické reakce\reakce ch4+H2o.gif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454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:\Documents and Settings\Sopoušek\Dokumenty\Obrázky\Chemické reakce\H2_O2.gif"/>
          <p:cNvPicPr/>
          <p:nvPr/>
        </p:nvPicPr>
        <p:blipFill>
          <a:blip r:embed="rId2"/>
          <a:stretch/>
        </p:blipFill>
        <p:spPr>
          <a:xfrm>
            <a:off x="56386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324480" y="129528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Odpovídají reakční rovnice skutečnosti? Najdi chybu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Termodynamické důvody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Samovolné procesy jsou provázeny růstem entropie (vysvětlení viz lit.: Olmst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Entropii čistých látek i sloučenin lze vypočítat z 3.V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Pro uzavřené soustavy s konst. P a T je kriteriem Gibbsova energi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Pro uzavřené soustavy s konst. V a T je kriteriem Helmholzova energie  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5"/>
          <a:stretch/>
        </p:blipFill>
        <p:spPr>
          <a:xfrm>
            <a:off x="6172200" y="3882960"/>
            <a:ext cx="2454120" cy="461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5943600" y="5105520"/>
            <a:ext cx="259092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92160"/>
            <a:ext cx="693432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Jak se mění Gibbsova energie při chemické reakci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33224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914400" y="1066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apř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2133720" cy="1039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7791480" cy="55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2361960" cy="100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2438280" y="6095880"/>
            <a:ext cx="1184400" cy="532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380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 rovnováz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33548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2895480" y="990720"/>
                <a:ext cx="18288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Picture 15" descr=""/>
          <p:cNvPicPr/>
          <p:nvPr/>
        </p:nvPicPr>
        <p:blipFill>
          <a:blip r:embed="rId5"/>
          <a:stretch/>
        </p:blipFill>
        <p:spPr>
          <a:xfrm>
            <a:off x="5486400" y="838080"/>
            <a:ext cx="3429000" cy="3408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228600" y="1981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Rozsah reak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6"/>
          <a:stretch/>
        </p:blipFill>
        <p:spPr>
          <a:xfrm>
            <a:off x="457200" y="3352680"/>
            <a:ext cx="1371600" cy="420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"/>
          <p:cNvPicPr/>
          <p:nvPr/>
        </p:nvPicPr>
        <p:blipFill>
          <a:blip r:embed="rId7"/>
          <a:stretch/>
        </p:blipFill>
        <p:spPr>
          <a:xfrm>
            <a:off x="457200" y="2819520"/>
            <a:ext cx="1295280" cy="4521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9"/>
          <p:cNvSpPr/>
          <p:nvPr/>
        </p:nvSpPr>
        <p:spPr>
          <a:xfrm>
            <a:off x="4114800" y="525780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Chemické reakce způsobuje snaha o snížení G soustavy (integr. podmínka), látky reagují tak dlouho až dojde k vyrovnání chemického potenciálu (dif. podm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350532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0" name="Picture 21" descr=""/>
          <p:cNvPicPr/>
          <p:nvPr/>
        </p:nvPicPr>
        <p:blipFill>
          <a:blip r:embed="rId8"/>
          <a:stretch/>
        </p:blipFill>
        <p:spPr>
          <a:xfrm>
            <a:off x="2514600" y="1752480"/>
            <a:ext cx="25909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Reakční Gibbsova energie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890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173760" y="1066680"/>
            <a:ext cx="2200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+3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2 N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1371600" cy="690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0" y="26668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Obecný matematický zápi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3809880" cy="843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4"/>
          <a:stretch/>
        </p:blipFill>
        <p:spPr>
          <a:xfrm>
            <a:off x="6019920" y="3429000"/>
            <a:ext cx="2286000" cy="873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4724280" y="3657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Nebo-li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5"/>
          <a:stretch/>
        </p:blipFill>
        <p:spPr>
          <a:xfrm>
            <a:off x="609480" y="5013360"/>
            <a:ext cx="2971800" cy="744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38862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6"/>
          <a:stretch/>
        </p:blipFill>
        <p:spPr>
          <a:xfrm>
            <a:off x="4800600" y="4952880"/>
            <a:ext cx="914400" cy="641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4"/>
          <p:cNvSpPr/>
          <p:nvPr/>
        </p:nvSpPr>
        <p:spPr>
          <a:xfrm>
            <a:off x="66294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Např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41259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3745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8"/>
              <p:cNvSpPr txBox="1"/>
              <p:nvPr/>
            </p:nvSpPr>
            <p:spPr>
              <a:xfrm>
                <a:off x="5943600" y="5562720"/>
                <a:ext cx="25797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≃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Text Box 20"/>
          <p:cNvSpPr/>
          <p:nvPr/>
        </p:nvSpPr>
        <p:spPr>
          <a:xfrm>
            <a:off x="533520" y="5943600"/>
            <a:ext cx="487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Reakce běží dokud Q nedosáhne rovnovážné hodnoty (K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Změny termodynamických funkcí a samovolnos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04920" y="24242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izké teploty: převládá entalpický příspěve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ysoké teploty: převládá entropický příspěvek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1360" y="-3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abilita sádrov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74040"/>
            <a:ext cx="7259760" cy="94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Výpočty reakčních termodynamických funkcí: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7239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Z tvorných Gibbsových energií reaktantů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04920" y="29718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Analogicky pro entalpii a entropii: …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960" y="190080"/>
            <a:ext cx="7621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fektivita buňk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04920" y="1981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Prostá oxidace glukózy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04920" y="914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1) Celková reakce v buň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3) Přeměna 36 ADP na 36 AT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Celkový efekt kombinace reakcí v buňce (2) a (3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09480" y="525780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ýsledek: ačkoliv 1100kJ je uloženo do ATP , zbytek (tj. 1770kJ) se nevyužije a přemění se v tepelný pohyb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Tj. účinnost buňky je 38%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635040"/>
            <a:ext cx="74055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vztah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762120" y="5105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Možný efekt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2860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 rovnov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2-17T08:47:41Z</dcterms:modified>
  <cp:revision>53</cp:revision>
  <dc:subject/>
  <dc:title>C6730 Fázové rovnováhy</dc:title>
</cp:coreProperties>
</file>