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3D53-1461-4A7D-BCC2-BC526994BC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60EB-57E1-4A3A-B17F-CD25C7F9E2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296-087D-48DC-86FC-24928C35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B3A-6B3B-49FB-BF44-9A4D7870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6CFB2-EBDD-4AC1-9182-3965DE74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46D30-4D62-42BD-BE4C-7F2BC10D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7BAC6-F00C-4B13-9818-BC5F3074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E56F0-F871-4C47-AF86-530F8675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2A49E-C90D-43F1-96FA-65C5EF70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7291C-D6E3-483D-B9BE-203CF752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32925-F428-4EFF-90CA-6B5315DA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C4A77-1007-4A5A-A99E-8BAD2E0D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6C0AE-50C6-4D99-885C-77FBEF7A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3006B-A9A5-45FB-BA8D-FDF1BCCA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0D2-6F92-4B08-9BE9-3C02045C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01DC2-116D-4323-A26F-5F72C83D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FCA9A-3A30-4624-B5FA-D43C0448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561EE-B0FD-42CE-A0DD-D83032FB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62722-AC40-44F4-81AE-2A910166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99522-29C0-40EA-91AB-DDDB509F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44B94-47EE-4BF3-A9F6-746FD1CE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187EC-DC55-4566-8581-FB7F7BDE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341A9-B24E-4130-AA28-F4820D88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A8BA4-4522-4084-B812-C11365DC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F8F94-F0C8-4797-AB1D-C0481959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ADB-70FD-496B-824C-739F6C7D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3F363-F096-40F5-B9AE-0DCFD7DA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5545F-5971-4B89-B817-9AC8CC2C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81B1B-3137-4FA0-801C-338E5F44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508EB-E9E3-4122-B765-B418C281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F7FCD-93DA-4D89-AED2-845A71A3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FE436-3375-4A0E-91BC-BA87C6B9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4E374-16FF-48FB-AB90-E10B88C9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5EBD4-3A26-43CC-8877-CB47BFD2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A19CF-07A8-480F-AAF0-0F1766CD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E23CA-DC22-44E9-A92E-5F2C4649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1A83-78EF-4A40-8504-57817EED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C0903-E7BE-48F0-AECF-DF50C3D7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171D2-A54B-4A56-97B8-E192A318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FB348-B703-46BD-8A1B-ABA6D337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DFCEA-F464-4E94-9368-23302C67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5EF22-D42C-4005-8179-C67FC602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3FCC5-A764-481A-B48C-B96CAB45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9EC60-01F5-4207-9FC0-CF59EC21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D8A62-CFC5-4CA3-836E-40E20A60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06762-E40D-47F4-AFEF-BFE951F0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C499A-FE44-403E-AD0A-C34EFDBC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D4C1-0BBD-48F8-A6A3-9AEAC1DD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7919A-6C30-4090-A9F4-8728A21A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F1663-BD64-4557-8CA1-FE8779C3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84EBF-8D45-4121-99C9-DDFF1853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31798-C698-4DB9-B5D6-17DF9D8F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FFC01-E9F4-404C-909F-6F2F1E24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AB3C2-5DB6-4118-9465-0CB9E8A7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C940C-DEA9-4607-988E-A788AC13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A1A26-530F-4D3F-92FE-D3DBF8E5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E807C-4AFF-4BF2-BB0C-5C1E477B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789ED-27BD-4463-B6D5-3BFC4B8D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8BAE-3E54-4B95-AE7C-90F6DE63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C7F16-2BF5-45F2-B4BC-69CE739F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BD403-C772-4775-8257-492F9DDF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F545A-F931-4D18-89BD-EE609B7B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4B8A5-CD7D-4A46-B0A6-81399044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D0CC3-65D0-414E-BFB4-AC99CF49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98049-BB79-4759-BE0F-A0F4BD5C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54612-2A17-4525-A687-8DAC4239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A51F-6272-452C-8477-1CD6D508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BC5E-9AF1-450E-A1ED-DD6DB4F7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D4AE-CB07-42E1-A6E3-F2B70BFA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F542-EF85-41F2-9189-620D3263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C23-A13F-4B28-B997-52486186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F506-B7FA-46F6-8C6D-834F9839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B2A7-A935-46FE-9E52-38976D2F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6449-10D6-44C9-BFA7-6FFEA3E1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9137-4BC0-48F6-8DBA-42FD2FED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878C-6C0F-4AAA-A8E4-0A02EED2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1EFB2-1070-46FF-8EE7-66E2883B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10A97-2507-47CF-9B69-90BB23DB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B11D-55D3-4D6F-82D4-B2C5D997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0512-CE50-4C86-BA06-8C59E4FC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86699-6BB7-4CC7-8E35-D5B5A423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063-C34B-4203-B877-B67E17E7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4840-B0B5-4526-985F-EE181EE0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9DD1-C2E9-431A-8252-FA4A433A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79BC5-6F03-467A-B1B2-44D96C83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72BE-1884-4FE2-B4D9-E03C773B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9D06A-3455-4180-80FA-F43D3F88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7D459-AE0C-4FF1-8E1C-A4150769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34B57-4557-498F-9C84-DF3686CD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BBCA3-1473-4BFF-AAD5-BDD3D0A5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46812-2472-4214-852C-364EBBFD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FEBDF-CA51-4E0F-B741-60959EE5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C67-746D-4162-8981-904813BE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598BC-BA2E-45D2-8B40-DBE2EAF3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538DC-29B1-4532-AE3C-354AE501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C9508-C95F-47A7-887B-0E4482F2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5A7C-B38D-4E10-A6E6-71442C03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DC5CE-D6E7-42F3-8F9D-5BFE1228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5ED3F-8783-4221-9FEE-DD71FFFB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2CEAF-6A3C-4310-9D28-2536230F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24A28-9BAD-4FDA-BB77-6F532EA0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E937A-6B1B-410F-9307-7CB07F1D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DAB9C-3B60-404C-B6A5-81A91F56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3B5-8CB6-40CB-80A1-CAECCB33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44754-7336-4B6D-863F-C90F0522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9335A-75CD-4D38-8B4F-A02348BB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FFE45-3207-4BC4-B1CE-29789435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CDE33-D95D-4C19-8C11-F73A87A1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8F6ED-7229-4CF4-8190-37A3B294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04BCD-3D1F-43C9-A0CB-697AC4F5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363CE-AD2F-4E25-A99D-D5C255BF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AFBD5-96EA-4D60-A366-35E170F9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9DC31-FC10-4553-BD60-6100B198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9BFC4-C941-4430-90D1-7A15E12A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103-6596-456F-AF00-9776E0A2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65BC9-96EC-4FA3-AD42-1A19B404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AFFDB-D0A2-44BD-BBA0-4DF2F196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547BA-0177-452C-8B83-C84A85B5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EAC85-094F-4E53-A933-C26DF3DC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F9106-C649-4182-9DDD-11038CCB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3980C-A85F-499E-AC8F-9303A0A9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0AEFC-C71F-4402-8165-5AE54D51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0906C-DAD9-48B5-8F4B-F4A86E67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B8E64-A00D-44DE-8FA5-934B6AE8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331BF-ED84-4402-A3F0-D30EC4F7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0BE-6075-41DF-A683-DB20CF7F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A63D6-7BC5-4497-8EFE-079FC7A6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9F6F9-FF9B-4935-BBB2-24553CFE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AE74F-E738-436D-B139-7E23F3AE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2962E-7A41-4987-BB0D-FDE7DA1A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8F90D-5DF3-4ED7-8E38-0F9836E1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6F9CE-7531-4532-927E-4DA8E572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9CD91-9A3A-4F9A-8224-299B3602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11373-EBE4-41FE-9000-27521DA5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EBAF8-0C9C-4A07-BA31-55F03820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18A3F-4727-4ADA-8CFE-15115381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9EB-A1E0-497A-9859-AC9B8E47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ADD47-132D-4509-9F2A-F9715C45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FF99A-61BC-4F17-85AD-8BA86D2D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360CA-E6D1-40A5-A6C8-B831C766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65F7B-46D5-421A-89A5-4154C423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6B912-324E-46AF-9F1A-7EF03B12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658EF-40E9-4B9B-810C-C86CD724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87AB9-5CED-4E61-8DEE-F03E44D3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CB762-AFB5-4B61-B4C4-67CEA7CB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9ED3B-FAD8-4DB5-8EE4-61E33BF0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C642C-407C-44DD-833D-D7934F26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86F-67E0-4653-A25E-5EA4877A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82F99-8ED8-4FEB-9F84-94C05C33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FEFF8-95D8-41B2-9EB5-0E87DFB9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2D8B6-3507-458F-9693-D04D8136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7D280-D7E8-470E-A4D7-5CEC5279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EB329-7AE6-45E9-BF32-75266B51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021FB-CA6F-48F7-8C64-72E86B2E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A08DA-FB60-4320-8B20-020D577D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1C348-BB44-4362-99D8-6A8598E0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4D136-B78F-4804-9E6C-59EE2FC1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DBF4E-7A2C-416D-AF97-D0338E91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Přímá spojnice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5FDB-C12C-4DFD-A42C-F2A8461AA45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Přímá spojnice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Přímá spojnice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E432-A078-4A74-AAC5-47CBF095F13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EA88-3ADD-404F-94C7-DAB27412C33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9910-783B-4552-BC92-A5D44637532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CC63-20DA-4A3C-81A6-56B2134A0F1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2936-8EFF-4217-95CC-17F08C7E600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70CB-B85B-47A3-823C-D7A6A4172AE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Přímá spojnice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36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7839-F36E-4775-BFFC-802A2AC2CAF4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9220-AFC7-4896-8F24-D32475107AC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Přímá spojnice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2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34A3-80B2-4153-A9C8-D78C99537F2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7B9B-9846-4652-9E7D-391434A5E62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A1BE-1092-41E7-AFFD-1A9431D3B6C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Přímá spojnice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47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A9A7-97D3-41D3-AF4B-CF858011CD5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93560" y="669960"/>
            <a:ext cx="8028000" cy="2762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2F29-6839-4EF4-BBF9-3050FE70A8C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bdélník 1"/>
          <p:cNvSpPr/>
          <p:nvPr/>
        </p:nvSpPr>
        <p:spPr>
          <a:xfrm>
            <a:off x="2286000" y="2828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76320" y="-192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28600" y="-39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380880" y="112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3" descr="http://4.bp.blogspot.com/-UtjRz5BKRBE/TliAGdz3tEI/AAAAAAAAAgI/m_ZIAoTzqfQ/s1600/wolfram+alpha.jpg"/>
          <p:cNvPicPr/>
          <p:nvPr/>
        </p:nvPicPr>
        <p:blipFill>
          <a:blip r:embed="rId2"/>
          <a:stretch/>
        </p:blipFill>
        <p:spPr>
          <a:xfrm>
            <a:off x="1332000" y="3774960"/>
            <a:ext cx="2563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2" descr=""/>
          <p:cNvPicPr/>
          <p:nvPr/>
        </p:nvPicPr>
        <p:blipFill>
          <a:blip r:embed="rId1"/>
          <a:stretch/>
        </p:blipFill>
        <p:spPr>
          <a:xfrm>
            <a:off x="493560" y="609480"/>
            <a:ext cx="8272440" cy="12747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ate 1/x dx from 1 to 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A967-18DE-4618-AD5C-AE11AC3E146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http://www.wolframalpha.com/input/subpodaction/?c=5a&amp;u=%2Finput%2Fsubpodimage.jsp%3Fpodtitle%3DVisual%2520representation%2520of%2520the%2520integral%26cdtf%3DMSP113201gh8627505579700004afd518f82bh1350%26i%3Dintegrate%25201%252Fx%2520dx%2520from%25201%2520to%252010%26theme%3D1%26plottype%3DDefault%26incframe%3Dfalse%26inctitle%3Dfalse%26incinput%3Dfalse%26mck%3D%26spidx%3D1%26s%3D59%26id%3DMSP112201gh8627505579700003h799a8c67d5cacg%26podidentifier%3DVisualRepresentationOfTheIntegral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530280" y="2781360"/>
            <a:ext cx="5194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grate -1/a 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Zástupný symbol pro číslo snímku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9681-E122-43EA-BF38-A15C676BF8E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http://www.wolframalpha.com/input/subpodaction/?c=5a&amp;u=%2Finput%2Fsubpodimage.jsp%3Fpodtitle%3DPlots%2520of%2520the%2520integral%26cdtf%3DMSP17331h47d00hi5e09bg3000050717fi59679bi5g%26i%3Dintegrate%2520-1%252Fa%2520da%26theme%3D1%26plottype%3D2DMathPlot%26incframe%3Dfalse%26inctitle%3Dfalse%26incinput%3Dfalse%26mck%3D%26spidx%3D1%26s%3D63%26id%3DMSP17311h47d00hi5e09bg300002ed5067866bg4fb5%26podidentifier%3DPlot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826920" y="2565360"/>
            <a:ext cx="6913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75800" cy="1122480"/>
          </a:xfrm>
          <a:prstGeom prst="rect">
            <a:avLst/>
          </a:prstGeom>
          <a:ln w="0">
            <a:noFill/>
          </a:ln>
        </p:spPr>
      </p:pic>
      <p:sp>
        <p:nvSpPr>
          <p:cNvPr id="578" name="Zástupný symbol pro číslo snímku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520A-1C12-48AD-9749-E7E66B01371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d1592"/>
          <p:cNvPicPr/>
          <p:nvPr/>
        </p:nvPicPr>
        <p:blipFill>
          <a:blip r:embed="rId2"/>
          <a:stretch/>
        </p:blipFill>
        <p:spPr>
          <a:xfrm>
            <a:off x="1042920" y="2421000"/>
            <a:ext cx="6461280" cy="326880"/>
          </a:xfrm>
          <a:prstGeom prst="rect">
            <a:avLst/>
          </a:prstGeom>
          <a:ln w="0">
            <a:noFill/>
          </a:ln>
        </p:spPr>
      </p:pic>
      <p:sp>
        <p:nvSpPr>
          <p:cNvPr id="580" name="TextovéPole 1"/>
          <p:cNvSpPr/>
          <p:nvPr/>
        </p:nvSpPr>
        <p:spPr>
          <a:xfrm>
            <a:off x="395280" y="162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-teho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852640"/>
          <a:ext cx="7445520" cy="3795840"/>
        </p:xfrm>
        <a:graphic>
          <a:graphicData uri="http://schemas.openxmlformats.org/drawingml/2006/table">
            <a:tbl>
              <a:tblPr/>
              <a:tblGrid>
                <a:gridCol w="403200"/>
                <a:gridCol w="70423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0.řádu (n = 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. řádu (n = 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. řádu (n = 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I. řádu (n = 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n.řád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582" name="Picture 10" descr="http://www.vscht.cz/fch/frvs/html/math/d1594.gif"/>
          <p:cNvPicPr/>
          <p:nvPr/>
        </p:nvPicPr>
        <p:blipFill>
          <a:blip r:embed="rId3"/>
          <a:stretch/>
        </p:blipFill>
        <p:spPr>
          <a:xfrm>
            <a:off x="2151000" y="3276720"/>
            <a:ext cx="5699160" cy="152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http://www.vscht.cz/fch/frvs/html/math/d1595.gif"/>
          <p:cNvPicPr/>
          <p:nvPr/>
        </p:nvPicPr>
        <p:blipFill>
          <a:blip r:embed="rId4"/>
          <a:stretch/>
        </p:blipFill>
        <p:spPr>
          <a:xfrm>
            <a:off x="2050920" y="3860640"/>
            <a:ext cx="570708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http://www.vscht.cz/fch/frvs/html/math/d1596.gif"/>
          <p:cNvPicPr/>
          <p:nvPr/>
        </p:nvPicPr>
        <p:blipFill>
          <a:blip r:embed="rId5"/>
          <a:stretch/>
        </p:blipFill>
        <p:spPr>
          <a:xfrm>
            <a:off x="2062080" y="4653000"/>
            <a:ext cx="5684760" cy="3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http://www.vscht.cz/fch/frvs/html/math/d1597.gif"/>
          <p:cNvPicPr/>
          <p:nvPr/>
        </p:nvPicPr>
        <p:blipFill>
          <a:blip r:embed="rId6"/>
          <a:stretch/>
        </p:blipFill>
        <p:spPr>
          <a:xfrm>
            <a:off x="2200320" y="5373720"/>
            <a:ext cx="5684760" cy="419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http://www.vscht.cz/fch/frvs/html/math/d1598.gif"/>
          <p:cNvPicPr/>
          <p:nvPr/>
        </p:nvPicPr>
        <p:blipFill>
          <a:blip r:embed="rId7"/>
          <a:stretch/>
        </p:blipFill>
        <p:spPr>
          <a:xfrm>
            <a:off x="2200320" y="6237360"/>
            <a:ext cx="568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ate -1/2 dt from t=0 to 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2.0611536224385578279659403801558209763758072755991036929... × 10^-7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20 levá i pravá stra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dA/dt=k*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ří Sopoušek</cp:lastModifiedBy>
  <dcterms:modified xsi:type="dcterms:W3CDTF">2020-03-10T08:27:18Z</dcterms:modified>
  <cp:revision>21</cp:revision>
  <dc:subject/>
  <dc:title>Prezentace aplikace PowerPoint</dc:title>
</cp:coreProperties>
</file>