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5.wmf" ContentType="image/x-wmf"/>
  <Override PartName="/ppt/media/image13.png" ContentType="image/png"/>
  <Override PartName="/ppt/media/image33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32.png" ContentType="image/png"/>
  <Override PartName="/ppt/media/image41.jpeg" ContentType="image/jpeg"/>
  <Override PartName="/ppt/media/image42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media/image3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A41-EC7D-4EA1-9264-26FDA6B969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4C0-86F8-41E1-A3D5-6A974991527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A4B-A1B2-475F-9854-F1A68CEC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07E-F365-4C1A-B843-DF190D44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810-1C3C-4C11-8F7B-BFB927CA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3E6-C00A-46C7-8337-ECA65108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47A4-CA12-4293-9342-2D002103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593-4A99-4E51-8E08-1FC83DD5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17D-2F79-496A-81EA-190D5359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5A5-F825-4DE0-9D88-F65C971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C94-2F0D-46D4-A923-54B07EAD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E348-D79B-4CF4-89A2-25F082F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440A-BD32-444A-B5BE-716F316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C69-F21C-45C0-84E9-AA222B7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A418-9F2D-4A8B-AC08-CE8D4DE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206-83B9-4AC5-A230-33965C5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D9A3-4A08-4DF3-B9A2-6F18850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F58-1412-4F97-8D95-ED409160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B8EB-60B0-4E52-BB16-6AF2421F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140-CCB2-441F-9AFD-69D632B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D64-F180-40EB-A885-94F66CA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CBD-65B6-42A6-807F-314A682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693-4F54-4622-A1E6-36C80A0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DEB-E0EE-4265-8125-6F43BE6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ABC-4321-48CC-9FAE-18D3D56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71B-F703-4181-A48F-88BD11D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75D-D92A-4A75-B8EC-2E60004E72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C0D0-4B51-4E1C-877D-5D88B7125AD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1" descr=""/>
          <p:cNvPicPr/>
          <p:nvPr/>
        </p:nvPicPr>
        <p:blipFill>
          <a:blip r:embed="rId2"/>
          <a:stretch/>
        </p:blipFill>
        <p:spPr>
          <a:xfrm>
            <a:off x="434880" y="437832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ál 6"/>
          <p:cNvSpPr/>
          <p:nvPr/>
        </p:nvSpPr>
        <p:spPr>
          <a:xfrm>
            <a:off x="434880" y="4146480"/>
            <a:ext cx="242424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Obdélník 5"/>
          <p:cNvSpPr/>
          <p:nvPr/>
        </p:nvSpPr>
        <p:spPr>
          <a:xfrm>
            <a:off x="2274840" y="29750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66"/>
                </a:solidFill>
                <a:latin typeface="Times New Roman"/>
              </a:rPr>
              <a:t>http://www.pegacat.com/cbetts/phd/nanosimulator/nanosimulator.html</a:t>
            </a:r>
            <a:endParaRPr b="1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62946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římá spojnice 2"/>
          <p:cNvSpPr/>
          <p:nvPr/>
        </p:nvSpPr>
        <p:spPr>
          <a:xfrm>
            <a:off x="493560" y="34596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1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12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2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"/>
          <p:cNvSpPr/>
          <p:nvPr/>
        </p:nvSpPr>
        <p:spPr>
          <a:xfrm>
            <a:off x="5952960" y="3697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 koul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4" name="Přímá spojnice se šipkou 3"/>
          <p:cNvCxnSpPr/>
          <p:nvPr/>
        </p:nvCxnSpPr>
        <p:spPr>
          <a:xfrm flipH="1">
            <a:off x="4495320" y="569520"/>
            <a:ext cx="1301040" cy="556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3"/>
          <p:cNvSpPr/>
          <p:nvPr/>
        </p:nvSpPr>
        <p:spPr>
          <a:xfrm>
            <a:off x="5296680" y="443700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4565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1"/>
          <p:cNvSpPr/>
          <p:nvPr/>
        </p:nvSpPr>
        <p:spPr>
          <a:xfrm>
            <a:off x="1004040" y="56419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Porovnej vodu, pak hustý glycerol a nízkoviskosní rozpouštědla!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49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hování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9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1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2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75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ovéPole 1"/>
          <p:cNvSpPr/>
          <p:nvPr/>
        </p:nvSpPr>
        <p:spPr>
          <a:xfrm>
            <a:off x="307800" y="6419880"/>
            <a:ext cx="878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e vodě je tlumena repulse souhlasných nábojů iontů, tj. reakce iontové dobře probíhaj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80" name="TextovéPole 1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úzí řízené reakce s ohledem na náboje reagujících látek je důle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2" descr="http://fc09.deviantart.net/fs71/i/2010/248/6/d/diffusion_by_sunshine1994-d2y45vk.jpg"/>
          <p:cNvPicPr/>
          <p:nvPr/>
        </p:nvPicPr>
        <p:blipFill>
          <a:blip r:embed="rId1"/>
          <a:stretch/>
        </p:blipFill>
        <p:spPr>
          <a:xfrm>
            <a:off x="3635280" y="44863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technet.pnnl.gov/sensors/nuclear/projects/images/nuclear14.gif"/>
          <p:cNvPicPr/>
          <p:nvPr/>
        </p:nvPicPr>
        <p:blipFill>
          <a:blip r:embed="rId2"/>
          <a:stretch/>
        </p:blipFill>
        <p:spPr>
          <a:xfrm>
            <a:off x="755640" y="4497480"/>
            <a:ext cx="15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mmu.ic.polyu.edu.hk/mu_proj/2010/I2/images/ht_method_img/ht_method_clip_image006.jpg"/>
          <p:cNvPicPr/>
          <p:nvPr/>
        </p:nvPicPr>
        <p:blipFill>
          <a:blip r:embed="rId3"/>
          <a:stretch/>
        </p:blipFill>
        <p:spPr>
          <a:xfrm>
            <a:off x="3132000" y="382680"/>
            <a:ext cx="3273480" cy="26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ttp://www.pegacat.com/cbetts/phd/nanosimulator/1dgradient.gif"/>
          <p:cNvPicPr/>
          <p:nvPr/>
        </p:nvPicPr>
        <p:blipFill>
          <a:blip r:embed="rId4"/>
          <a:stretch/>
        </p:blipFill>
        <p:spPr>
          <a:xfrm>
            <a:off x="6804000" y="382680"/>
            <a:ext cx="1989000" cy="265248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826920" y="3463920"/>
            <a:ext cx="51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ustotní gradient, kombinace difúze a konvek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471320" y="6127920"/>
            <a:ext cx="54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např: https://is.muni.cz/th/394306/prif_b/Sablona.pdf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2"/>
          <p:cNvSpPr/>
          <p:nvPr/>
        </p:nvSpPr>
        <p:spPr>
          <a:xfrm>
            <a:off x="900000" y="1413000"/>
            <a:ext cx="793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5"/>
          <p:cNvSpPr/>
          <p:nvPr/>
        </p:nvSpPr>
        <p:spPr>
          <a:xfrm>
            <a:off x="380880" y="1700280"/>
            <a:ext cx="7647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Obdélník 1"/>
          <p:cNvSpPr/>
          <p:nvPr/>
        </p:nvSpPr>
        <p:spPr>
          <a:xfrm>
            <a:off x="2627280" y="1989000"/>
            <a:ext cx="3168720" cy="28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8520" y="286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2. Fickův zákon v soustavách s cylindrickou a sférickou symetri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9" name="Obdélník 2"/>
          <p:cNvSpPr/>
          <p:nvPr/>
        </p:nvSpPr>
        <p:spPr>
          <a:xfrm>
            <a:off x="0" y="651996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ifúze v reálných soustavách (chemický potenciál a mobilita): </a:t>
            </a: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s://www.slideshare.net/azee_kn/p-diffusion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Obrázek 1" descr=""/>
          <p:cNvPicPr/>
          <p:nvPr/>
        </p:nvPicPr>
        <p:blipFill>
          <a:blip r:embed="rId1"/>
          <a:stretch/>
        </p:blipFill>
        <p:spPr>
          <a:xfrm>
            <a:off x="684360" y="1351080"/>
            <a:ext cx="748656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2"/>
          <p:cNvSpPr/>
          <p:nvPr/>
        </p:nvSpPr>
        <p:spPr>
          <a:xfrm>
            <a:off x="4874400" y="486900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r…distance from the axis of cylind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6"/>
          <p:cNvSpPr/>
          <p:nvPr/>
        </p:nvSpPr>
        <p:spPr>
          <a:xfrm>
            <a:off x="4888800" y="5657760"/>
            <a:ext cx="32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... distance from the center of the spher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5680800" y="27082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verg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7:58:48Z</dcterms:modified>
  <cp:revision>204</cp:revision>
  <dc:subject/>
  <dc:title>C6730 Fázové rovnováhy</dc:title>
</cp:coreProperties>
</file>