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5.wmf" ContentType="image/x-wmf"/>
  <Override PartName="/ppt/media/image13.png" ContentType="image/png"/>
  <Override PartName="/ppt/media/image33.wmf" ContentType="image/x-wmf"/>
  <Override PartName="/ppt/media/image36.wmf" ContentType="image/x-wmf"/>
  <Override PartName="/ppt/media/image37.wmf" ContentType="image/x-wmf"/>
  <Override PartName="/ppt/media/image40.jpeg" ContentType="image/jpeg"/>
  <Override PartName="/ppt/media/image32.png" ContentType="image/png"/>
  <Override PartName="/ppt/media/image41.jpeg" ContentType="image/jpeg"/>
  <Override PartName="/ppt/media/image42.wmf" ContentType="image/x-wmf"/>
  <Override PartName="/ppt/media/image43.png" ContentType="image/png"/>
  <Override PartName="/ppt/media/image44.wmf" ContentType="image/x-wmf"/>
  <Override PartName="/ppt/media/image45.png" ContentType="image/png"/>
  <Override PartName="/ppt/media/image46.wmf" ContentType="image/x-wmf"/>
  <Override PartName="/ppt/media/image3.png" ContentType="image/pn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12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E94E-4A20-45B8-85DD-0BAF23EB6F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0FD-C07A-4BC9-9F42-1C408B448E9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042-ABE0-4D78-ABE9-265E933A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BF0-646F-480B-8583-9B3B9CD5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2FF-D86C-48B3-82B6-A6E91207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1D7-A460-470B-B76F-EF958A8B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638A-4B24-4A74-BE82-648406F3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ABEE-7862-434E-A1C2-7CF454A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F288-86D8-4F03-8F44-E2DE1010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AF6F-23A7-4F79-94EF-54892382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D2AC-D12F-4026-B5DB-644444B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F9FD-53BD-4EAD-9D0D-A5028ACD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DD89-5D31-4845-BEB4-760EDA2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0CE-9FAC-4740-AA58-CBFD46B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7728-7C67-437E-801C-1BCBA30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3D0E-4E01-41CC-81EE-4E63F29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EB3-90CD-403D-BD07-903DFF79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503C-31D8-46EB-9DC8-E6AC85A2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1E3-DCB7-49EC-9BA0-245444B9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8BF-83EE-484E-87E8-87012BAB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23AE-4172-4891-9E01-2821C09F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4D8-31AB-49E0-8491-CA94301C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99E1-1D32-4225-9E0F-4A759DE0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3FB-B0BC-4304-897F-0444D54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02F-18CD-479C-B9F2-4CD96634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589-7AA3-40B5-B6A1-DF4A7494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02CD-422F-4FDE-B05F-CC1F08E1A51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997-8283-4289-9C2D-5584B8EB509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  <p:pic>
        <p:nvPicPr>
          <p:cNvPr id="152" name="Obrázek 1" descr=""/>
          <p:cNvPicPr/>
          <p:nvPr/>
        </p:nvPicPr>
        <p:blipFill>
          <a:blip r:embed="rId2"/>
          <a:stretch/>
        </p:blipFill>
        <p:spPr>
          <a:xfrm>
            <a:off x="434880" y="4378320"/>
            <a:ext cx="415296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Ovál 6"/>
          <p:cNvSpPr/>
          <p:nvPr/>
        </p:nvSpPr>
        <p:spPr>
          <a:xfrm>
            <a:off x="434880" y="4146480"/>
            <a:ext cx="2424240" cy="1114560"/>
          </a:xfrm>
          <a:prstGeom prst="ellipse">
            <a:avLst/>
          </a:prstGeom>
          <a:noFill/>
          <a:ln w="34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97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Obdélník 5"/>
          <p:cNvSpPr/>
          <p:nvPr/>
        </p:nvSpPr>
        <p:spPr>
          <a:xfrm>
            <a:off x="2274840" y="297504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66"/>
                </a:solidFill>
                <a:latin typeface="Times New Roman"/>
              </a:rPr>
              <a:t>http://www.pegacat.com/cbetts/phd/nanosimulator/nanosimulator.html</a:t>
            </a:r>
            <a:endParaRPr b="1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202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55520" y="115920"/>
            <a:ext cx="62946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Přímá spojnice 2"/>
          <p:cNvSpPr/>
          <p:nvPr/>
        </p:nvSpPr>
        <p:spPr>
          <a:xfrm>
            <a:off x="493560" y="34596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210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1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12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20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2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"/>
          <p:cNvSpPr/>
          <p:nvPr/>
        </p:nvSpPr>
        <p:spPr>
          <a:xfrm>
            <a:off x="5952960" y="3697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 koul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4" name="Přímá spojnice se šipkou 3"/>
          <p:cNvCxnSpPr/>
          <p:nvPr/>
        </p:nvCxnSpPr>
        <p:spPr>
          <a:xfrm flipH="1">
            <a:off x="4495320" y="569520"/>
            <a:ext cx="1301040" cy="556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3"/>
          <p:cNvSpPr/>
          <p:nvPr/>
        </p:nvSpPr>
        <p:spPr>
          <a:xfrm>
            <a:off x="5296680" y="443700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86800" cy="4565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1"/>
          <p:cNvSpPr/>
          <p:nvPr/>
        </p:nvSpPr>
        <p:spPr>
          <a:xfrm>
            <a:off x="1004040" y="564192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Porovnej vodu, pak hustý glycerol a nízkoviskosní rozpouštědla!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7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49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hování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1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67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8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9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1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2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75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ovéPole 1"/>
          <p:cNvSpPr/>
          <p:nvPr/>
        </p:nvSpPr>
        <p:spPr>
          <a:xfrm>
            <a:off x="307800" y="6419880"/>
            <a:ext cx="8788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e vodě je tlumena repulse souhlasných nábojů iontů, tj. reakce iontové dobře probíhaj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80" name="TextovéPole 1"/>
          <p:cNvSpPr/>
          <p:nvPr/>
        </p:nvSpPr>
        <p:spPr>
          <a:xfrm>
            <a:off x="1476360" y="2349360"/>
            <a:ext cx="6048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úzí řízené reakce s ohledem na náboje reagujících látek je důle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8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2" descr="http://fc09.deviantart.net/fs71/i/2010/248/6/d/diffusion_by_sunshine1994-d2y45vk.jpg"/>
          <p:cNvPicPr/>
          <p:nvPr/>
        </p:nvPicPr>
        <p:blipFill>
          <a:blip r:embed="rId1"/>
          <a:stretch/>
        </p:blipFill>
        <p:spPr>
          <a:xfrm>
            <a:off x="3635280" y="44863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technet.pnnl.gov/sensors/nuclear/projects/images/nuclear14.gif"/>
          <p:cNvPicPr/>
          <p:nvPr/>
        </p:nvPicPr>
        <p:blipFill>
          <a:blip r:embed="rId2"/>
          <a:stretch/>
        </p:blipFill>
        <p:spPr>
          <a:xfrm>
            <a:off x="755640" y="4497480"/>
            <a:ext cx="15843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mmu.ic.polyu.edu.hk/mu_proj/2010/I2/images/ht_method_img/ht_method_clip_image006.jpg"/>
          <p:cNvPicPr/>
          <p:nvPr/>
        </p:nvPicPr>
        <p:blipFill>
          <a:blip r:embed="rId3"/>
          <a:stretch/>
        </p:blipFill>
        <p:spPr>
          <a:xfrm>
            <a:off x="3132000" y="382680"/>
            <a:ext cx="3273480" cy="26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http://www.pegacat.com/cbetts/phd/nanosimulator/1dgradient.gif"/>
          <p:cNvPicPr/>
          <p:nvPr/>
        </p:nvPicPr>
        <p:blipFill>
          <a:blip r:embed="rId4"/>
          <a:stretch/>
        </p:blipFill>
        <p:spPr>
          <a:xfrm>
            <a:off x="6804000" y="382680"/>
            <a:ext cx="1989000" cy="265248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1"/>
          <p:cNvSpPr/>
          <p:nvPr/>
        </p:nvSpPr>
        <p:spPr>
          <a:xfrm>
            <a:off x="826920" y="3463920"/>
            <a:ext cx="51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ustotní gradient, kombinace difúze a konvek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471320" y="6127920"/>
            <a:ext cx="54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etaily např: https://is.muni.cz/th/394306/prif_b/Sablona.pdf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římá spojnice 2"/>
          <p:cNvSpPr/>
          <p:nvPr/>
        </p:nvSpPr>
        <p:spPr>
          <a:xfrm>
            <a:off x="900000" y="1413000"/>
            <a:ext cx="793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5"/>
          <p:cNvSpPr/>
          <p:nvPr/>
        </p:nvSpPr>
        <p:spPr>
          <a:xfrm>
            <a:off x="380880" y="1700280"/>
            <a:ext cx="7647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Obdélník 1"/>
          <p:cNvSpPr/>
          <p:nvPr/>
        </p:nvSpPr>
        <p:spPr>
          <a:xfrm>
            <a:off x="2627280" y="1989000"/>
            <a:ext cx="3168720" cy="28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8520" y="286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2. Fickův zákon v soustavách s cylindrickou a sférickou symetri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9" name="Obdélník 2"/>
          <p:cNvSpPr/>
          <p:nvPr/>
        </p:nvSpPr>
        <p:spPr>
          <a:xfrm>
            <a:off x="0" y="651996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ifúze v reálných soustavách (chemický potenciál a mobilita): </a:t>
            </a: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s://www.slideshare.net/azee_kn/p-diffusion1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Obrázek 1" descr=""/>
          <p:cNvPicPr/>
          <p:nvPr/>
        </p:nvPicPr>
        <p:blipFill>
          <a:blip r:embed="rId1"/>
          <a:stretch/>
        </p:blipFill>
        <p:spPr>
          <a:xfrm>
            <a:off x="684360" y="1351080"/>
            <a:ext cx="7486560" cy="4707000"/>
          </a:xfrm>
          <a:prstGeom prst="rect">
            <a:avLst/>
          </a:prstGeom>
          <a:ln w="0">
            <a:noFill/>
          </a:ln>
        </p:spPr>
      </p:pic>
      <p:sp>
        <p:nvSpPr>
          <p:cNvPr id="191" name="TextovéPole 2"/>
          <p:cNvSpPr/>
          <p:nvPr/>
        </p:nvSpPr>
        <p:spPr>
          <a:xfrm>
            <a:off x="4874400" y="4869000"/>
            <a:ext cx="326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Arial"/>
              </a:rPr>
              <a:t>r…distance from the axis of cylinder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ovéPole 6"/>
          <p:cNvSpPr/>
          <p:nvPr/>
        </p:nvSpPr>
        <p:spPr>
          <a:xfrm>
            <a:off x="4888800" y="5657760"/>
            <a:ext cx="32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R... distance from the center of the sphere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1"/>
          <p:cNvSpPr/>
          <p:nvPr/>
        </p:nvSpPr>
        <p:spPr>
          <a:xfrm>
            <a:off x="5680800" y="270828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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vergen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tudent</cp:lastModifiedBy>
  <dcterms:modified xsi:type="dcterms:W3CDTF">2021-04-27T07:58:48Z</dcterms:modified>
  <cp:revision>204</cp:revision>
  <dc:subject/>
  <dc:title>C6730 Fázové rovnováhy</dc:title>
</cp:coreProperties>
</file>