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29.png" ContentType="image/png"/>
  <Override PartName="/ppt/media/image32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48.png" ContentType="image/png"/>
  <Override PartName="/ppt/media/image33.png" ContentType="image/png"/>
  <Override PartName="/ppt/media/image8.png" ContentType="image/png"/>
  <Override PartName="/ppt/media/image16.wmf" ContentType="image/x-wmf"/>
  <Override PartName="/ppt/media/image13.wmf" ContentType="image/x-wmf"/>
  <Override PartName="/ppt/media/image35.png" ContentType="image/png"/>
  <Override PartName="/ppt/media/image5.png" ContentType="image/png"/>
  <Override PartName="/ppt/media/image28.png" ContentType="image/png"/>
  <Override PartName="/ppt/media/image25.png" ContentType="image/png"/>
  <Override PartName="/ppt/media/image2.gif" ContentType="image/gif"/>
  <Override PartName="/ppt/media/image37.wmf" ContentType="image/x-wmf"/>
  <Override PartName="/ppt/media/image42.wmf" ContentType="image/x-wmf"/>
  <Override PartName="/ppt/media/image43.wmf" ContentType="image/x-wmf"/>
  <Override PartName="/ppt/media/image44.png" ContentType="image/png"/>
  <Override PartName="/ppt/media/image34.png" ContentType="image/png"/>
  <Override PartName="/ppt/media/image45.wmf" ContentType="image/x-wmf"/>
  <Override PartName="/ppt/media/image46.png" ContentType="image/png"/>
  <Override PartName="/ppt/media/image47.wmf" ContentType="image/x-wmf"/>
  <Override PartName="/ppt/media/image12.wmf" ContentType="image/x-wmf"/>
  <Override PartName="/ppt/media/image36.wmf" ContentType="image/x-wmf"/>
  <Override PartName="/ppt/media/image49.png" ContentType="image/png"/>
  <Override PartName="/ppt/media/image9.wmf" ContentType="image/x-wmf"/>
  <Override PartName="/ppt/media/image41.png" ContentType="image/png"/>
  <Override PartName="/ppt/media/image39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7.png" ContentType="image/png"/>
  <Override PartName="/ppt/media/image4.jpeg" ContentType="image/jpeg"/>
  <Override PartName="/ppt/media/image40.png" ContentType="image/png"/>
  <Override PartName="/ppt/media/image3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7222-5AB8-4383-9DCF-C6C5792210C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ADD4-15A0-4678-9581-F55874C7FE9D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00A-581A-4E5A-916C-730B4AD4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CD3F-AF94-4D01-8967-90E84C28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37BD-DB1F-4E9B-889F-119A8F99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99C6-16B6-4986-A1DB-4D5976EE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CD1D-4571-4E1B-A107-2CC98704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55E6-36D3-4C9E-AE0A-9E65CE3C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C8AC-27DC-4CF1-B216-769CE698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8546-7F5E-4AC5-879A-8B9C8729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B8AE-096B-41CD-BF09-8997F7BB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E19E-4202-473C-ACA8-F909EC38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13FE-1CD9-4CA6-BE0B-13C8FC2F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45E-C711-446C-9AFF-1F0FA76E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4CED-A534-473C-96D3-523C4E38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13D0-E84F-4337-99AC-DBD898F1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1663-D6D1-462D-9988-22F3D84A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2140-BA08-4372-93A4-534D2F35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152D-F9B1-4070-985A-D62D90E7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9B27-43F0-42AE-B014-46F96B1B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7DE9-5B2A-4E83-8AA3-16F4C059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060-912B-40B6-B178-76CD1DA8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5B99-D319-48F9-9110-2A82077A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F249-0E8B-451A-9E73-5A80E4B2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C8B9-21A3-4121-9D42-579A2F76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87B0-2362-4556-991F-E90B16C0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A923-836E-4BD1-B4E1-5513FC4676A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A3FB-7D77-455C-BA0F-64EF81ED5007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 enzym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inhibitors.gif"/>
          <p:cNvPicPr/>
          <p:nvPr/>
        </p:nvPicPr>
        <p:blipFill>
          <a:blip r:embed="rId1"/>
          <a:stretch/>
        </p:blipFill>
        <p:spPr>
          <a:xfrm>
            <a:off x="685800" y="2209680"/>
            <a:ext cx="5486400" cy="385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C:\Documents and Settings\Sopoušek\Dokumenty\Obrázky\Katalýza\kompetitive a nekompetitive reaction.jpg"/>
          <p:cNvPicPr/>
          <p:nvPr/>
        </p:nvPicPr>
        <p:blipFill>
          <a:blip r:embed="rId2"/>
          <a:stretch/>
        </p:blipFill>
        <p:spPr>
          <a:xfrm>
            <a:off x="6324480" y="3200400"/>
            <a:ext cx="2482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01600" y="549360"/>
            <a:ext cx="8744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81000" y="189000"/>
            <a:ext cx="8943840" cy="5143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81000" y="5308560"/>
            <a:ext cx="893592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38240" y="189000"/>
            <a:ext cx="88675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762120" y="279360"/>
            <a:ext cx="7696080" cy="65786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2286000" y="304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petitivní inhib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ovéPole 1"/>
          <p:cNvSpPr/>
          <p:nvPr/>
        </p:nvSpPr>
        <p:spPr>
          <a:xfrm>
            <a:off x="6588000" y="241200"/>
            <a:ext cx="208944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Vmax je ovlivněna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3657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Ne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50920" y="449280"/>
            <a:ext cx="7924680" cy="6221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6824520" y="1341360"/>
            <a:ext cx="2295720" cy="266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7885080" y="252360"/>
            <a:ext cx="1224000" cy="459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4"/>
          <a:stretch/>
        </p:blipFill>
        <p:spPr>
          <a:xfrm>
            <a:off x="8697960" y="703440"/>
            <a:ext cx="411120" cy="2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228600" y="260280"/>
            <a:ext cx="8458200" cy="3256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298440" y="3645000"/>
            <a:ext cx="8458200" cy="1720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339840" y="5365800"/>
            <a:ext cx="8153280" cy="584280"/>
          </a:xfrm>
          <a:prstGeom prst="rect">
            <a:avLst/>
          </a:prstGeom>
          <a:ln w="0">
            <a:noFill/>
          </a:ln>
        </p:spPr>
      </p:pic>
      <p:sp>
        <p:nvSpPr>
          <p:cNvPr id="211" name="Obdélník 1"/>
          <p:cNvSpPr/>
          <p:nvPr/>
        </p:nvSpPr>
        <p:spPr>
          <a:xfrm>
            <a:off x="749160" y="6288120"/>
            <a:ext cx="74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ttp://www.wikiwand.com/en/Non-competitive_inhibition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kompetitiv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91520" cy="6070680"/>
          </a:xfrm>
          <a:prstGeom prst="rect">
            <a:avLst/>
          </a:prstGeom>
          <a:ln w="0">
            <a:noFill/>
          </a:ln>
        </p:spPr>
      </p:pic>
      <p:sp>
        <p:nvSpPr>
          <p:cNvPr id="214" name="TextovéPole 3"/>
          <p:cNvSpPr/>
          <p:nvPr/>
        </p:nvSpPr>
        <p:spPr>
          <a:xfrm>
            <a:off x="6804000" y="266760"/>
            <a:ext cx="208908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Km je ovlivněna Vmax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4724280" y="3284640"/>
            <a:ext cx="37339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77724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losterické nekompetitivní inhibi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7" name="Picture 2" descr="https://upload.wikimedia.org/wikipedia/commons/thumb/0/0f/Allosteric_comp_inhib_1.svg/800px-Allosteric_comp_inhib_1.svg.png?1524635043482"/>
          <p:cNvPicPr/>
          <p:nvPr/>
        </p:nvPicPr>
        <p:blipFill>
          <a:blip r:embed="rId1"/>
          <a:stretch/>
        </p:blipFill>
        <p:spPr>
          <a:xfrm>
            <a:off x="684360" y="126828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tikompetitivní inhibice enzymové re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7631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5440" y="25200"/>
            <a:ext cx="4608720" cy="10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Inhibice -přehled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Obrázek 2" descr=""/>
          <p:cNvPicPr/>
          <p:nvPr/>
        </p:nvPicPr>
        <p:blipFill>
          <a:blip r:embed="rId1"/>
          <a:stretch/>
        </p:blipFill>
        <p:spPr>
          <a:xfrm>
            <a:off x="4500720" y="479520"/>
            <a:ext cx="4467240" cy="2950920"/>
          </a:xfrm>
          <a:prstGeom prst="rect">
            <a:avLst/>
          </a:prstGeom>
          <a:ln w="0">
            <a:noFill/>
          </a:ln>
        </p:spPr>
      </p:pic>
      <p:pic>
        <p:nvPicPr>
          <p:cNvPr id="154" name="Obrázek 4" descr=""/>
          <p:cNvPicPr/>
          <p:nvPr/>
        </p:nvPicPr>
        <p:blipFill>
          <a:blip r:embed="rId2"/>
          <a:stretch/>
        </p:blipFill>
        <p:spPr>
          <a:xfrm>
            <a:off x="98280" y="3676680"/>
            <a:ext cx="4378320" cy="2894040"/>
          </a:xfrm>
          <a:prstGeom prst="rect">
            <a:avLst/>
          </a:prstGeom>
          <a:ln w="0">
            <a:noFill/>
          </a:ln>
        </p:spPr>
      </p:pic>
      <p:pic>
        <p:nvPicPr>
          <p:cNvPr id="155" name="Obrázek 5" descr=""/>
          <p:cNvPicPr/>
          <p:nvPr/>
        </p:nvPicPr>
        <p:blipFill>
          <a:blip r:embed="rId3"/>
          <a:stretch/>
        </p:blipFill>
        <p:spPr>
          <a:xfrm>
            <a:off x="4664160" y="3676680"/>
            <a:ext cx="4379760" cy="2894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4"/>
          <a:stretch/>
        </p:blipFill>
        <p:spPr>
          <a:xfrm>
            <a:off x="98280" y="907920"/>
            <a:ext cx="363384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07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7404120" y="228600"/>
            <a:ext cx="1224000" cy="460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8610480" y="318960"/>
            <a:ext cx="411120" cy="277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4"/>
          <a:stretch/>
        </p:blipFill>
        <p:spPr>
          <a:xfrm>
            <a:off x="6924600" y="1268280"/>
            <a:ext cx="19144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266160"/>
          </a:xfrm>
          <a:prstGeom prst="rect">
            <a:avLst/>
          </a:prstGeom>
          <a:ln w="0">
            <a:noFill/>
          </a:ln>
        </p:spPr>
      </p:pic>
      <p:sp>
        <p:nvSpPr>
          <p:cNvPr id="225" name="TextovéPole 2"/>
          <p:cNvSpPr/>
          <p:nvPr/>
        </p:nvSpPr>
        <p:spPr>
          <a:xfrm>
            <a:off x="5651640" y="360360"/>
            <a:ext cx="266544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Je ovlivněno Vmax i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4572000" y="3213000"/>
            <a:ext cx="352440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8686800" cy="2712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http://what-when-how.com/wp-content/uploads/2012/08/tmp9db750_thumb.png"/>
          <p:cNvPicPr/>
          <p:nvPr/>
        </p:nvPicPr>
        <p:blipFill>
          <a:blip r:embed="rId2"/>
          <a:stretch/>
        </p:blipFill>
        <p:spPr>
          <a:xfrm>
            <a:off x="407880" y="3506760"/>
            <a:ext cx="4392720" cy="3351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Documents and Settings\Sopoušek\Dokumenty\Obrázky\Katalýza\350px-Ne Comp_inhib_svg.png"/>
          <p:cNvPicPr/>
          <p:nvPr/>
        </p:nvPicPr>
        <p:blipFill>
          <a:blip r:embed="rId3"/>
          <a:stretch/>
        </p:blipFill>
        <p:spPr>
          <a:xfrm>
            <a:off x="4800600" y="3670200"/>
            <a:ext cx="441648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43000"/>
            <a:ext cx="358164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1030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8458200" cy="383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32" descr="C:\Documents and Settings\Sopoušek\Dokumenty\Obrázky\Katalýza\350px-Comp_inhib_svg.png"/>
          <p:cNvPicPr/>
          <p:nvPr/>
        </p:nvPicPr>
        <p:blipFill>
          <a:blip r:embed="rId2"/>
          <a:stretch/>
        </p:blipFill>
        <p:spPr>
          <a:xfrm>
            <a:off x="4724280" y="228600"/>
            <a:ext cx="4000680" cy="2765520"/>
          </a:xfrm>
          <a:prstGeom prst="rect">
            <a:avLst/>
          </a:prstGeom>
          <a:ln w="0">
            <a:noFill/>
          </a:ln>
        </p:spPr>
      </p:pic>
      <p:pic>
        <p:nvPicPr>
          <p:cNvPr id="160" name="TextovéPole 1" descr=""/>
          <p:cNvPicPr/>
          <p:nvPr/>
        </p:nvPicPr>
        <p:blipFill>
          <a:blip r:embed="rId3"/>
          <a:stretch/>
        </p:blipFill>
        <p:spPr>
          <a:xfrm>
            <a:off x="1036800" y="5010120"/>
            <a:ext cx="120636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84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7867440" cy="53323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1"/>
          <p:cNvSpPr/>
          <p:nvPr/>
        </p:nvSpPr>
        <p:spPr>
          <a:xfrm>
            <a:off x="2224800" y="2733840"/>
            <a:ext cx="16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osadit Ir z 6-32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5" name="Přímá spojnice se šipkou 3"/>
          <p:cNvCxnSpPr/>
          <p:nvPr/>
        </p:nvCxnSpPr>
        <p:spPr>
          <a:xfrm flipH="1">
            <a:off x="1258560" y="2901960"/>
            <a:ext cx="792720" cy="45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6" name="Přímá spojnice se šipkou 5"/>
          <p:cNvCxnSpPr/>
          <p:nvPr/>
        </p:nvCxnSpPr>
        <p:spPr>
          <a:xfrm flipH="1" flipV="1">
            <a:off x="4932000" y="4365000"/>
            <a:ext cx="1728000" cy="16563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533520" y="79200"/>
            <a:ext cx="7924680" cy="6778800"/>
          </a:xfrm>
          <a:prstGeom prst="rect">
            <a:avLst/>
          </a:prstGeom>
          <a:ln w="0">
            <a:noFill/>
          </a:ln>
        </p:spPr>
      </p:pic>
      <p:cxnSp>
        <p:nvCxnSpPr>
          <p:cNvPr id="168" name="Přímá spojnice se šipkou 2"/>
          <p:cNvCxnSpPr/>
          <p:nvPr/>
        </p:nvCxnSpPr>
        <p:spPr>
          <a:xfrm>
            <a:off x="2842920" y="2492280"/>
            <a:ext cx="108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7050240" y="3379680"/>
            <a:ext cx="209376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4121280"/>
          </a:xfrm>
          <a:prstGeom prst="rect">
            <a:avLst/>
          </a:prstGeom>
          <a:ln w="0">
            <a:noFill/>
          </a:ln>
        </p:spPr>
      </p:pic>
      <p:sp>
        <p:nvSpPr>
          <p:cNvPr id="171" name="TextovéPole 1"/>
          <p:cNvSpPr/>
          <p:nvPr/>
        </p:nvSpPr>
        <p:spPr>
          <a:xfrm>
            <a:off x="802440" y="5873760"/>
            <a:ext cx="69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etaily odvození také v: http://www.wikiwand.com/en/Competitive_inhibition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0960" y="3240"/>
            <a:ext cx="853776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řehlednější odvození vztahů pro kompetitivní inhibici pro anglicky mluvící studenty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Picture 2" descr="https://upload.wikimedia.org/wikipedia/commons/thumb/f/fb/Comp_inhib.svg/800px-Comp_inhib.svg.png?1524636860221"/>
          <p:cNvPicPr/>
          <p:nvPr/>
        </p:nvPicPr>
        <p:blipFill>
          <a:blip r:embed="rId1"/>
          <a:stretch/>
        </p:blipFill>
        <p:spPr>
          <a:xfrm>
            <a:off x="210960" y="3716280"/>
            <a:ext cx="4191120" cy="2892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2781360" cy="1873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https://upload.wikimedia.org/wikipedia/commons/thumb/f/f6/Michaelis-Menten_plot_competitive_inhibition.svg/640px-Michaelis-Menten_plot_competitive_inhibition.svg.png?1524637078488"/>
          <p:cNvPicPr/>
          <p:nvPr/>
        </p:nvPicPr>
        <p:blipFill>
          <a:blip r:embed="rId3"/>
          <a:stretch/>
        </p:blipFill>
        <p:spPr>
          <a:xfrm>
            <a:off x="3995640" y="1015920"/>
            <a:ext cx="4321440" cy="237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4"/>
          <a:stretch/>
        </p:blipFill>
        <p:spPr>
          <a:xfrm>
            <a:off x="4572000" y="3836880"/>
            <a:ext cx="4400640" cy="158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5"/>
          <a:stretch/>
        </p:blipFill>
        <p:spPr>
          <a:xfrm>
            <a:off x="4572000" y="5423040"/>
            <a:ext cx="4400640" cy="342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6"/>
          <a:stretch/>
        </p:blipFill>
        <p:spPr>
          <a:xfrm>
            <a:off x="4568760" y="5715000"/>
            <a:ext cx="3772080" cy="371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7"/>
          <a:stretch/>
        </p:blipFill>
        <p:spPr>
          <a:xfrm>
            <a:off x="4572000" y="5946840"/>
            <a:ext cx="13431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-98640"/>
            <a:ext cx="8856720" cy="10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Matematické odvození kompetitivní inhibi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37960" y="1268280"/>
            <a:ext cx="8724960" cy="5153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6084720" y="1773360"/>
            <a:ext cx="2781360" cy="1871640"/>
          </a:xfrm>
          <a:prstGeom prst="rect">
            <a:avLst/>
          </a:prstGeom>
          <a:ln w="0">
            <a:noFill/>
          </a:ln>
        </p:spPr>
      </p:pic>
      <p:sp>
        <p:nvSpPr>
          <p:cNvPr id="183" name="TextovéPole 5"/>
          <p:cNvSpPr/>
          <p:nvPr/>
        </p:nvSpPr>
        <p:spPr>
          <a:xfrm>
            <a:off x="3143880" y="3641760"/>
            <a:ext cx="56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Toto můžeme si napsat i jako 3 dílčí samostatné rovnic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42920" y="762120"/>
            <a:ext cx="8858160" cy="5333760"/>
          </a:xfrm>
          <a:prstGeom prst="rect">
            <a:avLst/>
          </a:prstGeom>
          <a:ln w="0">
            <a:noFill/>
          </a:ln>
        </p:spPr>
      </p:pic>
      <p:sp>
        <p:nvSpPr>
          <p:cNvPr id="186" name="TextovéPole 2"/>
          <p:cNvSpPr/>
          <p:nvPr/>
        </p:nvSpPr>
        <p:spPr>
          <a:xfrm>
            <a:off x="3514680" y="256536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Suma rychlostí vzniku = suma rychlostí zánik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87" name="Přímá spojnice se šipkou 4"/>
          <p:cNvCxnSpPr/>
          <p:nvPr/>
        </p:nvCxnSpPr>
        <p:spPr>
          <a:xfrm flipH="1">
            <a:off x="3131640" y="2933280"/>
            <a:ext cx="145440" cy="1357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88" name="Přímá spojnice se šipkou 6"/>
          <p:cNvCxnSpPr/>
          <p:nvPr/>
        </p:nvCxnSpPr>
        <p:spPr>
          <a:xfrm flipH="1">
            <a:off x="4982400" y="4087440"/>
            <a:ext cx="16563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89" name="Přímá spojnice se šipkou 8"/>
          <p:cNvCxnSpPr/>
          <p:nvPr/>
        </p:nvCxnSpPr>
        <p:spPr>
          <a:xfrm flipH="1">
            <a:off x="3542760" y="4868640"/>
            <a:ext cx="41979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90" name="Přímá spojnice 13"/>
          <p:cNvSpPr/>
          <p:nvPr/>
        </p:nvSpPr>
        <p:spPr>
          <a:xfrm flipV="1">
            <a:off x="6638760" y="3068280"/>
            <a:ext cx="0" cy="1019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římá spojnice 16"/>
          <p:cNvSpPr/>
          <p:nvPr/>
        </p:nvSpPr>
        <p:spPr>
          <a:xfrm flipV="1">
            <a:off x="7740720" y="3068280"/>
            <a:ext cx="0" cy="18003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Uživatel systému Windows</cp:lastModifiedBy>
  <dcterms:modified xsi:type="dcterms:W3CDTF">2021-05-11T07:42:49Z</dcterms:modified>
  <cp:revision>158</cp:revision>
  <dc:subject/>
  <dc:title>C6730 Fázové rovnováhy</dc:title>
</cp:coreProperties>
</file>