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65C5-9D93-4785-A1DD-C4838F96FAF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D285-A248-4927-AFB1-EF75DDC0D3E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3F83-A56A-453F-BC85-EB09E112BB7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9EBA-503C-40D2-ABAD-8E6B92DFFCE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19B0-6EA6-44B5-B761-6B1DA702D81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EB0F-B71B-4AA6-94A1-6924FB5D87B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44A4-B08B-4918-826E-222B9B92687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2471-8469-4F28-B3D6-FF227D14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8B42-7382-4CEC-9105-B84A1DD6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E2B37-7D2F-4C7F-B8A7-590E083D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85A65-BF4C-4A7F-87F6-E9F40233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E613F-2DAA-40A1-852D-91A4B876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25E49-8888-4653-943A-28CFDEA0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C92D6-69E9-468C-931F-A59DC23D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7749E-5409-4759-8196-679A7D90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BB413-7CCE-471D-973A-7CA63E9E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06898-6A82-48EE-99C5-8DB3760C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F5209-76B9-43B8-90C7-C8BA1794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BD884-8DF5-4FA6-8777-2268CBB2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CB9F-19F2-4C30-A3DD-BA8C9E1F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2F6F2-CC6F-40E9-B77C-20646834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E958B-0204-41F9-A7B9-207F4F27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56DAE-69B6-4459-B0A8-005AAAD3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22743-97F7-4DF1-802F-029FB53A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B7ECD-BC14-4C38-A327-8AF90EFA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9FDA3-EEE2-4992-A6FA-E31D0D2C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D0925-E453-4D60-AD37-A86758AD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99A83-663E-476D-949F-CE0C1372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D9883-3675-42E0-8692-111D143F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F897C-5F99-4968-A7FC-0D29154E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913-3675-40BC-BE69-9011C952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27C1F-2057-4400-ABB0-D883B2AD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D5174-D77F-4C0E-B579-F520B4D0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D5605-F718-46CD-8DF6-7989FE42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FCE83-B010-4E88-A3DB-75452781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D085F-8626-444B-8C9B-D1A97883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13166-DBE1-47A7-B967-C4C8D770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57AF5-AF64-4E41-80B2-46976FC5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542CD-278C-4190-9A9D-609A3304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3751B-AB8B-4840-B9AB-1DFE37B3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EF897-674B-4A1E-9D27-8A8DCB89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F14C-11C5-47A4-B946-20D7BC84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8765D-787F-4235-AD5A-E0CD1BA1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304CB-5050-4FC8-9867-37563105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ECA67-AEAC-4F5C-83BA-86B28607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B7623-899D-437D-B9E0-11B183BE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E0F6A-0A82-4399-8428-8B69AE35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F794A-D674-4EA0-80E3-8E24422F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C3029-DE0E-451E-8805-388528FF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1F90F-FEDD-4ADE-BFB1-30E0455C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D425B-1082-445E-B7AA-C23CEEC5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513E1-D646-4130-B8FC-65000242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01BD-D7DE-4BC4-9E56-F6483293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F542F-574C-4B14-B677-E7367788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07052-BA68-407B-9BD1-8FD1EE4E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FBDAF-C1F9-4BFF-978C-FFB606DD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0201C-2686-428D-A98A-65D6AFA3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152C6-8B2A-485D-A0A6-FAA56973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AF52-AEAE-423A-B226-821C7449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634D-084E-48DC-87F5-ADA9A342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4354-3994-44CB-B87D-E0F4551D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C101-C561-4647-A642-E9220D20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5557-5C7C-4E22-A4EB-D2C04091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4EC8-69BE-4FE3-BB04-BCF85953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FB3B-4DF3-4AF5-BDFF-4F3DA0E5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F463-AA1C-412D-956F-B07960DA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A62A-9C1A-453B-ABFD-048ECE47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FBAE-6401-476B-8530-0340AA29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F4C8-CE56-476A-BBBE-6B5EF7AD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A3AF9-5B4C-427C-A428-ACBD4C4F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5F4D7-2EA3-47D5-8F55-404DC699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663F8-5A4C-4BCD-A1EA-EBA8F2CD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77B86-8ADE-4BA2-A1B6-DDF5C4AD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C032F-C7A5-454F-ABE2-BBB1AD1D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EB4C-8BF8-440D-B357-55217F16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1FBB7-398E-463C-B8BD-CA5BA7B3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62196-6A7B-443F-9013-8A7C44A5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67187-82B0-465C-9CB8-CA7DBAA3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62741-7D2B-4780-BA43-E6262234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9FAA0-C36D-46ED-8682-4910D045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F015C-A058-4E7C-AB67-28D1AB58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39168-A79C-4FD5-B4BD-1BFF0C75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43951-833D-4BCA-BA35-EA1948E5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A2423-B14B-48BC-9A06-81360CA5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C6811-5166-4BC2-9C79-8EF83CEA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1586-5521-4FC1-9097-6305FD18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F3872-5FA8-4541-B633-D3317E11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3926B-20F2-46D8-8FF6-D2065B80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C23CF-9321-4453-9314-8C0CF96E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57AAD-1E26-4FAF-A3E7-143BF10F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9F796-32EB-4638-ADFD-6CFF88FE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6E56F-D609-4FF9-B81C-28F053A6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5BD6F-98B7-4FA3-A63E-ADF7DFA0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7F814-B04D-4E30-BCF9-1DAAB746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D43F6-A9F5-4FB5-B00B-B9A587AB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9933E-3379-4EEC-9115-947D910B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119D-B580-4A52-AC1F-B9B33FFB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F8C40-08F7-45E2-A5A5-68E1066E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06A08-C37E-45E3-8BD9-C9F31AAE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D6332-9001-4E55-A0EB-C551CC95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3EF36-A130-4632-A367-3A45699E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DC222-421C-4C34-A429-85F8FD2B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8025B-B3E0-42AF-A50C-7E15E602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5D3EC-89E7-4FFE-AE06-CE8A10E0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917EF-0D5A-4DAA-B79E-2BCC045B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2BDE5-2F44-4718-8AE3-0C0121A0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54B73-567B-4100-8AF9-A65278E3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2504-8FA8-4B7E-9147-434B6C58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FC007-9528-4B29-BCA2-701A4B1B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FDFC0-9E25-46AD-8D9E-5D8CDD26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D10E8-45C5-4462-8E0E-975764B0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19403-DD5E-49C4-BF81-B29B4483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6A071-EC5A-4A36-8908-DEBEEE99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DA272-6E37-433E-893C-028772AF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CED14-F886-472F-96C1-A2A75C84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6C746-120C-4813-A92A-F44C1D76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F4D33-1348-437E-A1DB-E6E1D7CD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11258-22C5-40FD-93FE-B3027C4E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0887-E6DF-4FC7-87E3-5B745628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8D12F-DF27-45BA-A4B0-02B52C80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16E37-617E-4593-A8A8-E296A1FB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6A07C-836A-45B5-87DC-392475F4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DAC4A-819D-4BD6-9AF7-C01FDC58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59146-0316-4795-9A63-C6FB8497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FF69B-160B-480C-AA83-FB3A0388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8A8A6-2F2E-4116-AF4D-EA498503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CE177-AED4-44AA-A946-4E87FC19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68E5F-1F8F-46C3-BC70-C239696C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023A5-2B8E-4A51-8C11-BC1C5889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40AD-5EA6-49C9-968D-A82D37B9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27DB9-EE74-4FA7-B0DA-A6062A12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F0FDF-B760-4426-8A13-048C9C10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0374B-17EA-4A11-9631-65B614F3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85863-254D-4079-A0B9-060E89AC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615DF-DC0E-46A5-A515-7DE94A24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94511-5449-4378-B2D6-505D986F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B65DD-4527-4A2A-A9F5-09FB6264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48D24-84B4-478B-B16F-0E4BBCEF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6E662-E324-49BA-A536-CF6A0310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DD94C-1006-4362-BB61-297E9630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04BD-67B6-459A-BD25-F89A7408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A9D49-4D53-4D7A-8F13-0F5EDCDC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38F66-BEE5-43C8-8556-D751776A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A6C43-B0D5-4EFD-8C80-31770B86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3097B-CB30-4389-AF8C-C304DB4A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CF4A3-7AE6-424E-BDBB-02EDC7C6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76F51-DDBD-45B6-A950-182BD999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2BA1B-6DC3-412A-A3CA-04D20F90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225D8-9A70-43BC-93C0-B4387F3C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F4128-55F1-4E81-AD57-C8B71B65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DB653-69B0-45C5-A763-F0CE4608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2AD6-D9A8-44C1-B7F8-4E98ACD9D47F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římá spojnice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římá spojnice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ovnoramenný trojúhelní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římá spojnice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ovnoramenný trojúhelní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bdélník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DFB0-1BE2-4786-A482-FF364E298D73}" type="slidenum">
              <a:rPr b="0" lang="cs-CZ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římá spojnice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římá spojnice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ovnoramenný trojúhelní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34EF-EC90-44F5-88F1-D8CC46259261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římá spojnice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ovnoramenný trojúhelní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římá spojnice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3A9E-1D27-4076-A322-A33C2628C8B7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bdélní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bdélník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bdélník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F17E-AC4A-4F8D-8414-7E8D2456538B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římá spojnice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římá spojnice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ovnoramenný trojúhelní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953C-48A5-4205-952F-D0852170F565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bdélník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bdélník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C1C3-3F75-4075-9E60-15207C36998B}" type="slidenum">
              <a:rPr b="0" lang="cs-CZ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římá spojnice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římá spojnice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ovnoramenný trojúhelní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FF3E-A276-4072-8048-03F87BD8E418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římá spojnice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římá spojnice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ovnoramenný trojúhelní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D50D-3659-46A7-8A33-E20DE065175A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římá spojnice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římá spojnice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ovnoramenný trojúhelní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ovnoramenný trojúhelník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84CA-9B1A-4355-A798-A14559CCE981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římá spojnice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ovnoramenný trojúhelní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6F41-0BF5-416F-9DE8-EC7FAFD76036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římá spojnice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římá spojnice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ovnoramenný trojúhelník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4F6D-E8B1-4946-ABD5-6D20A1C7511B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en.wikipedia.org/wiki/Antoine_Lavoisier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i1qM6izaPSAhVNahoKHVhpDbAQjRwIBw&amp;url=http%3A%2F%2Fwikivisually.com%2Fwiki%2FHexose&amp;bvm=bv.147448319,d.d2s&amp;psig=AFQjCNEdaQpZ9F97k3qcKA5wosjDqJ49WQ&amp;ust=1487849429244212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cad=rja&amp;uact=8&amp;ved=0ahUKEwj9odnWzKPSAhVF0xoKHXA3AbEQjRwIBw&amp;url=https%3A%2F%2Fen.wikipedia.org%2Fwiki%2FPeter_Waage&amp;bvm=bv.147448319,d.d2s&amp;psig=AFQjCNEGPxFNIe4Zd1l8kLiG6lRwf5HkyQ&amp;ust=1487849236273669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oht.info/page/Wilhelm+Ostwald" TargetMode="External"/><Relationship Id="rId2" Type="http://schemas.openxmlformats.org/officeDocument/2006/relationships/hyperlink" Target="http://www.google.cz/url?sa=i&amp;rct=j&amp;q=&amp;esrc=s&amp;source=images&amp;cd=&amp;ved=0ahUKEwjb0drgzqPSAhVEMBoKHdRzDrAQjRwIBw&amp;url=http%3A%2F%2Fwww.eoht.info%2Fpage%2FWilhelm%2BOstwald&amp;bvm=bv.147448319,d.d2s&amp;psig=AFQjCNGh_GeaMuliuSJeg_MhcflyvwkwlQ&amp;ust=1487849835812449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g446flY7LAhWFWBQKHVziAboQjRwIBw&amp;url=http%3A%2F%2Fcrystalsandcatalysts.blogspot.com%2F2015%2F03%2Fscientist-of-week-3-maud-leonora-menten.html&amp;psig=AFQjCNExtplb-7QqOymhjPc8aIespZT7zw&amp;ust=1456326409050737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hyperlink" Target="http://www.google.cz/url?sa=i&amp;rct=j&amp;q=&amp;esrc=s&amp;source=images&amp;cd=&amp;cad=rja&amp;uact=8&amp;ved=0ahUKEwj31O7T0KPSAhWHiRoKHUGpC7AQjRwIBw&amp;url=http%3A%2F%2Fwww.lindahall.org%2Fjosiah-willard-gibbs%2F&amp;bvm=bv.147448319,d.d2s&amp;psig=AFQjCNHBgJCFxtkVnuu_JelIa21f15p2Aw&amp;ust=1487850349160860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Bookman Old Style"/>
              </a:rPr>
              <a:t>C6320 Chemická kinetika: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Bookman Old Style"/>
              </a:rPr>
              <a:t>Historie chemické kinetik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36" name="Picture 4" descr="https://upload.wikimedia.org/wikipedia/commons/6/6c/Antoine_lavoisier_color.jpg"/>
          <p:cNvPicPr/>
          <p:nvPr/>
        </p:nvPicPr>
        <p:blipFill>
          <a:blip r:embed="rId1"/>
          <a:stretch/>
        </p:blipFill>
        <p:spPr>
          <a:xfrm>
            <a:off x="900000" y="2637000"/>
            <a:ext cx="2352960" cy="3466800"/>
          </a:xfrm>
          <a:prstGeom prst="rect">
            <a:avLst/>
          </a:prstGeom>
          <a:ln w="0">
            <a:noFill/>
          </a:ln>
        </p:spPr>
      </p:pic>
      <p:sp>
        <p:nvSpPr>
          <p:cNvPr id="537" name="TextovéPole 1"/>
          <p:cNvSpPr/>
          <p:nvPr/>
        </p:nvSpPr>
        <p:spPr>
          <a:xfrm>
            <a:off x="3419640" y="450864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292ca"/>
                </a:solidFill>
                <a:uFillTx/>
                <a:latin typeface="Times New Roman"/>
                <a:hlinkClick r:id="rId2"/>
              </a:rPr>
              <a:t>Antoine Lavoisi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veloped the theory of combustion as a chemical reaction with oxy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bdélník 2"/>
          <p:cNvSpPr/>
          <p:nvPr/>
        </p:nvSpPr>
        <p:spPr>
          <a:xfrm>
            <a:off x="684360" y="623736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s://en.wikipedia.org/wiki/Chemical_re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Arial Black"/>
              </a:rPr>
              <a:t>Literatur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611280" y="1844640"/>
            <a:ext cx="76197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znamné ženy a muži vě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s://www.biographyonline.net/scientists/famous-chemists.ht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bdélník 3"/>
          <p:cNvSpPr/>
          <p:nvPr/>
        </p:nvSpPr>
        <p:spPr>
          <a:xfrm>
            <a:off x="755640" y="386064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istorie chem. Průmyslu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ttps://www.slideshare.net/kchtul/hic-1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464653"/>
                </a:solidFill>
                <a:latin typeface="Bookman Old Style"/>
              </a:rPr>
              <a:t>Historie chemické kinetiky</a:t>
            </a:r>
            <a:br>
              <a:rPr sz="2900"/>
            </a:br>
            <a:r>
              <a:rPr b="0" lang="cs-CZ" sz="1400" spc="-1" strike="noStrike">
                <a:solidFill>
                  <a:srgbClr val="ff0000"/>
                </a:solidFill>
                <a:latin typeface="ArialNarrow"/>
              </a:rPr>
              <a:t>Ref: "The World of Physical Chemistry," by K. J. Laidler, Oxford Univ. Press, 1993)</a:t>
            </a:r>
            <a:br>
              <a:rPr sz="1400"/>
            </a:br>
            <a:endParaRPr b="0" lang="en-US" sz="1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755640" y="1700280"/>
            <a:ext cx="7850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850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Wilhelmy (Germany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studoval rychlost inverze sacharózy (tj. hydrolýzy na D - (+) - glukózu a D - (-) - fruktózu v přítomnosti kyseliny) a zjistil, že je úměrná koncentraci jak cukru tak i kyseliny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viz experimentální úloha v praktiku fyzikální chemie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1" name="Picture 5" descr="Výsledek obrázku pro Wilhelmy saccharo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34290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Zástupný symbol pro číslo snímku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B938-4452-468B-8966-26BB811A2BC4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2" descr="Výsledek obrázku pro Guldberg Wa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765000"/>
            <a:ext cx="3240000" cy="5262840"/>
          </a:xfrm>
          <a:prstGeom prst="rect">
            <a:avLst/>
          </a:prstGeom>
          <a:ln w="0">
            <a:noFill/>
          </a:ln>
        </p:spPr>
      </p:pic>
      <p:sp>
        <p:nvSpPr>
          <p:cNvPr id="544" name="Obdélník 4"/>
          <p:cNvSpPr/>
          <p:nvPr/>
        </p:nvSpPr>
        <p:spPr>
          <a:xfrm>
            <a:off x="684360" y="476280"/>
            <a:ext cx="446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864: </a:t>
            </a:r>
            <a:r>
              <a:rPr b="0" lang="cs-CZ" sz="2400" spc="-1" strike="noStrike">
                <a:solidFill>
                  <a:srgbClr val="ff0066"/>
                </a:solidFill>
                <a:latin typeface="Arial"/>
              </a:rPr>
              <a:t>Guldberg and Waage (Norway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ormuloval "zákon působení hmoty", podle kterého reakční "síly" jsou přímo úměrné součinu koncentrace reaktantů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=[R]</a:t>
            </a:r>
            <a:r>
              <a:rPr b="1" lang="cs-CZ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[S]</a:t>
            </a:r>
            <a:r>
              <a:rPr b="1" lang="cs-CZ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/([A]</a:t>
            </a:r>
            <a:r>
              <a:rPr b="1" lang="cs-CZ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[B]</a:t>
            </a:r>
            <a:r>
              <a:rPr b="1" lang="cs-CZ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de a, b, r and s jsou stechiometrické koeficienty pro chemickou reakci A+B=R+S. A to tak, že rychlost dopředné reakce je  úměrná součinu [A]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[B]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rychlost zpětné reakce je úměrná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]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[S]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bdélník 5"/>
          <p:cNvSpPr/>
          <p:nvPr/>
        </p:nvSpPr>
        <p:spPr>
          <a:xfrm>
            <a:off x="4067280" y="6294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ttps://en.wikipedia.org/wiki/Peter_Wa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755640" y="475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865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Harcourt and Esson (UK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analyzovali reakci mezi H2O2 a HI a mezi KMnO4 a (COOH)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.  Napsali odpovídající diferenciální rovnice, integrovali je a určili koncentrace v závislosti na čase. Také navrhli rovnici pro teplotní závislosti rychlosti reakce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k = A .T. c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7" name="Picture 4" descr="http://1.bp.blogspot.com/-CC2ly_ZmL6M/VwLCidRLO7I/AAAAAAAAAQA/8Z_QWI6-EeIobhAaPruGynVp4FLPzduXQ/s1600/Jacobus_van_%2527t_Hoff_by_Perscheid_1904.jpg"/>
          <p:cNvPicPr/>
          <p:nvPr/>
        </p:nvPicPr>
        <p:blipFill>
          <a:blip r:embed="rId1"/>
          <a:stretch/>
        </p:blipFill>
        <p:spPr>
          <a:xfrm>
            <a:off x="6338880" y="2565360"/>
            <a:ext cx="1982880" cy="2308320"/>
          </a:xfrm>
          <a:prstGeom prst="rect">
            <a:avLst/>
          </a:prstGeom>
          <a:ln w="0">
            <a:noFill/>
          </a:ln>
        </p:spPr>
      </p:pic>
      <p:sp>
        <p:nvSpPr>
          <p:cNvPr id="548" name="Obdélník 1"/>
          <p:cNvSpPr/>
          <p:nvPr/>
        </p:nvSpPr>
        <p:spPr>
          <a:xfrm>
            <a:off x="611280" y="2565360"/>
            <a:ext cx="511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884: </a:t>
            </a:r>
            <a:r>
              <a:rPr b="0" lang="cs-CZ" sz="2400" spc="-1" strike="noStrike">
                <a:solidFill>
                  <a:srgbClr val="ff0066"/>
                </a:solidFill>
                <a:latin typeface="Arial"/>
              </a:rPr>
              <a:t>van't Hoff (The Netherlands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ublikoval své "Studie o chemické dynamice" (Études de dynamique CHIMIQUE), ve kterých zobecnil a dále rozvíjel práci Wilhelmyho (o sacharoz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Obdélník 2"/>
          <p:cNvSpPr/>
          <p:nvPr/>
        </p:nvSpPr>
        <p:spPr>
          <a:xfrm>
            <a:off x="417600" y="508464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ff00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66"/>
                </a:solidFill>
                <a:latin typeface="Arial"/>
              </a:rPr>
              <a:t>1885 Harcourt and Ess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Uvedli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iferenciální metodu analýzy a rovněž analyzovali teplotní závislost rovnovážné konstanty (pojmenovali ji "van't Hoff rovnice"). Sledovali reakcí dopřednou i zpětno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685440" y="456840"/>
            <a:ext cx="48229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887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Ostwald (Germany; Latvia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zavádí pojmy "řád reakce" a „poločas reakce" ve své knize: "Lehrbuch der allgemeinen Chemie.„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Obdélník 1"/>
          <p:cNvSpPr/>
          <p:nvPr/>
        </p:nvSpPr>
        <p:spPr>
          <a:xfrm>
            <a:off x="971640" y="2011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b292ca"/>
                </a:solidFill>
                <a:uFillTx/>
                <a:latin typeface="Times New Roman"/>
                <a:hlinkClick r:id="rId1"/>
              </a:rPr>
              <a:t>http://www.eoht.info/page/Wilhelm+Ostwald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Ostwald happiness formula, Radical atheis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4" descr="Výsledek obrázku pro Ostwal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457200"/>
            <a:ext cx="2886120" cy="2200320"/>
          </a:xfrm>
          <a:prstGeom prst="rect">
            <a:avLst/>
          </a:prstGeom>
          <a:ln w="0">
            <a:noFill/>
          </a:ln>
        </p:spPr>
      </p:pic>
      <p:sp>
        <p:nvSpPr>
          <p:cNvPr id="553" name="Obdélník 2"/>
          <p:cNvSpPr/>
          <p:nvPr/>
        </p:nvSpPr>
        <p:spPr>
          <a:xfrm>
            <a:off x="539640" y="3213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889: </a:t>
            </a:r>
            <a:r>
              <a:rPr b="0" lang="cs-CZ" sz="2400" spc="-1" strike="noStrike">
                <a:solidFill>
                  <a:srgbClr val="ff0066"/>
                </a:solidFill>
                <a:latin typeface="Arial"/>
              </a:rPr>
              <a:t>Arrhenius (Sweden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ále analyzoval teplotní závislost reakční rychlosti a zjistil, že lépe odpovídá vzta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 = A exp (-B / 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e zajedl pojem "energetická bariéra" .  Dnes nese tato rovnice jeho jmé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6" descr="https://i.ytimg.com/vi/3fXIYGSyyQM/hqdefault.jpg"/>
          <p:cNvPicPr/>
          <p:nvPr/>
        </p:nvPicPr>
        <p:blipFill>
          <a:blip r:embed="rId4"/>
          <a:stretch/>
        </p:blipFill>
        <p:spPr>
          <a:xfrm>
            <a:off x="5111640" y="3213000"/>
            <a:ext cx="3835440" cy="28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685800" y="457200"/>
            <a:ext cx="7772400" cy="18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912 Mentenová (Maude Lenora Menten, 1879-1960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ill Sans MT"/>
              </a:rPr>
              <a:t>Se zabývala enzymovou kinetikou a popsala rychlost enzymové reakce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TextovéPole 1"/>
          <p:cNvSpPr/>
          <p:nvPr/>
        </p:nvSpPr>
        <p:spPr>
          <a:xfrm>
            <a:off x="684360" y="2349360"/>
            <a:ext cx="395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acovala v oddělení prof. Michael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la se profesorkou v 79-ti letech (195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2" descr="http://1.bp.blogspot.com/-7DSc73P4M_Q/VQs6mrwwwdI/AAAAAAAABHY/dUGD7b9EDGU/s1600/mente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46880" y="1413000"/>
            <a:ext cx="2735280" cy="42685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" descr="https://acsundergrad.files.wordpress.com/2012/07/menten-and-michaelis.jpg"/>
          <p:cNvPicPr/>
          <p:nvPr/>
        </p:nvPicPr>
        <p:blipFill>
          <a:blip r:embed="rId3"/>
          <a:stretch/>
        </p:blipFill>
        <p:spPr>
          <a:xfrm>
            <a:off x="4937040" y="2060640"/>
            <a:ext cx="4008600" cy="2114640"/>
          </a:xfrm>
          <a:prstGeom prst="rect">
            <a:avLst/>
          </a:prstGeom>
          <a:ln w="0">
            <a:noFill/>
          </a:ln>
        </p:spPr>
      </p:pic>
      <p:sp>
        <p:nvSpPr>
          <p:cNvPr id="559" name="Obdélník 3"/>
          <p:cNvSpPr/>
          <p:nvPr/>
        </p:nvSpPr>
        <p:spPr>
          <a:xfrm>
            <a:off x="655560" y="549108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www.chemheritage.org/discover/online-resources/chemistry-in-history/themes/biomolecules/proteins-and-sugars/michaelis-and-menten.asp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Helmholz a Gibb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61" name="Zástupný symbol pro obsah 4" descr=""/>
          <p:cNvPicPr/>
          <p:nvPr/>
        </p:nvPicPr>
        <p:blipFill>
          <a:blip r:embed="rId1"/>
          <a:stretch/>
        </p:blipFill>
        <p:spPr>
          <a:xfrm>
            <a:off x="2001960" y="2467080"/>
            <a:ext cx="4819680" cy="3152520"/>
          </a:xfrm>
          <a:prstGeom prst="rect">
            <a:avLst/>
          </a:prstGeom>
          <a:ln w="0">
            <a:noFill/>
          </a:ln>
        </p:spPr>
      </p:pic>
      <p:sp>
        <p:nvSpPr>
          <p:cNvPr id="562" name="Zástupný symbol pro číslo snímku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9E4C-3A3A-47DE-97B1-B913FA653A04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2"/>
          <p:cNvSpPr/>
          <p:nvPr/>
        </p:nvSpPr>
        <p:spPr>
          <a:xfrm>
            <a:off x="900000" y="50086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TextovéPole 6" descr=""/>
          <p:cNvPicPr/>
          <p:nvPr/>
        </p:nvPicPr>
        <p:blipFill>
          <a:blip r:embed="rId2"/>
          <a:stretch/>
        </p:blipFill>
        <p:spPr>
          <a:xfrm>
            <a:off x="2133720" y="5619600"/>
            <a:ext cx="1755720" cy="397080"/>
          </a:xfrm>
          <a:prstGeom prst="rect">
            <a:avLst/>
          </a:prstGeom>
          <a:ln w="0">
            <a:noFill/>
          </a:ln>
        </p:spPr>
      </p:pic>
      <p:pic>
        <p:nvPicPr>
          <p:cNvPr id="565" name="TextovéPole 7" descr=""/>
          <p:cNvPicPr/>
          <p:nvPr/>
        </p:nvPicPr>
        <p:blipFill>
          <a:blip r:embed="rId3"/>
          <a:stretch/>
        </p:blipFill>
        <p:spPr>
          <a:xfrm>
            <a:off x="4657680" y="5619600"/>
            <a:ext cx="1736640" cy="738360"/>
          </a:xfrm>
          <a:prstGeom prst="rect">
            <a:avLst/>
          </a:prstGeom>
          <a:ln w="0">
            <a:noFill/>
          </a:ln>
        </p:spPr>
      </p:pic>
      <p:sp>
        <p:nvSpPr>
          <p:cNvPr id="566" name="TextovéPole 8"/>
          <p:cNvSpPr/>
          <p:nvPr/>
        </p:nvSpPr>
        <p:spPr>
          <a:xfrm>
            <a:off x="2392560" y="599904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T,V…kon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ovéPole 9"/>
          <p:cNvSpPr/>
          <p:nvPr/>
        </p:nvSpPr>
        <p:spPr>
          <a:xfrm>
            <a:off x="4922280" y="598788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T,p…kon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Obdélník 10"/>
          <p:cNvSpPr/>
          <p:nvPr/>
        </p:nvSpPr>
        <p:spPr>
          <a:xfrm>
            <a:off x="900000" y="1392120"/>
            <a:ext cx="3511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Linux Libertine"/>
              </a:rPr>
              <a:t>Hermann von Helmhol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ugust 31, 1821 – September 8, 1894) was a German physician and physicis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Obdélník 11"/>
          <p:cNvSpPr/>
          <p:nvPr/>
        </p:nvSpPr>
        <p:spPr>
          <a:xfrm>
            <a:off x="4527720" y="1392120"/>
            <a:ext cx="3357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Linux Libertine"/>
              </a:rPr>
              <a:t>Josiah Willard Gib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inux Libertine"/>
              </a:rPr>
              <a:t>(February 11, 1839 – April 28, 1903) was an American scient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5564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Cca 1890 J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ssiah</a:t>
            </a: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 Willard Gibbs (US): Shrnutí termodynamik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71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40021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5" descr="http://www.ub.uni-heidelberg.de/helios/fachinfo/www/math/htmg/gibbs.jpg"/>
          <p:cNvPicPr/>
          <p:nvPr/>
        </p:nvPicPr>
        <p:blipFill>
          <a:blip r:embed="rId2"/>
          <a:stretch/>
        </p:blipFill>
        <p:spPr>
          <a:xfrm>
            <a:off x="179280" y="1700280"/>
            <a:ext cx="2898720" cy="42577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7" descr="Výsledek obrázku pro Josiah Willard Gibbs origi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87880" y="4429080"/>
            <a:ext cx="2927520" cy="21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Shrnutí poznatků z histori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539640" y="1268280"/>
            <a:ext cx="4896000" cy="511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Řada pojmů a představ se kterými se setkáváme v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chemické kinetice je již dlouho známých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Získání některých kinetických informací je velmi náročné (mechanismy reakcí, reakční koordináta,…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Moderní kinetika je interdisciplinární (biochemická kinetika, molekulová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ynamika, kvantová chemi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6" name="Picture 5" descr="Výsledek obrázku pro chemical kinetic trends future"/>
          <p:cNvPicPr/>
          <p:nvPr/>
        </p:nvPicPr>
        <p:blipFill>
          <a:blip r:embed="rId1"/>
          <a:stretch/>
        </p:blipFill>
        <p:spPr>
          <a:xfrm>
            <a:off x="5400720" y="1844640"/>
            <a:ext cx="3743280" cy="374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ří Sopoušek</cp:lastModifiedBy>
  <dcterms:modified xsi:type="dcterms:W3CDTF">2020-02-17T13:23:45Z</dcterms:modified>
  <cp:revision>47</cp:revision>
  <dc:subject/>
  <dc:title>Prezentace aplikace PowerPoint</dc:title>
</cp:coreProperties>
</file>