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DEE0-1505-428B-AF11-B9E064626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6A6E-D454-4A31-A0BF-E6C8ED991AE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5230-AFE1-41E0-AF66-0107432D97A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1EFD-A8E4-4508-A71B-BBA4EC18C1F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599F-191D-42F7-8EFF-5EDB275C035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EF7E-A599-4446-8D7A-C1FAED39606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B72B-837F-488F-B2D9-479BBDFD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BA9D-0BC8-471E-861D-06EB911E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11BE-8DC8-476E-A65F-5B37DFEF0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C1AB-3318-40C6-85D6-ABA88F98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741F-5A84-4464-884A-2E9834D0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2D35-0CE8-4F36-A3A0-9C3AE5DF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21CA-8E25-4974-9991-C1D4B8F8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3C06-B68E-4889-952C-B8C0DDFF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A3D4-5128-4ADC-BBF1-806217F1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F9E6-1314-4682-A458-C2A70F8D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AFED-FBAB-4290-B4C4-5654A89E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8F01-97AB-4096-88D5-B0C9F898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2247-88C7-4B6D-9311-232A25A96962}" type="slidenum">
              <a:rPr b="0" lang="cs-CZ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4500" spc="-1" strike="noStrike">
                <a:solidFill>
                  <a:srgbClr val="000000"/>
                </a:solidFill>
                <a:latin typeface="Arial"/>
                <a:ea typeface="Arial"/>
              </a:rPr>
              <a:t>C6320 Chemická kinetika</a:t>
            </a:r>
            <a:br>
              <a:rPr sz="4500"/>
            </a:br>
            <a:r>
              <a:rPr b="0" lang="cs-CZ" sz="4500" spc="-1" strike="noStrike">
                <a:solidFill>
                  <a:srgbClr val="000000"/>
                </a:solidFill>
                <a:latin typeface="Arial Black"/>
              </a:rPr>
              <a:t>Úvodní hodina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ctangle 37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Sopousek, L01_01 Chemická kine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8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6BCF-21FA-4D8B-BD08-D4F95C68A5F0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8207280" cy="2824200"/>
          </a:xfrm>
          <a:prstGeom prst="rect">
            <a:avLst/>
          </a:prstGeom>
          <a:ln w="0">
            <a:noFill/>
          </a:ln>
        </p:spPr>
      </p:pic>
      <p:sp>
        <p:nvSpPr>
          <p:cNvPr id="52" name="Obdélník 1"/>
          <p:cNvSpPr/>
          <p:nvPr/>
        </p:nvSpPr>
        <p:spPr>
          <a:xfrm>
            <a:off x="2124000" y="6093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s://www.boundless.com/chemistry/textbooks/boundless-chemistry-textbook/chemical-kinetics-13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51920" y="380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4: Reakce vratné: dynamická rovnováha, stacionární stav, rovnovážná konstanta, rychlostní rovnice lineární a exponenciální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2E25-58CA-4639-BB0C-FCB98574FA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7" descr="http://www.psigate.ac.uk/newsite/reference/plambeck/chem2/p02154g1.gif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8876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4572000" y="2666880"/>
            <a:ext cx="4572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44546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4: Příklady a numerické řešení reakcí s vratným a paralelním krok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 Light"/>
              </a:rPr>
              <a:t>P5: Experiment. Vsádkový, 05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Zástupný symbol pro číslo snímku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D3AA-31C2-4A47-B413-DACA95022A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077" descr="D:\Vyuka\FCh-základní praktikum\Fotografie praktika a úloh\7c_zmydelneni.jpg"/>
          <p:cNvPicPr/>
          <p:nvPr/>
        </p:nvPicPr>
        <p:blipFill>
          <a:blip r:embed="rId1"/>
          <a:stretch/>
        </p:blipFill>
        <p:spPr>
          <a:xfrm>
            <a:off x="5335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075"/>
          <p:cNvSpPr/>
          <p:nvPr/>
        </p:nvSpPr>
        <p:spPr>
          <a:xfrm>
            <a:off x="5105520" y="4495680"/>
            <a:ext cx="3887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5: Řešení technických problémů s experimentem v praxi</a:t>
            </a:r>
            <a:r>
              <a:rPr b="1" lang="cs-CZ" sz="2400" spc="-1" strike="noStrike">
                <a:solidFill>
                  <a:srgbClr val="44546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6: Reakce katalyzované 1: homogenní katalýza, acidobazická katalýza, autokatalýza, enzymová katalýza, rovnice Michalisova-Mentenové, nestacionární kinetika, integrovaná rovnice Michaelisova-Mentenové, složité enzymové reakce (Clelandova symbolika, Kingova-Altmanova metoda), inhibi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BE38-51F5-4593-8A25-777FB11E83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029" descr="http://www.millipore.com/publications.nsf/dda0cb48c91c0fb6852567430063b5d6/7b111b8ca85b07a085256fa20052b376/en_RTBody/2.FBC?OpenElement&amp;FieldElemFormat=gif"/>
          <p:cNvPicPr/>
          <p:nvPr/>
        </p:nvPicPr>
        <p:blipFill>
          <a:blip r:embed="rId1"/>
          <a:stretch/>
        </p:blipFill>
        <p:spPr>
          <a:xfrm>
            <a:off x="380880" y="2362320"/>
            <a:ext cx="6705720" cy="4016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028"/>
          <p:cNvSpPr/>
          <p:nvPr/>
        </p:nvSpPr>
        <p:spPr>
          <a:xfrm>
            <a:off x="5638680" y="5638680"/>
            <a:ext cx="30862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 3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rčení konstanty Michaelis – Mentenov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380880"/>
            <a:ext cx="784872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7: Reakce katalyzované 2: heterogenní katalýza, chemisorpce a pokrytí povrchu, adsorpční izotermy (Langmuirova, BET, Freundlichova, Temkinova), uni a bimolekulární reakce na povrchu, inhibice produkte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8: Reakce řetězové: iniciace, propagace, terminace, reakce radikálové, reakce větvené, polymerace, hoření, exploz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EE72-07EC-4131-A34C-8D6FF5A270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028" descr="http://img.sparknotes.com/figures/6/62c26fd494fed99200569cfa94d97377/cat.gif"/>
          <p:cNvPicPr/>
          <p:nvPr/>
        </p:nvPicPr>
        <p:blipFill>
          <a:blip r:embed="rId1"/>
          <a:stretch/>
        </p:blipFill>
        <p:spPr>
          <a:xfrm>
            <a:off x="609480" y="2819520"/>
            <a:ext cx="4800600" cy="38178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029"/>
          <p:cNvSpPr/>
          <p:nvPr/>
        </p:nvSpPr>
        <p:spPr>
          <a:xfrm>
            <a:off x="5791320" y="5562720"/>
            <a:ext cx="2817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Figure 1.10: Mechanisms of ethylene hydroge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oup 1031"/>
          <p:cNvGrpSpPr/>
          <p:nvPr/>
        </p:nvGrpSpPr>
        <p:grpSpPr>
          <a:xfrm>
            <a:off x="1266840" y="5867280"/>
            <a:ext cx="6608880" cy="266400"/>
            <a:chOff x="1266840" y="5867280"/>
            <a:chExt cx="6608880" cy="266400"/>
          </a:xfrm>
        </p:grpSpPr>
        <p:sp>
          <p:nvSpPr>
            <p:cNvPr id="101" name="Rectangle 1027"/>
            <p:cNvSpPr/>
            <p:nvPr/>
          </p:nvSpPr>
          <p:spPr>
            <a:xfrm>
              <a:off x="1311120" y="5911560"/>
              <a:ext cx="6519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1030"/>
            <p:cNvSpPr/>
            <p:nvPr/>
          </p:nvSpPr>
          <p:spPr>
            <a:xfrm>
              <a:off x="1266840" y="5867280"/>
              <a:ext cx="6608880" cy="266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ffff66"/>
                </a:solidFill>
                <a:latin typeface="Calibri"/>
              </a:rPr>
              <a:t>P9: Reakce oscilující: oscilátory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(Lotka-Volterra, Brusselátor, Oregonátor), limitní cyklus, rekurentní rovnice Metody relaxační: teplotní, tlakový skok, ultrazvuk, mikrovln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9C2F-C661-4D96-BA1A-50F160C474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D:\Sopousek\Vyuka\Kinetika\Předchozí přednáška\Oscilace.jpg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160" y="2286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10: Závislost rychlostní konstanty na teplotě 1: Arrheniova rovnice, srážková teorie, pravděpodobnostní faktor, Lindemannova teorie unimolekulárních reakcí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11: Závislost rychlostní konstanty na teplotě 2: plochy potenciální energie aktivovaný komplex, Eyringova rovnice, reakční termodynamik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12: Mechanismy difúze. Látkové toky a difúzní koeficienty. 1 a 2. Fickův zákon. Analytické a numerické řešení difúzních rovnic, okrajové podmínky. Difúze v~neideálních soustavác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8A61-3151-4174-AA19-19E3725FEB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952880" y="4019400"/>
            <a:ext cx="3733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uring the first minute of exposure the concentration profile in the tube is more steep at the opening than deeper in the tube. Shown here is the profile after 5 seconds. As a result of Fick's Law the mass flow is larger at the opening than deeper insi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http://www.iaq.dk/iap/iap1998/1998_06/Image6.gif"/>
          <p:cNvPicPr/>
          <p:nvPr/>
        </p:nvPicPr>
        <p:blipFill>
          <a:blip r:embed="rId1"/>
          <a:stretch/>
        </p:blipFill>
        <p:spPr>
          <a:xfrm>
            <a:off x="990720" y="3733920"/>
            <a:ext cx="3809880" cy="29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13: Elektrodová kinetika Mechanismus přenosu elektronu v~homogenním a v~heterogenním prostředí (na rozhraní elektroda/roztok), Marcusova teorie, přepětí, Butlerova a Volmerova rovnice, koeficient přenosu náboje,rychlost elektrodové reakce, elektrodový proces s~chemickou reakcí (předřazená, vřazená a následná chemická reakce), heterogenní rychlostní konstanta, vyhodnocení heterogenních rychlostních, konstant pomocí běžných elektrochemických meto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9FFD-ED9C-456A-BEEE-465912D07B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715000" y="342900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: Schematic of the electrode-electrolyte interfac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fig1"/>
          <p:cNvPicPr/>
          <p:nvPr/>
        </p:nvPicPr>
        <p:blipFill>
          <a:blip r:embed="rId1"/>
          <a:srcRect l="0" t="6667" r="0" b="6667"/>
          <a:stretch/>
        </p:blipFill>
        <p:spPr>
          <a:xfrm>
            <a:off x="457200" y="3317760"/>
            <a:ext cx="480060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14: Úvod do kinetiky reakcí v tuhém stavu (nukleace, fázové transformace, 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0F65-6535-47CA-AEE5-B0831490F7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4932360" y="139392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: Two-step nucleation mechanism in solid–solid phase trans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http://www.nature.com/nmat/journal/v14/n1/images_article/nmat4083-f4.jpg"/>
          <p:cNvPicPr/>
          <p:nvPr/>
        </p:nvPicPr>
        <p:blipFill>
          <a:blip r:embed="rId1"/>
          <a:stretch/>
        </p:blipFill>
        <p:spPr>
          <a:xfrm>
            <a:off x="539640" y="2781360"/>
            <a:ext cx="5715000" cy="3152880"/>
          </a:xfrm>
          <a:prstGeom prst="rect">
            <a:avLst/>
          </a:prstGeom>
          <a:ln w="0">
            <a:noFill/>
          </a:ln>
        </p:spPr>
      </p:pic>
      <p:sp>
        <p:nvSpPr>
          <p:cNvPr id="118" name="Obdélník 1"/>
          <p:cNvSpPr/>
          <p:nvPr/>
        </p:nvSpPr>
        <p:spPr>
          <a:xfrm>
            <a:off x="1332000" y="60278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www.nature.com/nmat/journal/v14/n1/full/nmat408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1360" y="3045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Arial Black"/>
              </a:rPr>
              <a:t>Organizace přednášky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Garant a vyučující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Prof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 RNDr.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iří Sopoušek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CSc.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. 549497138,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opousek@mail.muni.c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Ústav chemi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KB, bu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1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kan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. 23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erekvizity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bsolvování přednášek Fyzik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chemie I a I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odmínky ke připuštění ke zkouš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prokázání schopnosti samostatně řešit modelové    problémy kinetiky reak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získání zápočtu ze semináře C63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3D49-4A7D-405C-BEF3-7F40080B08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Black"/>
              </a:rPr>
              <a:t>Organizace semináře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 Black"/>
              </a:rPr>
              <a:t>C6330 Chemická kinetika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920" y="162828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yučující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c. Jiří Sopouše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bsah cvičení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aktické procvičování učiva probraného na přednášce (kalkulačku sebou, práce s P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yhodnocování příkladů experimentálního měření (viz např. měření praktika fyzikální chemie, nebo videa z internetu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oužívání software urychlujícího práci (zejména EXCEL, Mathcad, ) Matematika: Wolfra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svojení si vyhledávat potřebné informace (internet, wifi MU k dispozic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dmínky získání zápočt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Znalost probírané tématiky dle sylabu přednášky C63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ypracování zápočtových příkladů a zpracování kinetického vid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C668-79A7-4A6E-B82D-40572443AC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Arial Black"/>
              </a:rPr>
              <a:t>Doporučená literatur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295280"/>
            <a:ext cx="741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tkins, P. W.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hysical chemistr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6th ed. Oxford : Oxford University Press, 1998. xvi, 1014. ISBN 0-19-850101-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R. I. Masel: Chemical kinetics and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atalysis, John Wiley &amp; Sons, 2001,  ISBN 0-471-24197-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7171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f71717"/>
                </a:solidFill>
                <a:latin typeface="Calibri"/>
              </a:rPr>
              <a:t>J. Vohlídal, Chemická kinetika, Karolinum, Praha 2001 (scrip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. Olmsted III, G. M. Williams: Chemistry – The Molekular Science, Moshby – Year Book, Inc., 199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reindl, Ľudovít.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hemická kinetika [Treindl, 1990]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2. přeprac. vyd. Bratislava : Slovenské pedagogické nakladateĺstvo, 1990. 34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lide share: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https://www.slideshare.net/wkkok1957/ib-chemistry-on-gibbs-free-energy-and-equilibrium-constant-k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KhanAcademy: https://www.khanacademy.org/science/chemistry/chem-kinet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7578-D33C-48EB-BEF6-6DE41BCE12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Zobrazit zdrojový obrázek"/>
          <p:cNvPicPr/>
          <p:nvPr/>
        </p:nvPicPr>
        <p:blipFill>
          <a:blip r:embed="rId1"/>
          <a:stretch/>
        </p:blipFill>
        <p:spPr>
          <a:xfrm>
            <a:off x="7715160" y="1844640"/>
            <a:ext cx="142236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ástupný symbol pro číslo snímk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F3DD-96A0-421A-9794-18C112523207}" type="slidenum">
              <a:rPr b="0" lang="cs-CZ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Obrázek 2" descr=""/>
          <p:cNvPicPr/>
          <p:nvPr/>
        </p:nvPicPr>
        <p:blipFill>
          <a:blip r:embed="rId1"/>
          <a:stretch/>
        </p:blipFill>
        <p:spPr>
          <a:xfrm>
            <a:off x="611280" y="407880"/>
            <a:ext cx="7759440" cy="5935680"/>
          </a:xfrm>
          <a:prstGeom prst="rect">
            <a:avLst/>
          </a:prstGeom>
          <a:ln w="0">
            <a:noFill/>
          </a:ln>
        </p:spPr>
      </p:pic>
      <p:sp>
        <p:nvSpPr>
          <p:cNvPr id="65" name="Obdélník 3"/>
          <p:cNvSpPr/>
          <p:nvPr/>
        </p:nvSpPr>
        <p:spPr>
          <a:xfrm>
            <a:off x="971640" y="645948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https://www.khanacademy.org/science/chemistry/chem-kinetic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456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říkladník z fyzikální chemie VŠChT: http://www.vscht.cz/fch/prikladnik/prikladnik/p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Interaktivní osnova předmě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1906-64C6-4DC9-BDD9-762B75BF62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69138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36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 Light"/>
              </a:rPr>
              <a:t>Osnova přednášky a seminář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7640" y="1143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L1: Úvodní hodina. Proč probíhají chemické reakce? Jak můžeme jejich rychlost popisovat?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pojmy chemické kinetiky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. Typy chemických reakcí, elementární reakce, molekular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5D45-6AB8-43D6-B686-F05E4E7528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029" descr="http://www.engin.umich.edu/~cre/03chap/html/moledyn/MolecularDynamic_files/image113.gif"/>
          <p:cNvPicPr/>
          <p:nvPr/>
        </p:nvPicPr>
        <p:blipFill>
          <a:blip r:embed="rId1"/>
          <a:stretch/>
        </p:blipFill>
        <p:spPr>
          <a:xfrm>
            <a:off x="685800" y="2438280"/>
            <a:ext cx="4994280" cy="40118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030"/>
          <p:cNvSpPr/>
          <p:nvPr/>
        </p:nvSpPr>
        <p:spPr>
          <a:xfrm>
            <a:off x="6172200" y="2933640"/>
            <a:ext cx="297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44546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1: Procvičování základní termodynamik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028"/>
          <p:cNvSpPr/>
          <p:nvPr/>
        </p:nvSpPr>
        <p:spPr>
          <a:xfrm>
            <a:off x="594360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PRS.3C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Potential energy surfa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2: Rychlost reakce, rozsah reakce,rychlostní rovnice, řád reakce. Reakce jednosměrné (1. a 2. řádu, následné, simultánní, následné,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D80C-52DE-4882-ABF7-5800CC44C0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80880" y="2133720"/>
            <a:ext cx="4572000" cy="43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ble: Rates of Bimolecular Atmospheric Gas Reactions at 298.15 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action Rate Constant k m3/mol 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O3 --+ 2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7 x 10+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OH --+ H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H2 --+ H2O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3 x 10+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O2 --+ N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4 x 10+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 --+ N2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.0 x 10+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2 --+ N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8.4 x 10+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NO3 --+ O2 + N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6.0 x 10+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CH4 --+ H2O + CH3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8 x 10+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H2 --+ HCl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O3 --+ ClO + 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7.2 x 10+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5334120" y="190512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44546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44546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2: Příklady na analytické a numerické řešeni reakčních schémat jednosměrných reakc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51920" y="2286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76920" indent="-376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3: Určení řádu reakce: metoda integrální, metoda zlomkových časů (poločas reakce, střední doba života), metody cílených experimentů (metoda izolační, metoda počátečních rychlostí)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4468-4E79-4C73-A176-73173354FF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030"/>
          <p:cNvSpPr/>
          <p:nvPr/>
        </p:nvSpPr>
        <p:spPr>
          <a:xfrm>
            <a:off x="0" y="3276720"/>
            <a:ext cx="41911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44546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44546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3: Numerické řešení reakčních schémat a jejich grafická vizualizace. Určení řádu reakce z experimentálních dat. Lineární a nelineární regrese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03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46600" cy="38941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032"/>
          <p:cNvSpPr/>
          <p:nvPr/>
        </p:nvSpPr>
        <p:spPr>
          <a:xfrm>
            <a:off x="4191120" y="4724280"/>
            <a:ext cx="4647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44546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: 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ásledná nevratná reakce prvního řád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44546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--&gt; B -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ří Sopoušek</dc:creator>
  <dc:description/>
  <dc:language>en-US</dc:language>
  <cp:lastModifiedBy>Student</cp:lastModifiedBy>
  <dcterms:modified xsi:type="dcterms:W3CDTF">2021-03-02T13:48:38Z</dcterms:modified>
  <cp:revision>50</cp:revision>
  <dc:subject/>
  <dc:title>Prezentace aplikace PowerPoint</dc:title>
</cp:coreProperties>
</file>