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4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3BD0-5971-4417-BC85-37F2AF163C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88A-8C46-495D-AB0C-8760842A36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527-0DAA-49DE-9976-2F7E9633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E1B-5347-493F-9EAF-12D9C5AE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848-4340-45EA-B175-596FF508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9D6-5D67-4AA2-9AEC-12874D8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AD11-94B0-4A5F-8143-B91B0DED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7B0-6076-4717-8C72-B49D5627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A248-5EF5-49B4-81DB-11A1667F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CBCC-E55B-47B3-9DBD-7B66B9B5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5D75-FA6C-4E25-BE3E-43CD3F8D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80F9-1853-4EDF-960D-8E38DF75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CEBF-1909-48CD-BE57-0CC499D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AE2-4997-461A-8B68-FE7EB2E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D32-FD68-4352-A769-AA2069E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0E15-921C-4C26-8611-7881E03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DFF-C4F6-4DB2-88B3-B508DF24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6113-FE7C-4EB3-8CAE-E8C91C74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E0FA-36C7-4FDB-AA0C-9CB184EF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9F41-3D5A-4C4A-851D-7AF7632A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CF99-97BF-4A93-A475-D527F3CA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35A4-837A-481C-90C6-1DADAD0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8B41-7160-4319-AE9E-4CC6CCC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84F8-99A2-433D-8B0B-C720DA5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413-C8E2-46F7-8572-940BEA4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7095-1F11-4915-870B-3C9B626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932C-F161-4E61-92BE-104935E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33EE-A9F0-44B2-ABD6-6AF2BF1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551E-0BCD-41BD-9853-DFE85F34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5677-8F2A-45A5-9F36-99D9D4AC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0DEA-FAB9-4D63-8A59-01D787B2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480F-6A30-4118-A14C-8D552122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361-2CB7-42FB-9D35-55F7227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BC5-C209-4F08-BAE9-98569F4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0D5-0DDA-4CC7-81A7-AE679A9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2E2-40F8-4178-BD0F-ED71564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544-2035-40D6-9441-12F2B9F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9A7-322C-4BB1-AF78-A048E2F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DAA-743C-4DE9-9AED-F793C13197A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DDF4-1708-4283-AA08-7FD8E9B227B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D20-A871-41EC-AB72-7EDEB95AD4A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D2E-2EF0-44D2-8481-572E4D61AE7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2335-B2DC-4346-9631-68A28415387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3C14-FE41-410A-B256-884F5F79E4B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B2F-EB86-4C5A-A297-95003242736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Přímá spojnice 5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římá spojnice 9"/>
          <p:cNvSpPr/>
          <p:nvPr/>
        </p:nvSpPr>
        <p:spPr>
          <a:xfrm flipV="1">
            <a:off x="328680" y="1197000"/>
            <a:ext cx="83469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římá spojnice 11"/>
          <p:cNvSpPr/>
          <p:nvPr/>
        </p:nvSpPr>
        <p:spPr>
          <a:xfrm>
            <a:off x="468360" y="1557360"/>
            <a:ext cx="4200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811840" y="2276640"/>
            <a:ext cx="3181320" cy="3999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8"/>
          <p:cNvSpPr/>
          <p:nvPr/>
        </p:nvSpPr>
        <p:spPr>
          <a:xfrm>
            <a:off x="6389280" y="4869000"/>
            <a:ext cx="19422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dotyk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9407-1E67-4B48-82E0-842671D70B0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763120" cy="5991120"/>
          </a:xfrm>
          <a:prstGeom prst="rect">
            <a:avLst/>
          </a:prstGeom>
          <a:ln w="0">
            <a:noFill/>
          </a:ln>
        </p:spPr>
      </p:pic>
      <p:sp>
        <p:nvSpPr>
          <p:cNvPr id="190" name="Přímá spojnice 3"/>
          <p:cNvSpPr/>
          <p:nvPr/>
        </p:nvSpPr>
        <p:spPr>
          <a:xfrm>
            <a:off x="3851280" y="981000"/>
            <a:ext cx="4897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římá spojnice 5"/>
          <p:cNvSpPr/>
          <p:nvPr/>
        </p:nvSpPr>
        <p:spPr>
          <a:xfrm>
            <a:off x="225360" y="1197000"/>
            <a:ext cx="8523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5800680" y="3133800"/>
            <a:ext cx="3191040" cy="428400"/>
          </a:xfrm>
          <a:prstGeom prst="rect">
            <a:avLst/>
          </a:prstGeom>
          <a:ln w="0">
            <a:noFill/>
          </a:ln>
        </p:spPr>
      </p:pic>
      <p:cxnSp>
        <p:nvCxnSpPr>
          <p:cNvPr id="193" name="Přímá spojnice se šipkou 7"/>
          <p:cNvCxnSpPr/>
          <p:nvPr/>
        </p:nvCxnSpPr>
        <p:spPr>
          <a:xfrm flipV="1">
            <a:off x="5579640" y="3561840"/>
            <a:ext cx="1080360" cy="58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6C4B-C1CF-423B-B055-293240CB354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1"/>
          <p:cNvSpPr/>
          <p:nvPr/>
        </p:nvSpPr>
        <p:spPr>
          <a:xfrm>
            <a:off x="967680" y="152280"/>
            <a:ext cx="68864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ětná poznámka s problémem u trubkového reakto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 stanovení rychlostní konstanty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1F58-9E93-4C6C-BF18-7F2E9DA2F22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900000" y="2060640"/>
            <a:ext cx="5832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BF1-98BB-4DB9-A11A-736808E62C9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1"/>
          <p:cNvSpPr/>
          <p:nvPr/>
        </p:nvSpPr>
        <p:spPr>
          <a:xfrm>
            <a:off x="6213960" y="13413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1.3×10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032-2B20-4EA4-B87F-6E36883E560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FEE8-FF61-4EAC-83BC-5BD67E4DB79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  <p:sp>
        <p:nvSpPr>
          <p:cNvPr id="212" name="Přímá spojnice 3"/>
          <p:cNvSpPr/>
          <p:nvPr/>
        </p:nvSpPr>
        <p:spPr>
          <a:xfrm>
            <a:off x="5796000" y="184464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římá spojnice 5"/>
          <p:cNvSpPr/>
          <p:nvPr/>
        </p:nvSpPr>
        <p:spPr>
          <a:xfrm>
            <a:off x="4591080" y="2133720"/>
            <a:ext cx="214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6"/>
          <p:cNvSpPr/>
          <p:nvPr/>
        </p:nvSpPr>
        <p:spPr>
          <a:xfrm>
            <a:off x="3492360" y="2637000"/>
            <a:ext cx="2303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bdélník 8"/>
          <p:cNvSpPr/>
          <p:nvPr/>
        </p:nvSpPr>
        <p:spPr>
          <a:xfrm>
            <a:off x="2268360" y="4221000"/>
            <a:ext cx="457200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922480" y="5373720"/>
            <a:ext cx="2584440" cy="129852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9"/>
          <p:cNvSpPr/>
          <p:nvPr/>
        </p:nvSpPr>
        <p:spPr>
          <a:xfrm>
            <a:off x="404280" y="5780160"/>
            <a:ext cx="235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=f(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ovéPole 1"/>
          <p:cNvSpPr/>
          <p:nvPr/>
        </p:nvSpPr>
        <p:spPr>
          <a:xfrm>
            <a:off x="5910120" y="3933720"/>
            <a:ext cx="32403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,71828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=0,367879   tj. relaxační doba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e čas za který poklesne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 cca 37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A6D-2D19-4AB8-B12C-EEF20409930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C04-370A-4184-A3B9-E209651CA9A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  <p:sp>
        <p:nvSpPr>
          <p:cNvPr id="225" name="Přímá spojnice 3"/>
          <p:cNvSpPr/>
          <p:nvPr/>
        </p:nvSpPr>
        <p:spPr>
          <a:xfrm>
            <a:off x="6227640" y="3357720"/>
            <a:ext cx="25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římá spojnice 6"/>
          <p:cNvSpPr/>
          <p:nvPr/>
        </p:nvSpPr>
        <p:spPr>
          <a:xfrm>
            <a:off x="395280" y="3645000"/>
            <a:ext cx="792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bdélník 9"/>
          <p:cNvSpPr/>
          <p:nvPr/>
        </p:nvSpPr>
        <p:spPr>
          <a:xfrm>
            <a:off x="395280" y="4941720"/>
            <a:ext cx="8582040" cy="96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3F7-EFDE-4983-B067-798002DE0B3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"/>
          <p:cNvSpPr/>
          <p:nvPr/>
        </p:nvSpPr>
        <p:spPr>
          <a:xfrm>
            <a:off x="8548920" y="297000"/>
            <a:ext cx="3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ovéPole 5"/>
          <p:cNvSpPr/>
          <p:nvPr/>
        </p:nvSpPr>
        <p:spPr>
          <a:xfrm>
            <a:off x="6815520" y="1792440"/>
            <a:ext cx="18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6778800" y="2496960"/>
            <a:ext cx="11523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5B92-69CA-44C6-8CFA-AC7A184A8D8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B42-CF15-4E17-92E6-348323BC6B0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  <p:sp>
        <p:nvSpPr>
          <p:cNvPr id="240" name="TextovéPole 1"/>
          <p:cNvSpPr/>
          <p:nvPr/>
        </p:nvSpPr>
        <p:spPr>
          <a:xfrm>
            <a:off x="6443640" y="2924280"/>
            <a:ext cx="2376360" cy="16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né rychlostní Konstanty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platné pro teplotu na kterou se soustava ohřá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8B5-616A-4B7B-A306-B8BB325466C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1"/>
          <p:cNvSpPr/>
          <p:nvPr/>
        </p:nvSpPr>
        <p:spPr>
          <a:xfrm>
            <a:off x="6036120" y="1085760"/>
            <a:ext cx="221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ř.: HA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A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bdélník 3"/>
          <p:cNvSpPr/>
          <p:nvPr/>
        </p:nvSpPr>
        <p:spPr>
          <a:xfrm>
            <a:off x="6804000" y="4548240"/>
            <a:ext cx="205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chem.libretexts.org/Core/Physical_and_Theoretical_Chemistry/Kinetics/Experimental_Methods/Resolving_Kinetics%3A_Faster_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7" descr="https://chem.libretexts.org/@api/deki/files/17505/shocktube.png?revision=1&amp;size=bestfit&amp;width=439&amp;height=312"/>
          <p:cNvPicPr/>
          <p:nvPr/>
        </p:nvPicPr>
        <p:blipFill>
          <a:blip r:embed="rId2"/>
          <a:stretch/>
        </p:blipFill>
        <p:spPr>
          <a:xfrm>
            <a:off x="673200" y="2708280"/>
            <a:ext cx="56275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DDCC-F5F0-49F3-8321-3CD8AF277E2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  <p:sp>
        <p:nvSpPr>
          <p:cNvPr id="250" name="Obdélník 1"/>
          <p:cNvSpPr/>
          <p:nvPr/>
        </p:nvSpPr>
        <p:spPr>
          <a:xfrm>
            <a:off x="250920" y="1268280"/>
            <a:ext cx="84978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římá spojnice 4"/>
          <p:cNvSpPr/>
          <p:nvPr/>
        </p:nvSpPr>
        <p:spPr>
          <a:xfrm>
            <a:off x="4140360" y="2276640"/>
            <a:ext cx="43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římá spojnice 6"/>
          <p:cNvSpPr/>
          <p:nvPr/>
        </p:nvSpPr>
        <p:spPr>
          <a:xfrm>
            <a:off x="250920" y="2492280"/>
            <a:ext cx="648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10840" cy="2838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Výsledek obrázku pro &quot;laser photolysis&quot; method"/>
          <p:cNvPicPr/>
          <p:nvPr/>
        </p:nvPicPr>
        <p:blipFill>
          <a:blip r:embed="rId2"/>
          <a:stretch/>
        </p:blipFill>
        <p:spPr>
          <a:xfrm>
            <a:off x="324000" y="4508640"/>
            <a:ext cx="4464000" cy="191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Výsledek obrázku pro flash photolysis excitation absorption"/>
          <p:cNvPicPr/>
          <p:nvPr/>
        </p:nvPicPr>
        <p:blipFill>
          <a:blip r:embed="rId3"/>
          <a:stretch/>
        </p:blipFill>
        <p:spPr>
          <a:xfrm>
            <a:off x="4932360" y="4251240"/>
            <a:ext cx="3755880" cy="2336760"/>
          </a:xfrm>
          <a:prstGeom prst="rect">
            <a:avLst/>
          </a:prstGeom>
          <a:ln w="0">
            <a:noFill/>
          </a:ln>
        </p:spPr>
      </p:pic>
      <p:sp>
        <p:nvSpPr>
          <p:cNvPr id="257" name="Obdélník 1"/>
          <p:cNvSpPr/>
          <p:nvPr/>
        </p:nvSpPr>
        <p:spPr>
          <a:xfrm>
            <a:off x="3419640" y="6588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photochemistry.wordpress.com/tag/jablonski-diagra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E71C-203D-42C9-BAF1-8B9ADE50F81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38D0-D19C-41B4-B8F5-C598AF8946B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23920" y="647640"/>
            <a:ext cx="8696160" cy="5562720"/>
          </a:xfrm>
          <a:prstGeom prst="rect">
            <a:avLst/>
          </a:prstGeom>
          <a:ln w="0">
            <a:noFill/>
          </a:ln>
        </p:spPr>
      </p:pic>
      <p:sp>
        <p:nvSpPr>
          <p:cNvPr id="264" name="Přímá spojnice 3"/>
          <p:cNvSpPr/>
          <p:nvPr/>
        </p:nvSpPr>
        <p:spPr>
          <a:xfrm>
            <a:off x="1116000" y="4437000"/>
            <a:ext cx="77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78760" cy="93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4757760" y="1341360"/>
            <a:ext cx="3645000" cy="2374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395280" y="1503360"/>
            <a:ext cx="3441600" cy="34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3403440" cy="36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5"/>
          <a:stretch/>
        </p:blipFill>
        <p:spPr>
          <a:xfrm>
            <a:off x="395280" y="3840120"/>
            <a:ext cx="8107200" cy="812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6"/>
          <a:stretch/>
        </p:blipFill>
        <p:spPr>
          <a:xfrm>
            <a:off x="1692360" y="4676760"/>
            <a:ext cx="6035760" cy="480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"/>
          <p:cNvPicPr/>
          <p:nvPr/>
        </p:nvPicPr>
        <p:blipFill>
          <a:blip r:embed="rId7"/>
          <a:stretch/>
        </p:blipFill>
        <p:spPr>
          <a:xfrm>
            <a:off x="306360" y="5300640"/>
            <a:ext cx="8196120" cy="1120680"/>
          </a:xfrm>
          <a:prstGeom prst="rect">
            <a:avLst/>
          </a:prstGeom>
          <a:ln w="0">
            <a:noFill/>
          </a:ln>
        </p:spPr>
      </p:pic>
      <p:cxnSp>
        <p:nvCxnSpPr>
          <p:cNvPr id="273" name="Přímá spojnice se šipkou 2"/>
          <p:cNvCxnSpPr/>
          <p:nvPr/>
        </p:nvCxnSpPr>
        <p:spPr>
          <a:xfrm flipH="1">
            <a:off x="4363560" y="3212640"/>
            <a:ext cx="1721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FDE9-9426-4308-986A-0CA9D4D5EBD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EAF-E04E-4C42-B7F7-E364EBD4E22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ovéPole 1"/>
          <p:cNvSpPr/>
          <p:nvPr/>
        </p:nvSpPr>
        <p:spPr>
          <a:xfrm>
            <a:off x="611280" y="162864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EMICKÉ REAKTORY - PDF Free Download (docplayer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emická kinetika (N403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c. Lidmila Bartovská a prof. Petr Slaví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ol-termreak02_78725.pdf (upce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E921-5D3C-41D4-9E47-CA847D7D467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E28-D604-400E-B6DE-CF2D6627843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71360" y="404640"/>
            <a:ext cx="8753400" cy="239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6840" y="3409920"/>
            <a:ext cx="882792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1042920" y="59500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419760" y="2335320"/>
            <a:ext cx="25290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7"/>
          <p:cNvSpPr/>
          <p:nvPr/>
        </p:nvSpPr>
        <p:spPr>
          <a:xfrm>
            <a:off x="492480" y="5084640"/>
            <a:ext cx="26312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ý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ovéPole 8"/>
          <p:cNvSpPr/>
          <p:nvPr/>
        </p:nvSpPr>
        <p:spPr>
          <a:xfrm>
            <a:off x="5053320" y="5516640"/>
            <a:ext cx="316152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měna konc. Chemickopu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8B8B-1AB6-4F34-AE6D-894F0B244B5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495720" y="1773360"/>
            <a:ext cx="2751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ná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ovéPole 5"/>
          <p:cNvSpPr/>
          <p:nvPr/>
        </p:nvSpPr>
        <p:spPr>
          <a:xfrm>
            <a:off x="898920" y="2776680"/>
            <a:ext cx="2913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elementu 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71C-4C3E-4FEA-AE6D-C4C7738D2F3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5"/>
          <p:cNvSpPr/>
          <p:nvPr/>
        </p:nvSpPr>
        <p:spPr>
          <a:xfrm>
            <a:off x="6390720" y="3357720"/>
            <a:ext cx="20534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prostor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E5F2-67EB-4326-AADF-23B24FF35BC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0D5-BAE2-4B65-BD00-82FF9BCEF5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  <p:sp>
        <p:nvSpPr>
          <p:cNvPr id="170" name="Přímá spojnice 3"/>
          <p:cNvSpPr/>
          <p:nvPr/>
        </p:nvSpPr>
        <p:spPr>
          <a:xfrm>
            <a:off x="1979640" y="5877000"/>
            <a:ext cx="6775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římá spojnice 5"/>
          <p:cNvSpPr/>
          <p:nvPr/>
        </p:nvSpPr>
        <p:spPr>
          <a:xfrm>
            <a:off x="369720" y="6165720"/>
            <a:ext cx="2257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tudent</cp:lastModifiedBy>
  <dcterms:modified xsi:type="dcterms:W3CDTF">2021-04-04T16:56:15Z</dcterms:modified>
  <cp:revision>46</cp:revision>
  <dc:subject/>
  <dc:title>Prezentace aplikace PowerPoint</dc:title>
</cp:coreProperties>
</file>