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5EE3-4045-48DF-92BF-1BB7BFF5029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05E9-501F-478E-B078-3C1541C9345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DE2D-C0E6-48E6-9CE6-661B6FB37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14A1-B3D6-4664-B279-3E192AEF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32D28-6C86-446F-8F5C-0CF7506F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81D5C4-5FFC-484C-B191-1D09A773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6724A-B4AB-4B26-AC88-5785A25E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9B120-ED3C-4677-BE57-6D37C734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98F8F-C16D-4FD9-937A-C4B6C5EC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79376-859C-4F5A-ADB8-E2479D9D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B9758-949D-401B-B698-139A158F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9A723-D704-454A-9B8B-88944D34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0E91F-9BE4-4F0D-BBC8-0E7CCE28C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CC7EE-A813-452B-8F31-C26050FF7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FC57-EA59-4260-8632-F5B2DB2D5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C96CE-D53A-4636-A1B8-42034423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30F14-4CBD-476D-8DCF-5A9F2CDE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A2358D-D457-4D54-A823-F3A361C3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994F42-5029-4F75-95E0-B679E178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2E10A5-ADF7-41C1-A78E-7B3A1498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54381-BE2A-4B13-809F-A456D0FE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8DDEB3-C068-4616-A8BF-B9A14903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0CD1D-A801-40A7-82BE-6D6768B8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E37BFE-9099-4D15-B4FB-0B7FE62C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5F0DA-137E-4844-A79C-F82375394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F8A5-E746-4B36-8CCF-1C5BC7C0F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9F1B0-F6D0-4609-B06E-A3DDB770F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6AC45-6EE8-4B10-9B34-EB6E8D83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FC130-3DF0-4854-AB02-74375F3C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77B0F-FC6A-44F3-A789-07883E08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35912-79CE-4D75-B47F-8470BC8A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3670F-F254-4E72-85C9-06CF506A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275E9-99C1-457E-BD50-89E886C5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C2AD0-85E6-4E1E-B3B1-17A5FB64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FBFF9-D330-497C-BAAC-1011399E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E8CCD-A918-46B0-B661-0B4FEF44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8243-0CF9-4C77-B472-62FFE197B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D87A0-4288-46A1-97AC-A1BFDE73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4C162-CFE5-4955-9DD6-39AD25BC5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6E98B-A5BC-44C9-96DB-2CD522E93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CD6818-F498-460A-A312-E0BC4FCC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8EB520-2B26-484C-A598-4D9CF1DF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C55DA1-0DC0-4115-903C-76A559FE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683AAB-D2F5-4557-B3A6-054809A9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C607BD-E050-4C91-96D3-5BF1FB89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1E9D41-DA2E-4C09-8A9D-EE4CEE93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CE4923-F95D-4165-B6C0-5E33226D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EE6C-95C8-4EA1-A4BB-CAE837C0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A58665-3EF3-4CE5-B78C-A2380071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885EE1-AD2C-4562-A6E2-310F33A2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CB84A-E847-42AF-9E15-A35F1685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FE4786-F666-4487-B23A-144EDCBE9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DE741B-04C2-4735-8A99-D4228A55C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A20672-50D7-489D-AB1A-384989337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314C80-33A1-4371-9F56-265ECA03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A48AAB-13A6-4FFA-9A37-28C90EA5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E6DCEA-583F-48E8-97DA-C7EF7AB6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4701D4-A01A-484C-8209-05ACB2B7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3857-120C-4E4F-A97A-07FA1355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B11EDA-99AC-4E79-BC46-B378418A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495BAE-842D-442A-8B9E-ABAF3B58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0DD477-CFF2-47A5-B3CA-C8ABA2C3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A63176-33F4-4CF7-B020-87965E27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59B4D5-05CB-4FB9-B748-17765C1D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9D5210-34EE-45F6-941F-6276D132E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344511-EC29-4EA0-AF52-9E41400BD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536E-7EC8-49E5-A4BD-F82C9C21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A759-C6BF-4ECB-9EAD-73BE782F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4ECB-BC6D-4893-9902-C4597CD7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2824-0CDD-4060-A479-2105F21E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A0F8-63EE-4842-9DE5-BB9BFDB4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3FDA-D8A9-49FF-838B-8B9E87E2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ACBA-6B8F-40AD-A4BF-464E2A07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34AF-4718-407F-8C06-443A9F7E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BB2D-2C29-4558-8C6B-4DE54A286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3F84-D2D2-4B5C-9F06-D66D42F17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BA005-F48C-420C-8DA8-7904BC25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11481-21DB-41EC-824F-FE507DCF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97E9B-6DA4-41B3-A9F3-C7F36B86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32EE1-A882-49EC-BE26-989FD1D6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D0753-2936-45C8-BF0A-8A637F4D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B93F-42E0-478C-B738-0BFBAC40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EB7B7-1526-4419-8A82-A9E7EBF1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6B282-74EB-401E-99C6-B5EB7478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A8D75-BA58-455B-B9CA-11E8FAF8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AC9D3-87A0-493C-BE2E-1E6462AA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ED228-3070-4177-BEC8-95C413C8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601D8-427E-4DE9-9DAA-BE109CB9D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6B047-B54B-4885-BC0E-33C38F27E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525C8-0223-4136-A0FF-205BE41F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5E78B-48A0-40FC-9BD2-CD3785D4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C2585-A937-43D3-B62A-453C1060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3822-E7CD-48DC-AD95-F76834D2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E3F6B-E3F9-487A-BE37-BCF2FEE1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B6590-59F5-4A54-9290-108993DA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EA37A-17A0-40D4-A87A-CA32CAE9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62015-2CD0-402C-BC6E-654032C8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A2484-404F-4991-9C4A-F9DD5DF9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E4C71-E640-4530-B17B-F08C4055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58113-82B6-4C1C-8FEE-2DD7EE84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95E58-EE08-4BDA-A035-D230D170A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38FEC-5B19-447B-B4F2-4C2F99DCD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66C2A-5E73-41E0-BA4F-2DE5E30B2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A118-25E4-400C-A670-3FB24FEC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A1780-EA5A-452B-B05B-FFCA7A23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4FB24-5EF9-46DF-9C73-77422BF2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DC863-8A2E-4624-B848-A9A6E8B5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9F6CF-2CD2-404F-9900-B1EDBDEB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04E6A-CE83-4B8F-B4B6-D7BA92B3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C27F4-F5AF-4D0D-98D8-53AD1533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ADEE2-3E16-42F6-B24F-AD66BE51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15F96-04D5-4152-BD87-C71E3C78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41901-8DD4-4B3A-9307-F4913425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5E28F-0753-413C-B0A5-7EEA2107A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B3A1-7FB0-45B1-B1C1-AFD7AC6F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5A8F3-D550-4D2E-B7A0-893FD5503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0C459-AE9A-45B0-973A-051E865E8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CC9A7-5B21-4BE5-AFE7-F7198D51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A9E40-3D4D-4BDA-8B10-51AE5B8E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8888E-6F22-49BD-8167-47B345B0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23D79-699A-4563-A7B6-92EFE835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6D989-AF70-4CDD-A371-B545EB9D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84952-88D8-4BDE-A78E-DBF8AD4E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FD51E-DC50-4CA2-94F6-132EE400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BA914-AD2C-4DC4-9B8B-6EEA59C4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98FC-A65A-420D-8746-77E481B9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BF1AC-D553-47B7-A1C0-0D594D17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6130C-8C51-4119-B670-52902FBE9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B743A-D522-422A-8632-32E1D065D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F84F7-E4F1-4496-BFB9-2F9A1E3F7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4A77A-7719-4CEA-89E3-8B01620A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FEB1C-B489-41B3-AB2C-8A03D8BC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D8651-9963-4C95-80BD-1C62D4DB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0ED43-F301-44A9-BA0D-D00AD485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DC8CF-1D85-4EC9-8883-5CE792D0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70BFC-6E10-4350-87CF-CCF4ACFA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82FA-AC96-4741-A5F9-8F2CEAD0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E2B8F-2A51-436D-BEA4-75291924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C325F-5F90-47E5-9C6C-4FD5D74E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CA0FE-DE37-4D9A-BB4B-B1D54B73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D588D-9A5A-439C-8857-8F9CA03F8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6D901-DF5D-4530-A23B-7D1F6345D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9CF2A-3325-4A27-B668-1CC266C14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B9716-CB5C-428B-ABAC-E5C198C8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46ED7-4D5D-4B07-9C6B-3CC329C8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1C50C-BF28-4A78-90ED-63BDE370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84445-E0D2-422F-AA79-285F72E1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2143-A1CD-48C7-B259-EDA4DB54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52CCF-7F02-432E-9C0A-BF97004B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F8122-EB5B-4A01-9C9B-F2A9D5F5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90356-AD4E-4C80-8441-357ABD8B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518F8-FB0C-4D79-86D9-F9D6ADB3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BA78F-71C1-40A8-91F1-D1D2E195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04369-4D75-474C-8F94-D78D489A9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301D2-4E0C-4B0D-9496-725F8C1B9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7A9B6F-9526-4BDB-B3D3-BA3BE2965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6A1D9-9F40-49B0-98F6-07B2923D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16B845-EC32-476A-818F-AD0CA7CC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římá spojnice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Přímá spojnice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0FC8-F450-499A-B962-9395A19B5831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Přímá spojnice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Přímá spojnice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Přímá spojnice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Přímá spojnice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A9AC-0558-49FE-8F47-51C9AAF26EB3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B4DF-104F-4DAA-84BF-D51E3E245B59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E2F5-78BC-4E20-B903-A5D64F67DF3B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8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9022-09C8-4889-BF95-DE85643DAAC1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Přímá spojnice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5CA6-839B-421A-A4E4-D012379317A7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9A6F-37B3-4F82-ABA5-1B3D2587F784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3b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Přímá spojnice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36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E0C6-E7AC-4174-A3BB-6EAAEFA402CA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3C27-02D9-4EDB-80A8-EDF9221FD229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Přímá spojnice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221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3582-720A-42BC-A054-971CAC681B7A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8CB4-87B7-4F65-8180-FAAD54612FF1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632F-35A1-489A-87C4-2F345DC12E4F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Přímá spojnice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347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B2A8-19A2-4F60-A1D3-3C68F5E0DB11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Rectangle 4" descr=""/>
          <p:cNvPicPr/>
          <p:nvPr/>
        </p:nvPicPr>
        <p:blipFill>
          <a:blip r:embed="rId1"/>
          <a:stretch/>
        </p:blipFill>
        <p:spPr>
          <a:xfrm>
            <a:off x="493560" y="669960"/>
            <a:ext cx="8028000" cy="276228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8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Sopousek, L01_02 Chemická kinet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9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lvl="1" marL="191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5AEA-10DF-41DF-B863-83949D953C3C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Obdélník 1"/>
          <p:cNvSpPr/>
          <p:nvPr/>
        </p:nvSpPr>
        <p:spPr>
          <a:xfrm>
            <a:off x="2286000" y="2828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wolframalpha.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AutoShape 7"/>
          <p:cNvSpPr/>
          <p:nvPr/>
        </p:nvSpPr>
        <p:spPr>
          <a:xfrm>
            <a:off x="76320" y="-192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9"/>
          <p:cNvSpPr/>
          <p:nvPr/>
        </p:nvSpPr>
        <p:spPr>
          <a:xfrm>
            <a:off x="228600" y="-396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11"/>
          <p:cNvSpPr/>
          <p:nvPr/>
        </p:nvSpPr>
        <p:spPr>
          <a:xfrm>
            <a:off x="380880" y="112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13" descr="http://4.bp.blogspot.com/-UtjRz5BKRBE/TliAGdz3tEI/AAAAAAAAAgI/m_ZIAoTzqfQ/s1600/wolfram+alpha.jpg"/>
          <p:cNvPicPr/>
          <p:nvPr/>
        </p:nvPicPr>
        <p:blipFill>
          <a:blip r:embed="rId2"/>
          <a:stretch/>
        </p:blipFill>
        <p:spPr>
          <a:xfrm>
            <a:off x="1332000" y="3774960"/>
            <a:ext cx="256356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Rectangle 2" descr=""/>
          <p:cNvPicPr/>
          <p:nvPr/>
        </p:nvPicPr>
        <p:blipFill>
          <a:blip r:embed="rId1"/>
          <a:stretch/>
        </p:blipFill>
        <p:spPr>
          <a:xfrm>
            <a:off x="493560" y="609480"/>
            <a:ext cx="8272440" cy="127476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ntegrate 1/x dx from 1 to 10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1" name="Zástupný symbol pro číslo snímku 6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lvl="1" marL="35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1028-3FF1-4C3E-B5D8-D7DE13EA5D80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6" descr="http://www.wolframalpha.com/input/subpodaction/?c=5a&amp;u=%2Finput%2Fsubpodimage.jsp%3Fpodtitle%3DVisual%2520representation%2520of%2520the%2520integral%26cdtf%3DMSP113201gh8627505579700004afd518f82bh1350%26i%3Dintegrate%25201%252Fx%2520dx%2520from%25201%2520to%252010%26theme%3D1%26plottype%3DDefault%26incframe%3Dfalse%26inctitle%3Dfalse%26incinput%3Dfalse%26mck%3D%26spidx%3D1%26s%3D59%26id%3DMSP112201gh8627505579700003h799a8c67d5cacg%26podidentifier%3DVisualRepresentationOfTheIntegral%26subtitle%3D%26%26%26view%3Dpreview%26zoom%3Ds%26subselection%3Dundefined"/>
          <p:cNvPicPr/>
          <p:nvPr/>
        </p:nvPicPr>
        <p:blipFill>
          <a:blip r:embed="rId2"/>
          <a:stretch/>
        </p:blipFill>
        <p:spPr>
          <a:xfrm>
            <a:off x="530280" y="2781360"/>
            <a:ext cx="519408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12248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integrate -1/a d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5" name="Zástupný symbol pro číslo snímku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lvl="1" marL="191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3751-4678-4457-A079-F3909EEDD110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6" descr="http://www.wolframalpha.com/input/subpodaction/?c=5a&amp;u=%2Finput%2Fsubpodimage.jsp%3Fpodtitle%3DPlots%2520of%2520the%2520integral%26cdtf%3DMSP17331h47d00hi5e09bg3000050717fi59679bi5g%26i%3Dintegrate%2520-1%252Fa%2520da%26theme%3D1%26plottype%3D2DMathPlot%26incframe%3Dfalse%26inctitle%3Dfalse%26incinput%3Dfalse%26mck%3D%26spidx%3D1%26s%3D63%26id%3DMSP17311h47d00hi5e09bg300002ed5067866bg4fb5%26podidentifier%3DPlot%26subtitle%3D%26%26%26view%3Dpreview%26zoom%3Ds%26subselection%3Dundefined"/>
          <p:cNvPicPr/>
          <p:nvPr/>
        </p:nvPicPr>
        <p:blipFill>
          <a:blip r:embed="rId2"/>
          <a:stretch/>
        </p:blipFill>
        <p:spPr>
          <a:xfrm>
            <a:off x="826920" y="2565360"/>
            <a:ext cx="691380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75800" cy="1122480"/>
          </a:xfrm>
          <a:prstGeom prst="rect">
            <a:avLst/>
          </a:prstGeom>
          <a:ln w="0">
            <a:noFill/>
          </a:ln>
        </p:spPr>
      </p:pic>
      <p:sp>
        <p:nvSpPr>
          <p:cNvPr id="578" name="Zástupný symbol pro číslo snímku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lvl="1"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353F-3179-40F8-BBC7-7BA56424B37D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Picture 4" descr="d1592"/>
          <p:cNvPicPr/>
          <p:nvPr/>
        </p:nvPicPr>
        <p:blipFill>
          <a:blip r:embed="rId2"/>
          <a:stretch/>
        </p:blipFill>
        <p:spPr>
          <a:xfrm>
            <a:off x="1042920" y="2421000"/>
            <a:ext cx="6461280" cy="326880"/>
          </a:xfrm>
          <a:prstGeom prst="rect">
            <a:avLst/>
          </a:prstGeom>
          <a:ln w="0">
            <a:noFill/>
          </a:ln>
        </p:spPr>
      </p:pic>
      <p:sp>
        <p:nvSpPr>
          <p:cNvPr id="580" name="TextovéPole 1"/>
          <p:cNvSpPr/>
          <p:nvPr/>
        </p:nvSpPr>
        <p:spPr>
          <a:xfrm>
            <a:off x="395280" y="1628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akce n-teho řá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395280" y="2852640"/>
          <a:ext cx="7445520" cy="3795840"/>
        </p:xfrm>
        <a:graphic>
          <a:graphicData uri="http://schemas.openxmlformats.org/drawingml/2006/table">
            <a:tbl>
              <a:tblPr/>
              <a:tblGrid>
                <a:gridCol w="403200"/>
                <a:gridCol w="7042320"/>
              </a:tblGrid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0.řádu (n = 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I. řádu (n = 1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II. řádu (n = 2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4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III. řádu (n = 3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n.řád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  <p:pic>
        <p:nvPicPr>
          <p:cNvPr id="582" name="Picture 10" descr="http://www.vscht.cz/fch/frvs/html/math/d1594.gif"/>
          <p:cNvPicPr/>
          <p:nvPr/>
        </p:nvPicPr>
        <p:blipFill>
          <a:blip r:embed="rId3"/>
          <a:stretch/>
        </p:blipFill>
        <p:spPr>
          <a:xfrm>
            <a:off x="2151000" y="3276720"/>
            <a:ext cx="5699160" cy="1522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9" descr="http://www.vscht.cz/fch/frvs/html/math/d1595.gif"/>
          <p:cNvPicPr/>
          <p:nvPr/>
        </p:nvPicPr>
        <p:blipFill>
          <a:blip r:embed="rId4"/>
          <a:stretch/>
        </p:blipFill>
        <p:spPr>
          <a:xfrm>
            <a:off x="2050920" y="3860640"/>
            <a:ext cx="5707080" cy="3049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8" descr="http://www.vscht.cz/fch/frvs/html/math/d1596.gif"/>
          <p:cNvPicPr/>
          <p:nvPr/>
        </p:nvPicPr>
        <p:blipFill>
          <a:blip r:embed="rId5"/>
          <a:stretch/>
        </p:blipFill>
        <p:spPr>
          <a:xfrm>
            <a:off x="2062080" y="4653000"/>
            <a:ext cx="5684760" cy="3348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7" descr="http://www.vscht.cz/fch/frvs/html/math/d1597.gif"/>
          <p:cNvPicPr/>
          <p:nvPr/>
        </p:nvPicPr>
        <p:blipFill>
          <a:blip r:embed="rId6"/>
          <a:stretch/>
        </p:blipFill>
        <p:spPr>
          <a:xfrm>
            <a:off x="2200320" y="5373720"/>
            <a:ext cx="5684760" cy="4190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http://www.vscht.cz/fch/frvs/html/math/d1598.gif"/>
          <p:cNvPicPr/>
          <p:nvPr/>
        </p:nvPicPr>
        <p:blipFill>
          <a:blip r:embed="rId7"/>
          <a:stretch/>
        </p:blipFill>
        <p:spPr>
          <a:xfrm>
            <a:off x="2200320" y="6237360"/>
            <a:ext cx="568476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tegrate -1/2 dt from t=0 to 10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Arial"/>
              </a:rPr>
              <a:t>2.0611536224385578279659403801558209763758072755991036929... × 10^-7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Arial"/>
              </a:rPr>
              <a:t>-20 levá i pravá stran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Arial"/>
              </a:rPr>
              <a:t>-dA/dt=k*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iří Sopoušek</cp:lastModifiedBy>
  <dcterms:modified xsi:type="dcterms:W3CDTF">2020-03-10T08:27:18Z</dcterms:modified>
  <cp:revision>21</cp:revision>
  <dc:subject/>
  <dc:title>Prezentace aplikace PowerPoint</dc:title>
</cp:coreProperties>
</file>