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32A-CDDE-4100-A180-C2AB80FD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F51-5BF9-48AA-B31C-A0C22259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226-3578-43E6-8A67-C5A8703B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DB9E-181C-4D81-99A2-463ED49C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883-6692-47C8-AD46-2801C4D6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8D5-61CC-4E2F-BC0E-EB0ACFE9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BBB-D061-4EE3-A5D6-56D0B7FF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D1D-6782-4FC5-8397-A7175ECD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D6D8-ACEF-4E4F-9071-065347A6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144-778F-4007-AC55-05011F59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2E4-4BE3-42E3-80E6-AC113ACE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B75-7518-4F3B-A583-55E81818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4B81-55F3-45E3-A280-C4C355D636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2602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(rate low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598320" y="1628640"/>
            <a:ext cx="6707520" cy="4896000"/>
          </a:xfrm>
          <a:prstGeom prst="rect">
            <a:avLst/>
          </a:prstGeom>
          <a:ln w="0">
            <a:noFill/>
          </a:ln>
        </p:spPr>
      </p:pic>
      <p:pic>
        <p:nvPicPr>
          <p:cNvPr id="43" name="TextovéPole 5" descr=""/>
          <p:cNvPicPr/>
          <p:nvPr/>
        </p:nvPicPr>
        <p:blipFill>
          <a:blip r:embed="rId2"/>
          <a:stretch/>
        </p:blipFill>
        <p:spPr>
          <a:xfrm>
            <a:off x="4065480" y="2981160"/>
            <a:ext cx="248760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7029000" y="3025800"/>
            <a:ext cx="1867680" cy="91692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…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e…ligh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…biom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6" descr="http://img.youtube.com/vi/nZiOyVElo-s/0.jpg"/>
          <p:cNvPicPr/>
          <p:nvPr/>
        </p:nvPicPr>
        <p:blipFill>
          <a:blip r:embed="rId1"/>
          <a:stretch/>
        </p:blipFill>
        <p:spPr>
          <a:xfrm>
            <a:off x="4416480" y="129384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ate lo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7" name="Picture 34" descr="http://www.chemguide.co.uk/physical/basicrates/reqnab1.gif"/>
          <p:cNvPicPr/>
          <p:nvPr/>
        </p:nvPicPr>
        <p:blipFill>
          <a:blip r:embed="rId2"/>
          <a:stretch/>
        </p:blipFill>
        <p:spPr>
          <a:xfrm>
            <a:off x="352440" y="2852640"/>
            <a:ext cx="6154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52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5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  <p:cxnSp>
        <p:nvCxnSpPr>
          <p:cNvPr id="63" name="Přímá spojnice se šipkou 2"/>
          <p:cNvCxnSpPr/>
          <p:nvPr/>
        </p:nvCxnSpPr>
        <p:spPr>
          <a:xfrm>
            <a:off x="2615760" y="2754000"/>
            <a:ext cx="359640" cy="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sp>
        <p:nvSpPr>
          <p:cNvPr id="64" name="Přímá spojnice 4"/>
          <p:cNvSpPr/>
          <p:nvPr/>
        </p:nvSpPr>
        <p:spPr>
          <a:xfrm flipV="1">
            <a:off x="684360" y="4941360"/>
            <a:ext cx="8208720" cy="14292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římá spojnice 7"/>
          <p:cNvSpPr/>
          <p:nvPr/>
        </p:nvSpPr>
        <p:spPr>
          <a:xfrm flipV="1">
            <a:off x="0" y="5373720"/>
            <a:ext cx="3780000" cy="7128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30:08Z</dcterms:modified>
  <cp:revision>109</cp:revision>
  <dc:subject/>
  <dc:title>Soustava</dc:title>
</cp:coreProperties>
</file>