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93DB-A8F4-4FD3-873D-D7EA9D9208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3C27-5CC4-414E-90C1-ECD16B5EE12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AA8-C3FF-42E8-B0E4-4C095185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1B2-865F-41DF-9462-341CE1EB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FF2AC-BF66-476B-B104-2F1A8965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0087F-62D1-441F-8852-473C6B0C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A89D4-E8AA-48D0-9099-56B3BA84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E5A02-BE2E-4BDC-8229-13520C6D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6F708-B145-4D0F-9BCC-E17B382C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3C52F-266A-44E1-85BB-25C34D09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29577-0A32-4481-A88B-A30E1612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70061-1D08-44C5-AB46-3E1BCCBC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FFF69-C521-42D9-8702-3625DFBC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10865-E27E-465B-84B1-DF59527B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519-2CC3-484E-B909-9715D9AB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7CF0D-0650-49EF-9A3B-00ACADEA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53473-A5EB-482B-8D84-1065E06C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7FB9E-6FF4-43C5-BDBB-F1E58FE7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693D5-D289-4C2F-913C-37FD6B8E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3D610-158A-4E22-A51C-3DFEDC48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B4BED-6279-4E91-8A92-4AC9565D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76BF0-DDA1-4F1F-B2F1-CEE621BF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E7D47-DBAC-4C26-80DD-B113900F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120C5-1D02-4A15-A51D-6A847F5E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50135-9D56-4FD7-B65C-756966E5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B79-06DB-4CBF-8661-0B3A25B8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F508E-A325-43C3-A7E1-20B281B6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BACE4-60D2-4AF4-A895-141B8BDD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68B82-2126-45BD-A263-3CB3DC08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ECAE4-716E-405E-AE5D-8605F3A3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63F7B-E77D-420A-9866-65D405D6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8C191-4CFC-477F-BA41-14150CE8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89917-ED9F-4945-A07F-E0B66F0A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154EB-C179-40A4-9E4F-60D31592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F3328-5B1C-4B3A-9FE6-14814523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68ED2-7501-4052-9322-5396BA33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BFC6-63CA-412B-AC4E-5CDAF7CB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0A487-E4F1-4B17-B8D6-7A547418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ACAB2-4ABA-426F-83C2-AE21542B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286B3-3E3B-4ABB-83B0-BAE7D226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A191B-25F7-4F5E-A39B-FBCC2C0D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2EB01-BC82-4B2F-82B9-19177AF9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3B4EF-D8CA-44C1-B2DD-19B82BAA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6A05A-542D-45B1-A865-9F56C2F7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9AAD6-EBF4-47BD-B69E-4C22C2CB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A5683-8127-4C8B-8345-ECD3C78F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FC8F4-F0EE-4178-96D4-B43C67FC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F351-385B-4FF1-8F3E-83C6264E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9D4E6-5E6C-4D71-B7DB-0BA9D67E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F0AD6-7C18-4DF1-8FC0-3DD0F9EA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0CB00-D26A-49CB-BFBA-DF7EFA24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68FB2-8473-41C2-A4E6-B5D18C48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062F1-4257-42B7-83EC-BEABF643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27EB7-1CA7-4057-9E9B-5B6F5108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81EF1-6824-452C-A3F7-99BFCE0E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BDCCE-B551-44E8-BAD4-72073964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E60B8-F86D-484A-8D7D-3913AC62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C1442-745C-4ADC-A4BD-2542A1A9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731D-8C6D-4F74-BFC9-4F7C8D7A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6A568-6DE3-4E09-A2F8-BFBA7DA4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76736-B43A-45F1-BEE2-6B62B67B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AB0F1-C018-4C7C-8D3B-63571136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D0CCB-E642-4253-B3CE-7EFCF15B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C4C08-AAD5-4D23-9E37-92F935F5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901A6-533B-4CC2-9693-B1FF1DFD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D658F-F11A-4675-A852-6E113921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7549-BB88-4B6B-B11C-49E229A5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7F55-0439-4067-9C83-CC4B9E6C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320A-09A3-4264-B619-409546B2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F82F-D92E-4842-B3FA-E8343153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AAC-B3C2-4361-BE2B-47709770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8C7B-5470-4EDB-B048-C5A0B8F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8750-7F3E-4616-89B1-1EB595F3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6860-6010-4DA5-B6DE-8B16F3E5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D6CB-6D8B-4A76-BE2D-832C78CF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AF15-BD8A-4441-AAA0-22E68667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1847-141D-420A-A629-55F50906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3B4A-1F38-4BF5-8463-D347FEE8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D58D-465F-45AD-B5B0-1335D50E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7E93-1DD2-4567-927B-A2333E29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5BBD7-C5EE-417F-9BEE-7FDEAB25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9B8-C41A-4DB9-A438-5FA50BB7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4837B-D4DB-4197-975D-3C34A782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5E66-F73A-4FE2-8B6C-02181AD5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5DA9-F361-48BD-92A5-F82E6A36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9A86-968F-4016-A77A-53D4C9A8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F6011-999F-4BE3-B5D8-6E61B4B2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3BA50-7E02-4B36-91BB-1472D478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D85F-B71F-4196-A076-520FE140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C59D8-409C-4540-B3BE-C921B4E5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FC49D-C9E4-4F3D-95AA-B1FCAE52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14F2B-E934-48C6-8CC7-8DDC87D1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C62-7AAD-4035-9875-24A18287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E80E2-3325-4936-B58E-33C05EBA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2AC2C-013A-4F37-854B-8D71BEE1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263C-3D5B-4CE4-8DBF-66AEC02C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07685-3C29-427B-80E7-6E18939C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CC2AF-B26A-4757-977C-03DB3CE4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2CE73-F1EA-413F-AA33-65A1533E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C821A-A206-4DED-9387-DD99B9C5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AC30F-F7A1-4701-B82E-51F68C4B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B840D-0030-4ECA-9447-AA2C089D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7BF4F-F246-4585-8C22-188AFF94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F10-DF66-41FE-A1DD-7CF68EC9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F2523-DDC6-4E87-8E75-35F6A86C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92917-B2A8-46F0-83B8-067590F3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53630-03BF-450F-9180-3DC4D7EE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74B9C-B668-4A01-91D4-68646DE6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451B4-C95C-4550-830E-59CD52AC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7941C-27F4-4846-8AF6-433583DB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3F88F-2EB9-4924-82CE-3A95CBDC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5A6B3-2AE4-4A50-B6CB-38F3EA41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3B1D-E72C-48F8-9575-00AB16BC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44D69-CF5C-433F-86F7-E50B2BB3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58C-597F-42D6-9241-F4B60820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7D834-7F69-4324-8088-EB18986A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47FCC-561B-407D-B0DE-095A65AE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21EAB-ACD4-4C4B-AE6A-67A42D25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1AFE3-5C1B-4C61-86C9-15BC0BA4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4827D-0B34-480F-8818-C41FAAD8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06DA4-8790-47E2-A7F1-5D6924EE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CBB8B-8336-493D-8085-50FA3E5B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86BAA-7A24-4675-AA45-9ABAB2F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3085F-AD04-4977-83DA-5C884A34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B79CD-25A6-4D00-9B47-1B39F387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0C0-BC7A-404A-85AB-B02B027A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1ACD2-DFF9-43BD-A606-3B94B238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68530-6245-4B13-BDE2-06214CF4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CA1F9-E33D-4071-8ACF-0EFCB372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A2125-8CF1-492F-A344-11BAF080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35B8C-5675-4BA0-A7D6-0FB2AC5C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AC858-3487-4812-B4A3-AFB62840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71E57-1940-49C5-A5A3-9B128FCF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4529C-87A4-4B15-AF56-6F4DD64F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13F5D-DB9D-46BE-BABA-D5D4F48B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2F36D-FB87-4FF9-99FA-B7B5CC7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65A-83FE-4111-BE86-7958A0B4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F7DDC-DAAF-4C00-8DA1-422B8431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AD14F-35AF-4A32-B679-E74AF08F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46E12-565C-46C0-BE31-515CEE4E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9F41E-3C65-48F0-A01F-EB8AA35B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F308D-EE84-4288-A07E-7BE44E67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C6F9F-817A-44F6-886C-E45EF244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49058-3E92-4B6B-9D91-41F0192B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71810-4D5A-486A-A629-8802D7EA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4C223-5463-44CF-A65F-27ACBEC0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5EA6E-9BFD-42D8-88F7-0319A936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F81-1A99-487F-9BF5-0D2F03DB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945BC-A44E-48C2-8A79-DC6D06D6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0E56D-4537-43ED-8885-28923990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CBA1B-8CD7-4304-BB39-928328A2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8A3B3-82C5-43B4-B786-8DF7E23B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C21AF-424C-4F8F-8F45-402A4C53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8957C-97C5-47CE-9CC4-3E36C851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AF002-4DC5-4F6A-859F-B6301EB4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C43E9-C7F0-470E-B351-7E2A5AFE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3213D-DE0C-4ED0-8819-6125D2A5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7D039-5A34-4375-BDF5-2BAB369D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09E2-7747-4945-888F-7E6E2414957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9CD6-E8A8-4E48-957C-088AFE30D02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C386-8A09-4DC5-A577-00B9E277AAB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F380-4093-494E-9DE5-B4867A4F4D3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6DBA-8278-441C-BD22-D2D1E3564F5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0B5D-556C-4626-8D30-D83C804A89C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3833-EBFA-4D75-8E76-C6862EF78E9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9D44-C0CC-46C4-89C2-8BC0DF0969F6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653E-B0D1-408D-9874-A2A58420A3E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C75D-6D63-4412-A3EA-B8A55A9B46A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01EC-AF98-4D30-B286-B207707DF72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662B-449C-4925-93B2-35137F242E7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C761-735B-4893-B724-527A42E9E01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F743-6E4E-469E-91E9-5E073A5FE4A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D1BA-A027-472C-AF91-19259B0862D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1F01-3CC4-413C-98FA-6479605B954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1224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55CB-016C-41D0-B59E-CC0D3C0A599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3-10T08:27:18Z</dcterms:modified>
  <cp:revision>21</cp:revision>
  <dc:subject/>
  <dc:title>Prezentace aplikace PowerPoint</dc:title>
</cp:coreProperties>
</file>