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3.jpeg" ContentType="image/jpeg"/>
  <Override PartName="/ppt/media/image15.png" ContentType="image/png"/>
  <Override PartName="/ppt/media/image1.png" ContentType="image/png"/>
  <Override PartName="/ppt/media/image27.png" ContentType="image/png"/>
  <Override PartName="/ppt/media/image26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5E0B-253A-4D8E-9BD2-00569EFA79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053E-5100-4AA3-8C08-88CCE841F9E2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417-016A-4063-8771-AA991D38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0C4-9734-4689-B3C4-4CB644CC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11E-41B9-4C56-B8E9-92AE6981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61E-FFEE-4720-9AF6-30DB1753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FAB2-1B8F-4F1B-972A-320D687F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5025-944B-450B-96F4-05E3D46F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FCCB-2462-421F-854B-26D633C3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F7D8-9791-46DC-A1F5-62EDF6B5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C003-0409-45A3-907E-DBE63588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C52F-604D-4FDC-95D8-12A4314E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8B60-9F3B-45A6-BC6A-5E775790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FDE-DE81-44C5-8B0F-5D950CB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5337-B646-4248-B226-7A948370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4A70-A9E2-424C-9D45-208C93A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8906-7486-485E-9A7E-0ED59EF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B4B7-F918-48C5-871F-D5D5A7E5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7105-6ED1-41FF-93C8-2E4F8A31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6F3-34D0-493C-B39B-0586880D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844-FB81-4252-A783-1C2630E9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E04-B97C-4130-862A-2DEB5F23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D6C-9341-4B55-8A10-5E160464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F25-2597-4F28-A22F-4730FD13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18D-D2E2-4ABE-89BE-584E2DF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6D1-C692-448F-BD97-D1D2434D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CFF6-4631-402D-B8C8-31303890A3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5DA7-A2D4-4779-AF53-C81C0060449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Vyuka\C6320_Kinetika\Texty k p&#345;edn&#225;&#353;ce C6320\L09_Enzymy a adsorpce\Nukleove_kyseliny.pp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of. J. Sopou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755640" y="3860640"/>
            <a:ext cx="746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250920" y="2602080"/>
            <a:ext cx="391644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1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2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4686480" y="4005360"/>
            <a:ext cx="3557520" cy="155700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epevnost „zámku“ je příčinou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tikompetitivní katalýzy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164520"/>
            <a:ext cx="345456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e-stady-stat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2" descr="http://3.bp.blogspot.com/-VjAGqHqBK7g/TzSuMtCy7kI/AAAAAAAAAT4/f-SwQTWJBf0/s1600/Untitled8.jpg"/>
          <p:cNvPicPr/>
          <p:nvPr/>
        </p:nvPicPr>
        <p:blipFill>
          <a:blip r:embed="rId1"/>
          <a:stretch/>
        </p:blipFill>
        <p:spPr>
          <a:xfrm>
            <a:off x="4788000" y="115920"/>
            <a:ext cx="3333600" cy="6877080"/>
          </a:xfrm>
          <a:prstGeom prst="rect">
            <a:avLst/>
          </a:prstGeom>
          <a:ln w="0">
            <a:noFill/>
          </a:ln>
        </p:spPr>
      </p:pic>
      <p:cxnSp>
        <p:nvCxnSpPr>
          <p:cNvPr id="168" name="Přímá spojnice se šipkou 3"/>
          <p:cNvCxnSpPr/>
          <p:nvPr/>
        </p:nvCxnSpPr>
        <p:spPr>
          <a:xfrm>
            <a:off x="5580000" y="1557000"/>
            <a:ext cx="19454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9" name="Přímá spojnice se šipkou 5"/>
          <p:cNvCxnSpPr/>
          <p:nvPr/>
        </p:nvCxnSpPr>
        <p:spPr>
          <a:xfrm>
            <a:off x="5076720" y="1341000"/>
            <a:ext cx="5040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Přímá spojnice se šipkou 7"/>
          <p:cNvCxnSpPr/>
          <p:nvPr/>
        </p:nvCxnSpPr>
        <p:spPr>
          <a:xfrm>
            <a:off x="7524720" y="549000"/>
            <a:ext cx="59760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TextovéPole 8"/>
          <p:cNvSpPr/>
          <p:nvPr/>
        </p:nvSpPr>
        <p:spPr>
          <a:xfrm>
            <a:off x="5211000" y="87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9"/>
          <p:cNvSpPr/>
          <p:nvPr/>
        </p:nvSpPr>
        <p:spPr>
          <a:xfrm>
            <a:off x="5950080" y="1095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7631640" y="31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ovéPole 11"/>
          <p:cNvSpPr/>
          <p:nvPr/>
        </p:nvSpPr>
        <p:spPr>
          <a:xfrm>
            <a:off x="717480" y="1844640"/>
            <a:ext cx="3024360" cy="119124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…pre-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t…stady-stat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E….Equilibrium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5" name="Picture 12" descr="Výsledek obrázku pro steady state enzyme kinetics"/>
          <p:cNvPicPr/>
          <p:nvPr/>
        </p:nvPicPr>
        <p:blipFill>
          <a:blip r:embed="rId2"/>
          <a:stretch/>
        </p:blipFill>
        <p:spPr>
          <a:xfrm>
            <a:off x="324000" y="3141720"/>
            <a:ext cx="3543120" cy="3362400"/>
          </a:xfrm>
          <a:prstGeom prst="rect">
            <a:avLst/>
          </a:prstGeom>
          <a:ln w="0">
            <a:noFill/>
          </a:ln>
        </p:spPr>
      </p:pic>
      <p:sp>
        <p:nvSpPr>
          <p:cNvPr id="176" name="Obdélník 1"/>
          <p:cNvSpPr/>
          <p:nvPr/>
        </p:nvSpPr>
        <p:spPr>
          <a:xfrm>
            <a:off x="81000" y="64022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cbc.chem.arizona.edu/classes/bioc462/462a/NOTES/ENZYMES/enzyme_kinetics2.html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6600" y="26028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10T11:42:08Z</dcterms:modified>
  <cp:revision>153</cp:revision>
  <dc:subject/>
  <dc:title>C6730 Fázové rovnováhy</dc:title>
</cp:coreProperties>
</file>