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37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12.wmf" ContentType="image/x-wmf"/>
  <Override PartName="/ppt/media/image36.wmf" ContentType="image/x-wmf"/>
  <Override PartName="/ppt/media/image49.png" ContentType="image/png"/>
  <Override PartName="/ppt/media/image9.wmf" ContentType="image/x-wmf"/>
  <Override PartName="/ppt/media/image41.png" ContentType="image/png"/>
  <Override PartName="/ppt/media/image39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4.jpeg" ContentType="image/jpeg"/>
  <Override PartName="/ppt/media/image40.png" ContentType="image/png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C305-7FD5-40EB-8684-F3ED1B6578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653-97C3-4BB0-8F7A-148CC701C7F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8BD-C968-424E-B658-0B666C97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813-8ADB-46A5-8FB1-39A94542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E7C-44F7-4B75-A495-844D18B1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842-6A28-47DA-AE54-34A26456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FC5-FD17-4243-9552-24FAEDF3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E4BC-D9CB-4F57-99AE-C7CCD17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5504-F607-45A4-A14E-EA3FCDB3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0FFF-AA3E-482F-85A8-57F1FD9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2411-306B-4C65-B0CB-E3B64B68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069-0C1D-4E9A-9FA1-A45C34E1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402-90EA-44C1-9EBD-B593BBA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ADF-E463-43F5-A9DA-3316476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B9E-B0A1-44D5-A457-46281E4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63C4-FD28-41B0-A20E-4DC77F0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14F0-6237-4C18-86AE-4D8F7D0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DFC9-5F36-4565-A908-FFDD6544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D37E-5241-4DE4-89FC-DFCDF5CD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90E-152A-4608-A698-43CA6388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C41-EE90-4E21-B44C-9E7CCED3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A2B-243F-4066-B614-A796D63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6B2-5A84-498E-8AAC-5178892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682-12C7-455A-9BE7-1DD5E55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24D-D21B-4A58-BF40-C64810A3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513-A73B-49BC-BE12-C631444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04C-CCB2-45EE-8F3C-E6132E333D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AFE1-5EAB-4B5A-A365-95E9CCA196B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1600" y="549360"/>
            <a:ext cx="8744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1000" y="189000"/>
            <a:ext cx="8943840" cy="5143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81000" y="5308560"/>
            <a:ext cx="8935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88675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298440" y="364500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39840" y="5365800"/>
            <a:ext cx="8153280" cy="58428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749160" y="62881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wikiwand.com/en/Non-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24280" y="3284640"/>
            <a:ext cx="3733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losterické ne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2" descr="https://upload.wikimedia.org/wikipedia/commons/thumb/0/0f/Allosteric_comp_inhib_1.svg/800px-Allosteric_comp_inhib_1.svg.png?1524635043482"/>
          <p:cNvPicPr/>
          <p:nvPr/>
        </p:nvPicPr>
        <p:blipFill>
          <a:blip r:embed="rId1"/>
          <a:stretch/>
        </p:blipFill>
        <p:spPr>
          <a:xfrm>
            <a:off x="684360" y="1268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440" y="25200"/>
            <a:ext cx="4608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98280" y="907920"/>
            <a:ext cx="3633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225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4572000" y="3213000"/>
            <a:ext cx="3524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686800" cy="2712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http://what-when-how.com/wp-content/uploads/2012/08/tmp9db750_thumb.png"/>
          <p:cNvPicPr/>
          <p:nvPr/>
        </p:nvPicPr>
        <p:blipFill>
          <a:blip r:embed="rId2"/>
          <a:stretch/>
        </p:blipFill>
        <p:spPr>
          <a:xfrm>
            <a:off x="407880" y="3506760"/>
            <a:ext cx="4392720" cy="335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Sopoušek\Dokumenty\Obrázky\Katalýza\350px-Ne Comp_inhib_svg.png"/>
          <p:cNvPicPr/>
          <p:nvPr/>
        </p:nvPicPr>
        <p:blipFill>
          <a:blip r:embed="rId3"/>
          <a:stretch/>
        </p:blipFill>
        <p:spPr>
          <a:xfrm>
            <a:off x="4800600" y="3670200"/>
            <a:ext cx="44164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  <p:pic>
        <p:nvPicPr>
          <p:cNvPr id="160" name="TextovéPole 1" descr=""/>
          <p:cNvPicPr/>
          <p:nvPr/>
        </p:nvPicPr>
        <p:blipFill>
          <a:blip r:embed="rId3"/>
          <a:stretch/>
        </p:blipFill>
        <p:spPr>
          <a:xfrm>
            <a:off x="1036800" y="5010120"/>
            <a:ext cx="1206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867440" cy="53323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5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6" name="Přímá spojnice se šipkou 5"/>
          <p:cNvCxnSpPr/>
          <p:nvPr/>
        </p:nvCxnSpPr>
        <p:spPr>
          <a:xfrm flipH="1" flipV="1">
            <a:off x="4932000" y="4365000"/>
            <a:ext cx="1728000" cy="1656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  <p:sp>
        <p:nvSpPr>
          <p:cNvPr id="171" name="TextovéPole 1"/>
          <p:cNvSpPr/>
          <p:nvPr/>
        </p:nvSpPr>
        <p:spPr>
          <a:xfrm>
            <a:off x="802440" y="5873760"/>
            <a:ext cx="69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odvození také v: http://www.wikiwand.com/en/Competitive_inhibition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960" y="3240"/>
            <a:ext cx="8537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řehlednější odvození vztahů pro kompetitivní inhibici pro anglicky mluvící studenty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2" descr="https://upload.wikimedia.org/wikipedia/commons/thumb/f/fb/Comp_inhib.svg/800px-Comp_inhib.svg.png?1524636860221"/>
          <p:cNvPicPr/>
          <p:nvPr/>
        </p:nvPicPr>
        <p:blipFill>
          <a:blip r:embed="rId1"/>
          <a:stretch/>
        </p:blipFill>
        <p:spPr>
          <a:xfrm>
            <a:off x="210960" y="3716280"/>
            <a:ext cx="4191120" cy="28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78136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s://upload.wikimedia.org/wikipedia/commons/thumb/f/f6/Michaelis-Menten_plot_competitive_inhibition.svg/640px-Michaelis-Menten_plot_competitive_inhibition.svg.png?1524637078488"/>
          <p:cNvPicPr/>
          <p:nvPr/>
        </p:nvPicPr>
        <p:blipFill>
          <a:blip r:embed="rId3"/>
          <a:stretch/>
        </p:blipFill>
        <p:spPr>
          <a:xfrm>
            <a:off x="3995640" y="1015920"/>
            <a:ext cx="432144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4"/>
          <a:stretch/>
        </p:blipFill>
        <p:spPr>
          <a:xfrm>
            <a:off x="4572000" y="3836880"/>
            <a:ext cx="4400640" cy="158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5"/>
          <a:stretch/>
        </p:blipFill>
        <p:spPr>
          <a:xfrm>
            <a:off x="4572000" y="5423040"/>
            <a:ext cx="440064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6"/>
          <a:stretch/>
        </p:blipFill>
        <p:spPr>
          <a:xfrm>
            <a:off x="4568760" y="5715000"/>
            <a:ext cx="37720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7"/>
          <a:stretch/>
        </p:blipFill>
        <p:spPr>
          <a:xfrm>
            <a:off x="4572000" y="5946840"/>
            <a:ext cx="13431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98640"/>
            <a:ext cx="8856720" cy="10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Matematické odvození kompetitivní inhib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37960" y="1268280"/>
            <a:ext cx="8724960" cy="515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781360" cy="18716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5"/>
          <p:cNvSpPr/>
          <p:nvPr/>
        </p:nvSpPr>
        <p:spPr>
          <a:xfrm>
            <a:off x="3143880" y="36417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oto můžeme si napsat i jako 3 dílčí samostatné rovni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2920" y="762120"/>
            <a:ext cx="8858160" cy="533376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2"/>
          <p:cNvSpPr/>
          <p:nvPr/>
        </p:nvSpPr>
        <p:spPr>
          <a:xfrm>
            <a:off x="3514680" y="256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uma rychlostí vzniku = suma rychlostí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7" name="Přímá spojnice se šipkou 4"/>
          <p:cNvCxnSpPr/>
          <p:nvPr/>
        </p:nvCxnSpPr>
        <p:spPr>
          <a:xfrm flipH="1">
            <a:off x="3131640" y="2933280"/>
            <a:ext cx="145440" cy="135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8" name="Přímá spojnice se šipkou 6"/>
          <p:cNvCxnSpPr/>
          <p:nvPr/>
        </p:nvCxnSpPr>
        <p:spPr>
          <a:xfrm flipH="1">
            <a:off x="4982400" y="4087440"/>
            <a:ext cx="1656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89" name="Přímá spojnice se šipkou 8"/>
          <p:cNvCxnSpPr/>
          <p:nvPr/>
        </p:nvCxnSpPr>
        <p:spPr>
          <a:xfrm flipH="1">
            <a:off x="3542760" y="4868640"/>
            <a:ext cx="41979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0" name="Přímá spojnice 13"/>
          <p:cNvSpPr/>
          <p:nvPr/>
        </p:nvSpPr>
        <p:spPr>
          <a:xfrm flipV="1">
            <a:off x="6638760" y="3068280"/>
            <a:ext cx="0" cy="10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římá spojnice 16"/>
          <p:cNvSpPr/>
          <p:nvPr/>
        </p:nvSpPr>
        <p:spPr>
          <a:xfrm flipV="1">
            <a:off x="7740720" y="3068280"/>
            <a:ext cx="0" cy="180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živatel systému Windows</cp:lastModifiedBy>
  <dcterms:modified xsi:type="dcterms:W3CDTF">2021-05-11T07:42:49Z</dcterms:modified>
  <cp:revision>158</cp:revision>
  <dc:subject/>
  <dc:title>C6730 Fázové rovnováhy</dc:title>
</cp:coreProperties>
</file>