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48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25.png" ContentType="image/png"/>
  <Override PartName="/ppt/media/image2.gif" ContentType="image/gif"/>
  <Override PartName="/ppt/media/image37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4.png" ContentType="image/png"/>
  <Override PartName="/ppt/media/image45.wmf" ContentType="image/x-wmf"/>
  <Override PartName="/ppt/media/image46.png" ContentType="image/png"/>
  <Override PartName="/ppt/media/image47.wmf" ContentType="image/x-wmf"/>
  <Override PartName="/ppt/media/image12.wmf" ContentType="image/x-wmf"/>
  <Override PartName="/ppt/media/image36.wmf" ContentType="image/x-wmf"/>
  <Override PartName="/ppt/media/image49.png" ContentType="image/png"/>
  <Override PartName="/ppt/media/image9.wmf" ContentType="image/x-wmf"/>
  <Override PartName="/ppt/media/image41.png" ContentType="image/png"/>
  <Override PartName="/ppt/media/image39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7.png" ContentType="image/png"/>
  <Override PartName="/ppt/media/image4.jpeg" ContentType="image/jpeg"/>
  <Override PartName="/ppt/media/image40.png" ContentType="image/png"/>
  <Override PartName="/ppt/media/image3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8EF3-39B5-4106-8A77-93F9B0D58E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8D87-6774-461D-A1F1-6D946E89B5DA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588-5028-4B5C-A82B-91E2B609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9D3-5888-49FF-B784-29E9CE3D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1D0-3DE4-4CBA-9EE6-FAFE9015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EE6-1464-49B6-B327-17E6A552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AAA0-6104-49C6-A09D-1FBC4359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54B3-4C2F-4E82-886D-17F8BECB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5011-E5C9-499E-BD12-D4085ACE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BDE1-D24B-4701-92C7-DAEDB118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1811-B950-4530-9FE2-5F2A384C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2282-C3AE-418C-A114-11F464F9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38D6-F898-463D-BF5D-C30EE2B3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BC4-A96D-4A87-8487-7EB96ED2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F66D-5F34-4AC9-A752-95609202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77F5-D81A-4273-9F6B-FABC010A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FE33-27E3-42FB-ADE2-173A46A3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7266-3C0E-4D3B-8B21-28C4544A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0444-CEB8-43B7-8072-24DD19B0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42B-F6C5-41D6-8B7B-DC8C5FDA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E1A-95F2-4DC2-A1A0-A0DB9369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C3D-D3A6-411E-8241-A077AF38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CFC-F57E-44A2-9E3C-5EB10C2B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3C5-E477-4EA9-928D-FE7A8E93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18B-21AC-4445-B1D5-EB84FADE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F24-E1F2-4857-B2F8-2C12DAE0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CC85-7892-44C9-A54D-2EF5EBA7396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4698-7852-4F8A-B7F4-08E65DC5200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01600" y="549360"/>
            <a:ext cx="8744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81000" y="189000"/>
            <a:ext cx="8943840" cy="5143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81000" y="5308560"/>
            <a:ext cx="8935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88675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602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98440" y="364500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339840" y="5365800"/>
            <a:ext cx="8153280" cy="584280"/>
          </a:xfrm>
          <a:prstGeom prst="rect">
            <a:avLst/>
          </a:prstGeom>
          <a:ln w="0">
            <a:noFill/>
          </a:ln>
        </p:spPr>
      </p:pic>
      <p:sp>
        <p:nvSpPr>
          <p:cNvPr id="211" name="Obdélník 1"/>
          <p:cNvSpPr/>
          <p:nvPr/>
        </p:nvSpPr>
        <p:spPr>
          <a:xfrm>
            <a:off x="749160" y="62881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wikiwand.com/en/Non-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214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724280" y="3284640"/>
            <a:ext cx="37339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losterické ne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2" descr="https://upload.wikimedia.org/wikipedia/commons/thumb/0/0f/Allosteric_comp_inhib_1.svg/800px-Allosteric_comp_inhib_1.svg.png?1524635043482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440" y="25200"/>
            <a:ext cx="4608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98280" y="907920"/>
            <a:ext cx="3633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225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3524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686800" cy="2712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what-when-how.com/wp-content/uploads/2012/08/tmp9db750_thumb.png"/>
          <p:cNvPicPr/>
          <p:nvPr/>
        </p:nvPicPr>
        <p:blipFill>
          <a:blip r:embed="rId2"/>
          <a:stretch/>
        </p:blipFill>
        <p:spPr>
          <a:xfrm>
            <a:off x="407880" y="3506760"/>
            <a:ext cx="4392720" cy="3351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Sopoušek\Dokumenty\Obrázky\Katalýza\350px-Ne Comp_inhib_svg.png"/>
          <p:cNvPicPr/>
          <p:nvPr/>
        </p:nvPicPr>
        <p:blipFill>
          <a:blip r:embed="rId3"/>
          <a:stretch/>
        </p:blipFill>
        <p:spPr>
          <a:xfrm>
            <a:off x="4800600" y="3670200"/>
            <a:ext cx="44164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  <p:pic>
        <p:nvPicPr>
          <p:cNvPr id="160" name="TextovéPole 1" descr=""/>
          <p:cNvPicPr/>
          <p:nvPr/>
        </p:nvPicPr>
        <p:blipFill>
          <a:blip r:embed="rId3"/>
          <a:stretch/>
        </p:blipFill>
        <p:spPr>
          <a:xfrm>
            <a:off x="1036800" y="5010120"/>
            <a:ext cx="1206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867440" cy="53323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5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6" name="Přímá spojnice se šipkou 5"/>
          <p:cNvCxnSpPr/>
          <p:nvPr/>
        </p:nvCxnSpPr>
        <p:spPr>
          <a:xfrm flipH="1" flipV="1">
            <a:off x="4932000" y="4365000"/>
            <a:ext cx="1728000" cy="1656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  <p:sp>
        <p:nvSpPr>
          <p:cNvPr id="171" name="TextovéPole 1"/>
          <p:cNvSpPr/>
          <p:nvPr/>
        </p:nvSpPr>
        <p:spPr>
          <a:xfrm>
            <a:off x="802440" y="5873760"/>
            <a:ext cx="69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odvození také v: http://www.wikiwand.com/en/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0960" y="3240"/>
            <a:ext cx="85377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řehlednější odvození vztahů pro kompetitivní inhibici pro anglicky mluvící studenty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2" descr="https://upload.wikimedia.org/wikipedia/commons/thumb/f/fb/Comp_inhib.svg/800px-Comp_inhib.svg.png?1524636860221"/>
          <p:cNvPicPr/>
          <p:nvPr/>
        </p:nvPicPr>
        <p:blipFill>
          <a:blip r:embed="rId1"/>
          <a:stretch/>
        </p:blipFill>
        <p:spPr>
          <a:xfrm>
            <a:off x="210960" y="3716280"/>
            <a:ext cx="4191120" cy="289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78136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ttps://upload.wikimedia.org/wikipedia/commons/thumb/f/f6/Michaelis-Menten_plot_competitive_inhibition.svg/640px-Michaelis-Menten_plot_competitive_inhibition.svg.png?1524637078488"/>
          <p:cNvPicPr/>
          <p:nvPr/>
        </p:nvPicPr>
        <p:blipFill>
          <a:blip r:embed="rId3"/>
          <a:stretch/>
        </p:blipFill>
        <p:spPr>
          <a:xfrm>
            <a:off x="3995640" y="1015920"/>
            <a:ext cx="432144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4"/>
          <a:stretch/>
        </p:blipFill>
        <p:spPr>
          <a:xfrm>
            <a:off x="4572000" y="3836880"/>
            <a:ext cx="4400640" cy="158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5"/>
          <a:stretch/>
        </p:blipFill>
        <p:spPr>
          <a:xfrm>
            <a:off x="4572000" y="5423040"/>
            <a:ext cx="440064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6"/>
          <a:stretch/>
        </p:blipFill>
        <p:spPr>
          <a:xfrm>
            <a:off x="4568760" y="5715000"/>
            <a:ext cx="3772080" cy="371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7"/>
          <a:stretch/>
        </p:blipFill>
        <p:spPr>
          <a:xfrm>
            <a:off x="4572000" y="5946840"/>
            <a:ext cx="13431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98640"/>
            <a:ext cx="8856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Matematické odvození 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37960" y="1268280"/>
            <a:ext cx="8724960" cy="515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781360" cy="18716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5"/>
          <p:cNvSpPr/>
          <p:nvPr/>
        </p:nvSpPr>
        <p:spPr>
          <a:xfrm>
            <a:off x="3143880" y="36417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oto můžeme si napsat i jako 3 dílčí samostatné rovni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2920" y="762120"/>
            <a:ext cx="8858160" cy="533376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2"/>
          <p:cNvSpPr/>
          <p:nvPr/>
        </p:nvSpPr>
        <p:spPr>
          <a:xfrm>
            <a:off x="3514680" y="2565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uma rychlostí vzniku = suma rychlostí zánik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7" name="Přímá spojnice se šipkou 4"/>
          <p:cNvCxnSpPr/>
          <p:nvPr/>
        </p:nvCxnSpPr>
        <p:spPr>
          <a:xfrm flipH="1">
            <a:off x="3131640" y="2933280"/>
            <a:ext cx="145440" cy="135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8" name="Přímá spojnice se šipkou 6"/>
          <p:cNvCxnSpPr/>
          <p:nvPr/>
        </p:nvCxnSpPr>
        <p:spPr>
          <a:xfrm flipH="1">
            <a:off x="4982400" y="4087440"/>
            <a:ext cx="1656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9" name="Přímá spojnice se šipkou 8"/>
          <p:cNvCxnSpPr/>
          <p:nvPr/>
        </p:nvCxnSpPr>
        <p:spPr>
          <a:xfrm flipH="1">
            <a:off x="3542760" y="4868640"/>
            <a:ext cx="41979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0" name="Přímá spojnice 13"/>
          <p:cNvSpPr/>
          <p:nvPr/>
        </p:nvSpPr>
        <p:spPr>
          <a:xfrm flipV="1">
            <a:off x="6638760" y="3068280"/>
            <a:ext cx="0" cy="10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římá spojnice 16"/>
          <p:cNvSpPr/>
          <p:nvPr/>
        </p:nvSpPr>
        <p:spPr>
          <a:xfrm flipV="1">
            <a:off x="7740720" y="3068280"/>
            <a:ext cx="0" cy="180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7:42:49Z</dcterms:modified>
  <cp:revision>158</cp:revision>
  <dc:subject/>
  <dc:title>C6730 Fázové rovnováhy</dc:title>
</cp:coreProperties>
</file>