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36.png" ContentType="image/png"/>
  <Override PartName="/ppt/media/image24.wmf" ContentType="image/x-wmf"/>
  <Override PartName="/ppt/media/image29.png" ContentType="image/png"/>
  <Override PartName="/ppt/media/image31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4.wmf" ContentType="image/x-wmf"/>
  <Override PartName="/ppt/media/image16.wmf" ContentType="image/x-wmf"/>
  <Override PartName="/ppt/media/image55.png" ContentType="image/png"/>
  <Override PartName="/ppt/media/image25.wmf" ContentType="image/x-wmf"/>
  <Override PartName="/ppt/media/image15.jpeg" ContentType="image/jpeg"/>
  <Override PartName="/ppt/media/image17.jpeg" ContentType="image/jpeg"/>
  <Override PartName="/ppt/media/image45.wmf" ContentType="image/x-wmf"/>
  <Override PartName="/ppt/media/image22.png" ContentType="image/png"/>
  <Override PartName="/ppt/media/image60.jpeg" ContentType="image/jpeg"/>
  <Override PartName="/ppt/media/image21.wmf" ContentType="image/x-wmf"/>
  <Override PartName="/ppt/media/image42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0.wmf" ContentType="image/x-wmf"/>
  <Override PartName="/ppt/media/image26.wmf" ContentType="image/x-wmf"/>
  <Override PartName="/ppt/media/image2.gif" ContentType="image/gif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7.wmf" ContentType="image/x-wmf"/>
  <Override PartName="/ppt/media/image11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32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40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48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3.png" ContentType="image/png"/>
  <Override PartName="/ppt/media/image5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9870-80FA-4C0E-9BF1-662F29D996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A949-9A1D-4860-9088-92A002EB66E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19C3-7CEB-45A6-88FD-6EA43C32206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B97-2FEC-4BE4-95C6-0FF08C54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016-F5E3-47B3-998F-CCB2FA64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87F-D4AD-4424-B278-4B57A062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9B4-95F9-45A1-9D9A-BEC40D04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7C33-F210-4659-8946-99D1635D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8DA6-051B-471C-B2A8-348C078B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1B9A-A588-499F-90ED-5D66A673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C033-48C4-4902-8FCF-D4B5DA5C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909C-5629-441F-973D-30B27659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5E2E-0156-417B-9671-30C3E3CD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FA66-1BDA-48B7-8442-93CF2D46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398-B9C4-43C7-ADE2-FFEA24BB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9A57-E580-4AC4-B77C-D49682F8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68A8-4441-4D62-8E95-1E099E0C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9E9E-22CE-4DB7-A732-3B6D1864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490-9B58-4336-8E8E-7F8ED8A0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73E2-ED56-4DB2-8D7C-D51BB02C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8C5-19C1-4B14-9498-A314552F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03A-0582-4EBF-8FAF-B440CDF8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872-CC0A-4040-A96C-62E7FC4F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750-1A13-4C24-9A8A-40E32050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D83-B00E-4FC7-A556-C2D7A02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D5E-EE46-41AC-9142-33D4D0F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29E-876A-4FA6-A0C7-3B2F4AE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A738-20A2-4AEC-BB91-2311C2CE18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DDC2-7CE3-45AD-8692-E20A3442AC8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8458200" cy="43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500720" y="4406760"/>
            <a:ext cx="2620800" cy="245124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7121520" y="5084640"/>
            <a:ext cx="1627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igure 10 | Activated Carbon from the Chinese Herbal Medicine Waste by H3PO4 Activation (hindawi.co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http://upload.wikimedia.org/wikipedia/commons/thumb/0/0b/Langmuir_izoterma.png/800px-Langmuir_izoterma.png"/>
          <p:cNvPicPr/>
          <p:nvPr/>
        </p:nvPicPr>
        <p:blipFill>
          <a:blip r:embed="rId3"/>
          <a:stretch/>
        </p:blipFill>
        <p:spPr>
          <a:xfrm>
            <a:off x="611280" y="46782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1"/>
          <p:cNvSpPr/>
          <p:nvPr/>
        </p:nvSpPr>
        <p:spPr>
          <a:xfrm>
            <a:off x="5085360" y="209700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…Míra množství aktivních cent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…Míra afin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ovéPole 2"/>
          <p:cNvSpPr/>
          <p:nvPr/>
        </p:nvSpPr>
        <p:spPr>
          <a:xfrm>
            <a:off x="1541880" y="6270480"/>
            <a:ext cx="2329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íra kvality sorbent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Přímá spojnice se šipkou 4"/>
          <p:cNvCxnSpPr/>
          <p:nvPr/>
        </p:nvCxnSpPr>
        <p:spPr>
          <a:xfrm flipH="1" flipV="1">
            <a:off x="2267640" y="5558760"/>
            <a:ext cx="72360" cy="711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1" name="TextovéPole 1"/>
          <p:cNvSpPr/>
          <p:nvPr/>
        </p:nvSpPr>
        <p:spPr>
          <a:xfrm>
            <a:off x="1508760" y="333360"/>
            <a:ext cx="6493320" cy="4597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motnost naadsorbova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ého množství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5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23920" y="189000"/>
            <a:ext cx="8534160" cy="31464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3"/>
          <p:cNvSpPr/>
          <p:nvPr/>
        </p:nvSpPr>
        <p:spPr>
          <a:xfrm>
            <a:off x="223920" y="3429000"/>
            <a:ext cx="3409920" cy="67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TextovéPole 1" descr=""/>
          <p:cNvPicPr/>
          <p:nvPr/>
        </p:nvPicPr>
        <p:blipFill>
          <a:blip r:embed="rId2"/>
          <a:stretch/>
        </p:blipFill>
        <p:spPr>
          <a:xfrm>
            <a:off x="901800" y="4175280"/>
            <a:ext cx="5267160" cy="933120"/>
          </a:xfrm>
          <a:prstGeom prst="rect">
            <a:avLst/>
          </a:prstGeom>
          <a:ln w="0">
            <a:noFill/>
          </a:ln>
        </p:spPr>
      </p:pic>
      <p:pic>
        <p:nvPicPr>
          <p:cNvPr id="199" name="TextovéPole 2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479680" cy="8524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3831840" y="5424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TextovéPole 4" descr=""/>
          <p:cNvPicPr/>
          <p:nvPr/>
        </p:nvPicPr>
        <p:blipFill>
          <a:blip r:embed="rId4"/>
          <a:stretch/>
        </p:blipFill>
        <p:spPr>
          <a:xfrm>
            <a:off x="4657680" y="5315040"/>
            <a:ext cx="2876760" cy="647640"/>
          </a:xfrm>
          <a:prstGeom prst="rect">
            <a:avLst/>
          </a:prstGeom>
          <a:ln w="0">
            <a:noFill/>
          </a:ln>
        </p:spPr>
      </p:pic>
      <p:pic>
        <p:nvPicPr>
          <p:cNvPr id="202" name="TextovéPole 7" descr=""/>
          <p:cNvPicPr/>
          <p:nvPr/>
        </p:nvPicPr>
        <p:blipFill>
          <a:blip r:embed="rId5"/>
          <a:stretch/>
        </p:blipFill>
        <p:spPr>
          <a:xfrm>
            <a:off x="4621320" y="5851440"/>
            <a:ext cx="1925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2"/>
          <p:cNvSpPr/>
          <p:nvPr/>
        </p:nvSpPr>
        <p:spPr>
          <a:xfrm>
            <a:off x="1547640" y="3716280"/>
            <a:ext cx="2448000" cy="7923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41280" y="2602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ungují triky na prádlo voňavé i bez aviváže? – Tchibo"/>
          <p:cNvPicPr/>
          <p:nvPr/>
        </p:nvPicPr>
        <p:blipFill>
          <a:blip r:embed="rId2"/>
          <a:stretch/>
        </p:blipFill>
        <p:spPr>
          <a:xfrm>
            <a:off x="2373480" y="4981680"/>
            <a:ext cx="3230280" cy="185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Domácí aviváž: Vyměňte chemické koktejly za bílý ocet a voňavé olejíčky |  BydlímeKvalitně.cz"/>
          <p:cNvPicPr/>
          <p:nvPr/>
        </p:nvPicPr>
        <p:blipFill>
          <a:blip r:embed="rId3"/>
          <a:stretch/>
        </p:blipFill>
        <p:spPr>
          <a:xfrm>
            <a:off x="5749920" y="4764240"/>
            <a:ext cx="3103560" cy="206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Mladí lidé méně kouří a pijí, více sportují | Hospodářské noviny (iHNed.cz)"/>
          <p:cNvPicPr/>
          <p:nvPr/>
        </p:nvPicPr>
        <p:blipFill>
          <a:blip r:embed="rId4"/>
          <a:stretch/>
        </p:blipFill>
        <p:spPr>
          <a:xfrm>
            <a:off x="341280" y="2565360"/>
            <a:ext cx="4062600" cy="2284560"/>
          </a:xfrm>
          <a:prstGeom prst="rect">
            <a:avLst/>
          </a:prstGeom>
          <a:ln w="0">
            <a:noFill/>
          </a:ln>
        </p:spPr>
      </p:pic>
      <p:sp>
        <p:nvSpPr>
          <p:cNvPr id="215" name="TextovéPole 1"/>
          <p:cNvSpPr/>
          <p:nvPr/>
        </p:nvSpPr>
        <p:spPr>
          <a:xfrm>
            <a:off x="351720" y="52293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o-ad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12" descr="Interfacial molecular interactions of cellobiohydrolase Cel7A and its  variants on cellulose | SpringerLink"/>
          <p:cNvPicPr/>
          <p:nvPr/>
        </p:nvPicPr>
        <p:blipFill>
          <a:blip r:embed="rId5"/>
          <a:stretch/>
        </p:blipFill>
        <p:spPr>
          <a:xfrm>
            <a:off x="4572000" y="2565360"/>
            <a:ext cx="41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3960"/>
            <a:ext cx="8408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Activated carbon </a:t>
            </a:r>
            <a:r>
              <a:rPr b="0" lang="en-GB" sz="3600" spc="-1" strike="noStrike">
                <a:solidFill>
                  <a:srgbClr val="4d4d4d"/>
                </a:solidFill>
                <a:latin typeface="Arial Black"/>
              </a:rPr>
              <a:t>&amp; tobaco ste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384200"/>
            <a:ext cx="8028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221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224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8"/>
          <p:cNvSpPr/>
          <p:nvPr/>
        </p:nvSpPr>
        <p:spPr>
          <a:xfrm>
            <a:off x="3635280" y="449568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2"/>
          <p:cNvSpPr/>
          <p:nvPr/>
        </p:nvSpPr>
        <p:spPr>
          <a:xfrm>
            <a:off x="1528920" y="3141720"/>
            <a:ext cx="3835080" cy="5745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  <p:sp>
        <p:nvSpPr>
          <p:cNvPr id="236" name="Obdélník 5"/>
          <p:cNvSpPr/>
          <p:nvPr/>
        </p:nvSpPr>
        <p:spPr>
          <a:xfrm>
            <a:off x="1332000" y="75888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bdélník 6"/>
          <p:cNvSpPr/>
          <p:nvPr/>
        </p:nvSpPr>
        <p:spPr>
          <a:xfrm>
            <a:off x="1547640" y="558972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1"/>
          <p:cNvSpPr/>
          <p:nvPr/>
        </p:nvSpPr>
        <p:spPr>
          <a:xfrm>
            <a:off x="4655880" y="1674720"/>
            <a:ext cx="314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…hmotnost monovrstv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bdélník 3"/>
          <p:cNvSpPr/>
          <p:nvPr/>
        </p:nvSpPr>
        <p:spPr>
          <a:xfrm>
            <a:off x="971640" y="5084640"/>
            <a:ext cx="7200720" cy="93672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  <p:sp>
        <p:nvSpPr>
          <p:cNvPr id="243" name="Obdélník 3"/>
          <p:cNvSpPr/>
          <p:nvPr/>
        </p:nvSpPr>
        <p:spPr>
          <a:xfrm>
            <a:off x="1547640" y="1916280"/>
            <a:ext cx="403236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ovéPole 1"/>
          <p:cNvSpPr/>
          <p:nvPr/>
        </p:nvSpPr>
        <p:spPr>
          <a:xfrm>
            <a:off x="249120" y="32464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Fyz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Waalsovy síl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ízké adsorpční tepl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žné i více vrstev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Jen do teploty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ovéPole 3"/>
          <p:cNvSpPr/>
          <p:nvPr/>
        </p:nvSpPr>
        <p:spPr>
          <a:xfrm>
            <a:off x="4779720" y="32446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cké vazb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elké tepelné efekt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novrstv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 nad teplotou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" y="1112760"/>
            <a:ext cx="8648640" cy="184788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D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B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8200" y="927000"/>
            <a:ext cx="8667720" cy="19717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415080" y="3068640"/>
            <a:ext cx="38656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kyslíku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5165640" y="3068640"/>
            <a:ext cx="34754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SO2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5" descr="http://www.tlakinfo.cz/docu/clanky/0018/001827o2.jpg"/>
          <p:cNvPicPr/>
          <p:nvPr/>
        </p:nvPicPr>
        <p:blipFill>
          <a:blip r:embed="rId2"/>
          <a:stretch/>
        </p:blipFill>
        <p:spPr>
          <a:xfrm>
            <a:off x="49320" y="4038480"/>
            <a:ext cx="455292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1547640" y="4365720"/>
            <a:ext cx="28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tlakinfo.cz/t.py?t=2&amp;i=1827&amp;z=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7" descr="http://slideplayer.cz/2773948/10/images/13/Absorp%C4%8Dn%C3%AD+v%C4%9B%C5%BEe.jpg"/>
          <p:cNvPicPr/>
          <p:nvPr/>
        </p:nvPicPr>
        <p:blipFill>
          <a:blip r:embed="rId3"/>
          <a:stretch/>
        </p:blipFill>
        <p:spPr>
          <a:xfrm>
            <a:off x="4857840" y="4038480"/>
            <a:ext cx="3800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4533840" y="907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ychlé ustavení adsorpční rovnováh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304920" y="4452840"/>
            <a:ext cx="2928960" cy="3988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dsorpční isoterm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1403280" y="4741920"/>
            <a:ext cx="27370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9:18:30Z</dcterms:modified>
  <cp:revision>166</cp:revision>
  <dc:subject/>
  <dc:title>C6730 Fázové rovnováhy</dc:title>
</cp:coreProperties>
</file>