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6.jpeg" ContentType="image/jpeg"/>
  <Override PartName="/ppt/media/image4.jpeg" ContentType="image/jpeg"/>
  <Override PartName="/ppt/media/image10.wmf" ContentType="image/x-wmf"/>
  <Override PartName="/ppt/media/image3.jpeg" ContentType="image/jpeg"/>
  <Override PartName="/ppt/media/image15.png" ContentType="image/png"/>
  <Override PartName="/ppt/media/image1.png" ContentType="image/png"/>
  <Override PartName="/ppt/media/image27.png" ContentType="image/png"/>
  <Override PartName="/ppt/media/image26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FB90-F857-4EBA-9956-69189B0F50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BDD6-508F-49C8-BCE4-75031D36D38B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1A1-044D-4BF4-8AAF-F393510F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300-A061-4F9B-B6D9-9C3F04AF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D1C-EF25-40C3-BE46-F83CB913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BE9-65E4-4021-B7CD-D0565E4C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7EEE-3146-4D0E-A7B5-015B80EC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0040-5511-4A23-885C-308FCE0B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FE2D-7A10-47EB-A37C-65028E13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C852-533C-49A5-8B8E-25272AEA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2D35-A7DE-43AA-9DC4-32A441DD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8A95-B483-4DFE-8DF5-70F08428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26EE-9BA6-401C-B0A4-77EAF00B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D51-6999-4C75-A526-B3431EA5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211B-58A9-40FB-A67B-71079056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AB7A-2A65-4215-8F39-774CAC4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F677-BCA5-4D41-B7E0-A4451126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C58E-4248-4774-9664-7486A2ED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3535-9C9A-4511-8AB1-01267E3E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2A7-D3FE-458B-B62B-63CCEB1D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EAE-B41E-487F-A2F5-912CC2B8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BBF-FE5E-4877-84A8-1DCA4852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6F7-18D6-417A-9FCE-57BFABFC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F2A-4084-4299-BD5A-0EA775BC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A230-A9F4-4931-98DE-E3E2CC00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F67-9DA0-4E80-ADCD-BDB8EC87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E7B6-A0EB-4245-83E7-6D6E5CBBB0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AE69-EB6F-4EF3-AA5C-181C6EA7F96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D:\Vyuka\C6320_Kinetika\Texty k p&#345;edn&#225;&#353;ce C6320\L09_Enzymy a adsorpce\Nukleove_kyseliny.pp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of. J. Sopou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755640" y="3860640"/>
            <a:ext cx="746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250920" y="2602080"/>
            <a:ext cx="3916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1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2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ovéPole 1"/>
          <p:cNvSpPr/>
          <p:nvPr/>
        </p:nvSpPr>
        <p:spPr>
          <a:xfrm>
            <a:off x="4686480" y="4005360"/>
            <a:ext cx="3557520" cy="155700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pevnost „zámku“ je příčinou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tikompetitivní katalýzy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164520"/>
            <a:ext cx="34545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e-stady-stat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2" descr="http://3.bp.blogspot.com/-VjAGqHqBK7g/TzSuMtCy7kI/AAAAAAAAAT4/f-SwQTWJBf0/s1600/Untitled8.jpg"/>
          <p:cNvPicPr/>
          <p:nvPr/>
        </p:nvPicPr>
        <p:blipFill>
          <a:blip r:embed="rId1"/>
          <a:stretch/>
        </p:blipFill>
        <p:spPr>
          <a:xfrm>
            <a:off x="4788000" y="115920"/>
            <a:ext cx="3333600" cy="687708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3"/>
          <p:cNvCxnSpPr/>
          <p:nvPr/>
        </p:nvCxnSpPr>
        <p:spPr>
          <a:xfrm>
            <a:off x="5580000" y="1557000"/>
            <a:ext cx="19454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9" name="Přímá spojnice se šipkou 5"/>
          <p:cNvCxnSpPr/>
          <p:nvPr/>
        </p:nvCxnSpPr>
        <p:spPr>
          <a:xfrm>
            <a:off x="5076720" y="1341000"/>
            <a:ext cx="5040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Přímá spojnice se šipkou 7"/>
          <p:cNvCxnSpPr/>
          <p:nvPr/>
        </p:nvCxnSpPr>
        <p:spPr>
          <a:xfrm>
            <a:off x="7524720" y="549000"/>
            <a:ext cx="5976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sp>
        <p:nvSpPr>
          <p:cNvPr id="171" name="TextovéPole 8"/>
          <p:cNvSpPr/>
          <p:nvPr/>
        </p:nvSpPr>
        <p:spPr>
          <a:xfrm>
            <a:off x="5211000" y="879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9"/>
          <p:cNvSpPr/>
          <p:nvPr/>
        </p:nvSpPr>
        <p:spPr>
          <a:xfrm>
            <a:off x="5950080" y="10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ovéPole 10"/>
          <p:cNvSpPr/>
          <p:nvPr/>
        </p:nvSpPr>
        <p:spPr>
          <a:xfrm>
            <a:off x="7631640" y="3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ovéPole 11"/>
          <p:cNvSpPr/>
          <p:nvPr/>
        </p:nvSpPr>
        <p:spPr>
          <a:xfrm>
            <a:off x="717480" y="1844640"/>
            <a:ext cx="3024360" cy="119124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…pre-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…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….Equilibrium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5" name="Picture 12" descr="Výsledek obrázku pro steady state enzyme kinetics"/>
          <p:cNvPicPr/>
          <p:nvPr/>
        </p:nvPicPr>
        <p:blipFill>
          <a:blip r:embed="rId2"/>
          <a:stretch/>
        </p:blipFill>
        <p:spPr>
          <a:xfrm>
            <a:off x="324000" y="3141720"/>
            <a:ext cx="3543120" cy="3362400"/>
          </a:xfrm>
          <a:prstGeom prst="rect">
            <a:avLst/>
          </a:prstGeom>
          <a:ln w="0">
            <a:noFill/>
          </a:ln>
        </p:spPr>
      </p:pic>
      <p:sp>
        <p:nvSpPr>
          <p:cNvPr id="176" name="Obdélník 1"/>
          <p:cNvSpPr/>
          <p:nvPr/>
        </p:nvSpPr>
        <p:spPr>
          <a:xfrm>
            <a:off x="81000" y="6402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cbc.chem.arizona.edu/classes/bioc462/462a/NOTES/ENZYMES/enzyme_kinetics2.htm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6600" y="26028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10T11:42:08Z</dcterms:modified>
  <cp:revision>153</cp:revision>
  <dc:subject/>
  <dc:title>C6730 Fázové rovnováhy</dc:title>
</cp:coreProperties>
</file>