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21.png" ContentType="image/png"/>
  <Override PartName="/ppt/media/image3.wmf" ContentType="image/x-wmf"/>
  <Override PartName="/ppt/media/image4.png" ContentType="image/png"/>
  <Override PartName="/ppt/media/image18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6.wmf" ContentType="image/x-wmf"/>
  <Override PartName="/ppt/media/image19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A53-CC9A-446E-9D8A-38D0FC6E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A15-E36F-4A25-AAFD-1185A5FB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BC7-77CE-488E-8634-66E15297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2F4-FF73-467D-8FEC-8FC732E2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079-8243-4AE7-9E1A-A21F1451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2DE-DC29-4AAA-B5A7-0D95E875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D8D-40CF-430D-8BC1-9AE11188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FC1-9C75-42B4-8B82-F26BC210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1E9-C6D6-40D0-91BE-B7B6BD11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39E-A3D3-4920-9D12-727E373F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82A-D338-4678-8C4A-29888A55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C91-3214-4BD8-8539-1AFB94DC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34CF-B8DA-4E20-947C-6DDE4BA422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a4pre1MXZAhXMD8AKHRW6DB4QjRx6BAgAEAY&amp;url=https%3A%2F%2Fchem.libretexts.org%2FLibreTexts%2FUniversity_of_Missouri%2FMU%253A__1330H_(Keller)%2F14%253A_Chemical_Kinetics%2F14.2%253A_Reaction_Rates&amp;psig=AOvVaw0ytH4LthZmVRIjFKWOAiBa&amp;ust=151980599776627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6" descr="Výsledek obrázku pro conversion of reaction chemical kinet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7632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9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ovéPole 2" descr=""/>
          <p:cNvPicPr/>
          <p:nvPr/>
        </p:nvPicPr>
        <p:blipFill>
          <a:blip r:embed="rId1"/>
          <a:stretch/>
        </p:blipFill>
        <p:spPr>
          <a:xfrm>
            <a:off x="219240" y="1914480"/>
            <a:ext cx="885816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2"/>
          <p:cNvSpPr/>
          <p:nvPr/>
        </p:nvSpPr>
        <p:spPr>
          <a:xfrm>
            <a:off x="1380960" y="765000"/>
            <a:ext cx="50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Obecná rychlostní rovn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3"/>
          <p:cNvSpPr/>
          <p:nvPr/>
        </p:nvSpPr>
        <p:spPr>
          <a:xfrm>
            <a:off x="779400" y="2781360"/>
            <a:ext cx="68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…..č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..objem reaktoru ve kterém probíhá obecná reak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extovéPole 4" descr=""/>
          <p:cNvPicPr/>
          <p:nvPr/>
        </p:nvPicPr>
        <p:blipFill>
          <a:blip r:embed="rId2"/>
          <a:stretch/>
        </p:blipFill>
        <p:spPr>
          <a:xfrm>
            <a:off x="785880" y="370044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TextovéPole 5" descr=""/>
          <p:cNvPicPr/>
          <p:nvPr/>
        </p:nvPicPr>
        <p:blipFill>
          <a:blip r:embed="rId3"/>
          <a:stretch/>
        </p:blipFill>
        <p:spPr>
          <a:xfrm>
            <a:off x="208080" y="4206960"/>
            <a:ext cx="81975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TextovéPole 6" descr=""/>
          <p:cNvPicPr/>
          <p:nvPr/>
        </p:nvPicPr>
        <p:blipFill>
          <a:blip r:embed="rId4"/>
          <a:stretch/>
        </p:blipFill>
        <p:spPr>
          <a:xfrm>
            <a:off x="182520" y="4743360"/>
            <a:ext cx="8925120" cy="53496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7"/>
          <p:cNvSpPr/>
          <p:nvPr/>
        </p:nvSpPr>
        <p:spPr>
          <a:xfrm>
            <a:off x="481320" y="5357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řád reakce vzhledem k A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5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0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římá spojnice 2"/>
          <p:cNvSpPr/>
          <p:nvPr/>
        </p:nvSpPr>
        <p:spPr>
          <a:xfrm>
            <a:off x="6875640" y="1916280"/>
            <a:ext cx="194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římá spojnice 5"/>
          <p:cNvSpPr/>
          <p:nvPr/>
        </p:nvSpPr>
        <p:spPr>
          <a:xfrm>
            <a:off x="108000" y="2160720"/>
            <a:ext cx="122400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8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římá spojnice 3"/>
          <p:cNvSpPr/>
          <p:nvPr/>
        </p:nvSpPr>
        <p:spPr>
          <a:xfrm>
            <a:off x="611280" y="2565360"/>
            <a:ext cx="5689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římá spojnice 5"/>
          <p:cNvSpPr/>
          <p:nvPr/>
        </p:nvSpPr>
        <p:spPr>
          <a:xfrm>
            <a:off x="611280" y="3141720"/>
            <a:ext cx="597672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Přímá spojnice se šipkou 7"/>
          <p:cNvCxnSpPr/>
          <p:nvPr/>
        </p:nvCxnSpPr>
        <p:spPr>
          <a:xfrm flipH="1">
            <a:off x="7019640" y="2565000"/>
            <a:ext cx="1800720" cy="18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62" name="Přímá spojnice se šipkou 9"/>
          <p:cNvCxnSpPr/>
          <p:nvPr/>
        </p:nvCxnSpPr>
        <p:spPr>
          <a:xfrm>
            <a:off x="1547280" y="3465000"/>
            <a:ext cx="1585080" cy="9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  <p:sp>
        <p:nvSpPr>
          <p:cNvPr id="65" name="Přímá spojnice 2"/>
          <p:cNvSpPr/>
          <p:nvPr/>
        </p:nvSpPr>
        <p:spPr>
          <a:xfrm flipV="1">
            <a:off x="3708360" y="5660640"/>
            <a:ext cx="2808360" cy="7164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2"/>
          <p:cNvSpPr/>
          <p:nvPr/>
        </p:nvSpPr>
        <p:spPr>
          <a:xfrm>
            <a:off x="684360" y="45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aily dá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ovéPole 3"/>
          <p:cNvSpPr/>
          <p:nvPr/>
        </p:nvSpPr>
        <p:spPr>
          <a:xfrm>
            <a:off x="324000" y="314172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o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der:  Pb, O, Mn,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73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8-03-13T11:51:12Z</dcterms:modified>
  <cp:revision>104</cp:revision>
  <dc:subject/>
  <dc:title>Soustava</dc:title>
</cp:coreProperties>
</file>