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CF3B-D668-4603-8631-80C636AF07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2B99-5D9B-481F-A341-2A87B4B96D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00D4-C1AA-4AE4-B379-4B4FBF7A6BF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97C-D31F-4CF7-9E1E-7C919C4EE31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BB21-B821-4057-9E16-74A4B4138D7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4EBE-9364-4873-AA49-53CF754F9A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EC2-64F3-4D9F-904D-C94E81247A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D50-4F4D-4B55-BE5E-CF44BE23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D53-1F8D-46F5-A631-58E8EA7C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2171E-35FD-4ABC-98EC-05650717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F4B0E-BBCC-487A-8326-8B7ED233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10F92-11AD-4F39-A53B-DA3775E3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6693B-F7DE-41F5-A3E5-0B36776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DF529-5FB4-4934-9978-0B4CAE17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074C5-F3EE-463E-ADAB-A634708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71BE0-F993-4C4F-9921-4FCFD72A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4AB40-08B6-4C0F-83F4-28517D6A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3FB12-7C7A-46FB-BE52-5F79827D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AA7D2-75A2-439B-9CC7-14B123D9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DB48-C652-47B8-BD3D-0A725992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3ACC9-787D-47DA-9306-89A078CE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CF823-A5FF-443D-ADCD-EF433D0B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035AF-C49D-445F-B83A-B8E3CA6A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96CC9-9F57-40B7-9932-668D29FD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2020C-37C1-4968-8F69-6CC28C24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471E5-96F8-4706-97A8-1DDDA27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25ACB-300C-4D7F-B290-042EEB2C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11524-AC35-4256-83A4-3BADCE30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79FB3-EBEF-457E-8BCB-6D67CA7E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793EB-7041-4E38-B498-A972B7E0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398-DBE8-443B-ABE7-DAEC2613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DC873-2007-4F74-8D33-D9843218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2993-685E-4E47-A560-442B3AD0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244D7-7861-46DC-B40E-FC7550F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97EB9-A3EE-450E-9635-31645220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F7CB3-0ADE-48FD-BB79-684E1E5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A128F-236F-48CA-8FB0-75C0E764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76E82-1671-46E2-9922-C6A90183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8EF78-4239-4BDC-A1E3-C3934920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EE675-5AEA-4B00-B78D-C9D44B1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097F1-98D8-4709-83D0-C2D4F65C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AE9D-351A-4B06-886F-0E77727C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62C0D-E44A-4322-A182-E3C29C03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7F808-27AA-470B-843B-A7F46CAE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93E2A-1EA5-4C7A-A6D0-A75D2863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C952A-6E66-48E9-92E7-D6E77DAF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A05CB-EB9B-4851-A9DA-BE36407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E0E78-581F-43E4-B4D8-2AB3F01E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CB728-3AFA-4088-B9B3-12E25376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A4763-23BC-4C4F-98E9-86C5193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9E8E5-AED4-44DC-87AC-F05BBCEA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AB6B2-F389-49F2-AEDC-12DD20C6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0017-0CD4-4102-A177-EFB70B45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A5298-38CE-49C4-B28E-6E451F8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1D077-E0F2-4CBC-AEAA-C8CAAC47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E22CAE-2383-4D84-A4EB-1BFD5601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69FC1-9013-4319-AD4F-CC5B3CF0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334E8-320A-4CE5-B4B5-CC86CB66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E175-8FD1-449F-AB85-7CE265AA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B49A-F14B-4366-B8A9-BDE0E925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02CF-DE6B-4890-84AF-C98A6DA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204B-189E-45D3-AFDE-97BEBE64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F3E-D087-4823-B7A5-1CBC62D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D53-C59A-46B9-9877-ADD0953C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4D59-F7C8-48C8-9DC2-13593435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A2E-E7CD-489A-8DAD-8F77B294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8252-2F7B-45A3-AFA2-D87D375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7219-98B1-44EA-A797-E1C640E3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1982-7B84-4369-9B74-570DCE2D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331C1-8C75-4C97-BEBC-016E0080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67CDB-C2F2-425E-A271-28EC08BA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C1E8-BEE2-4A77-A2BF-2B1170B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C848D-1340-4538-825D-8DCDDDB4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D877-90D5-49B8-8B1D-6F963839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D577-CEBC-40FC-9448-D3824D4A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BD6A-5CB8-4E5B-8AFE-1C4F2509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2302-A820-4711-ADC9-943EB26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1C01D-F07C-449A-B77F-66D01EB9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42AF-FD89-4F03-92F4-C3121563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7BD4-477D-4BAA-85B4-93F4880D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7E33C-46C7-4344-A740-6E76237D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DADD1-F62E-4E5D-9C40-D48DCCA8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B65C5-D189-4391-BC66-BD388EBB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392F-F794-4963-B42E-04E6336B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E911B-0C68-4071-AFEC-05598F63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68F-F5A6-401B-BFE2-B77439F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3E98F-4818-455C-A4BC-F148559C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6EB75-783C-425F-B629-96EDE8EC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395C-C1AB-46B1-85F9-ACE3028D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BD045-F25B-473B-B9C7-65ED582D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33A48-A6CE-419C-82CE-44EF9C63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2EFB-9246-496D-A04F-B9D67454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0AF8-E546-4B96-AF61-7160CE45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F896F-E7F6-449C-89D6-C6A843FA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5D04A-DA80-4128-ADA5-8CA91C2E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18F5A-B3EA-4696-9E0F-05C74120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5D19-7798-4010-BB65-76CB5B3C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573A6-6986-4265-96F9-646FDD79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E4C08-C063-44C5-8E86-3B443C1D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7416-EE99-4364-B877-03DDCD33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C88D8-D8CA-41AD-A668-A41E79D7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221D1-6E32-41D5-9C22-6F11C9F5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0CE2-9477-4C7E-993B-32846AED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830E7-F6E1-417B-98C7-E0C78BA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E1002-3DD8-444B-9A25-8E3E4F7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E8F9-9781-4540-BA98-A75C7526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93DA-9D8F-4BE8-AAF4-CA0A57CE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EE65-E824-4E62-97B3-093E0665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55E4D-DB59-454D-840C-79010305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EEC3E-378D-4971-B098-FE38F2D4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D656-D0CC-4074-AA33-3B64CA7A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D0361-E66A-43BF-8408-39713B46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73A3D-24AE-406B-9901-5BCFAEBF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C5C77-3DD7-4E36-8DAB-4C1F6DB8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A2450-9D1C-482F-82B3-02B03A1D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E61FE-6F39-4B2C-BF0D-2A501FAE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EE863-A1CD-4F1A-8A77-BE6D8147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6607E-D55C-47B3-9E33-08F4A2D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427-4AED-4FC3-A55C-0F3AA1E7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0A94-6760-43BD-8425-655ABD6C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7F764-8DA8-4339-BFD5-9BC20DB7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D9500-81E9-494E-B0DD-49107058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13B74-542B-4D6F-8206-F0F4E3A6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7CF64-1F97-4AFE-8EF3-77796CD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E417E-D1F0-465C-B69F-EA196C9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3537-5966-4ECB-A9B9-6554781F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8543B-C9A8-444D-B9EC-BA5074B3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F23C0-13CA-4EF2-B0B3-65AC361B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F3BB-B759-4E32-AE6A-20B770F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922-2D24-4C89-AB4F-3EE2E295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919FE-45E4-48DE-A475-28EB429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66A7F-2F6E-4377-949A-7ED4832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43B4D-2E1D-4C6C-86F2-2E1E3F2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BDD15-3AFD-4430-B0CA-CF545AC7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EDE7-B7A7-461C-92ED-D715CF78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F88A5-4166-4CFC-962E-BF03D78F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41CC3-BB61-42D3-BD1E-F60C1AF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E2EC5-4215-48E1-9E0A-289666E4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665A7-3DC7-4370-A0A3-D6B9FA7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723D-64CF-4056-9D95-EB91D37D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608-285E-4D6D-A5CA-96C9B77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BE54A-A0F4-41E8-84B5-56708C6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C1173-D591-403A-81E7-CBFCB817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AA838-A15A-4354-B7A6-49309BA3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F9667-3DD7-4E79-8863-35894F2A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A3404-BF90-4083-B4EF-F4C299EC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172BF-4C05-477E-9174-00D54E05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E0FAF-3711-42DB-BB91-09156ACC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2A1BD-53DD-4B59-B7AA-E403A878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8DDA3-8BE3-4EB2-A50F-8491EB5C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BA194-18E3-404B-B761-A42ACAB7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EEDC-9B2E-4C02-BFF4-6071A100EE24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bdélní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B5A4-CD22-41DA-BA12-A9FA673CCD65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8AA-BB6A-4D4D-B5AD-5EB6150A07EE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římá spojnice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B285-5D0A-48C1-87C9-981A76517DA7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bdélní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7BCE-34A7-430C-B4A2-42347F6CDAEA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20D5-7407-4901-81CE-B280F25B6081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Obdélní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bdélní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9C6D-0CF0-48E2-86E6-A1BA4C8A811E}" type="slidenum">
              <a:rPr b="0" lang="cs-CZ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FCB4-E853-4FF9-9D92-1F6DF631A190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3DC-87A1-43F8-8C04-3640DE897446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římá spojnice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římá spojnice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ovnoramenný trojúhelní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ovnoramenný trojúhelní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245-A810-4ED7-BD19-67D910375938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ovnoramenný trojúhelní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9920-42A3-4166-B7D7-F69D4EC1F4DE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římá spojnice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římá spojnice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ovnoramenný trojúhelní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C583-B9D4-4E47-91C8-4CC50A3CBC08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en.wikipedia.org/wiki/Antoine_Lavoisier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1qM6izaPSAhVNahoKHVhpDbAQjRwIBw&amp;url=http%3A%2F%2Fwikivisually.com%2Fwiki%2FHexose&amp;bvm=bv.147448319,d.d2s&amp;psig=AFQjCNEdaQpZ9F97k3qcKA5wosjDqJ49WQ&amp;ust=148784942924421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0ahUKEwj9odnWzKPSAhVF0xoKHXA3AbEQjRwIBw&amp;url=https%3A%2F%2Fen.wikipedia.org%2Fwiki%2FPeter_Waage&amp;bvm=bv.147448319,d.d2s&amp;psig=AFQjCNEGPxFNIe4Zd1l8kLiG6lRwf5HkyQ&amp;ust=1487849236273669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oht.info/page/Wilhelm+Ostwald" TargetMode="External"/><Relationship Id="rId2" Type="http://schemas.openxmlformats.org/officeDocument/2006/relationships/hyperlink" Target="http://www.google.cz/url?sa=i&amp;rct=j&amp;q=&amp;esrc=s&amp;source=images&amp;cd=&amp;ved=0ahUKEwjb0drgzqPSAhVEMBoKHdRzDrAQjRwIBw&amp;url=http%3A%2F%2Fwww.eoht.info%2Fpage%2FWilhelm%2BOstwald&amp;bvm=bv.147448319,d.d2s&amp;psig=AFQjCNGh_GeaMuliuSJeg_MhcflyvwkwlQ&amp;ust=1487849835812449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g446flY7LAhWFWBQKHVziAboQjRwIBw&amp;url=http%3A%2F%2Fcrystalsandcatalysts.blogspot.com%2F2015%2F03%2Fscientist-of-week-3-maud-leonora-menten.html&amp;psig=AFQjCNExtplb-7QqOymhjPc8aIespZT7zw&amp;ust=1456326409050737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hyperlink" Target="http://www.google.cz/url?sa=i&amp;rct=j&amp;q=&amp;esrc=s&amp;source=images&amp;cd=&amp;cad=rja&amp;uact=8&amp;ved=0ahUKEwj31O7T0KPSAhWHiRoKHUGpC7AQjRwIBw&amp;url=http%3A%2F%2Fwww.lindahall.org%2Fjosiah-willard-gibbs%2F&amp;bvm=bv.147448319,d.d2s&amp;psig=AFQjCNHBgJCFxtkVnuu_JelIa21f15p2Aw&amp;ust=1487850349160860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Bookman Old Style"/>
              </a:rPr>
              <a:t>C6320 Chemická kinetika: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Bookman Old Style"/>
              </a:rPr>
              <a:t>Historie chemické kinetik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4" descr="https://upload.wikimedia.org/wikipedia/commons/6/6c/Antoine_lavoisier_color.jpg"/>
          <p:cNvPicPr/>
          <p:nvPr/>
        </p:nvPicPr>
        <p:blipFill>
          <a:blip r:embed="rId1"/>
          <a:stretch/>
        </p:blipFill>
        <p:spPr>
          <a:xfrm>
            <a:off x="900000" y="2637000"/>
            <a:ext cx="2352960" cy="3466800"/>
          </a:xfrm>
          <a:prstGeom prst="rect">
            <a:avLst/>
          </a:prstGeom>
          <a:ln w="0">
            <a:noFill/>
          </a:ln>
        </p:spPr>
      </p:pic>
      <p:sp>
        <p:nvSpPr>
          <p:cNvPr id="537" name="TextovéPole 1"/>
          <p:cNvSpPr/>
          <p:nvPr/>
        </p:nvSpPr>
        <p:spPr>
          <a:xfrm>
            <a:off x="3419640" y="450864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292ca"/>
                </a:solidFill>
                <a:uFillTx/>
                <a:latin typeface="Times New Roman"/>
                <a:hlinkClick r:id="rId2"/>
              </a:rPr>
              <a:t>Antoine Lavoisi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developed the theory of combustion as a chemical reaction with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bdélník 2"/>
          <p:cNvSpPr/>
          <p:nvPr/>
        </p:nvSpPr>
        <p:spPr>
          <a:xfrm>
            <a:off x="684360" y="6237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s://en.wikipedia.org/wiki/Chemical_re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Arial Black"/>
              </a:rPr>
              <a:t>Literatur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611280" y="1844640"/>
            <a:ext cx="76197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znamné ženy a muži vě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s://www.biographyonline.net/scientists/famous-chemists.ht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bdélník 3"/>
          <p:cNvSpPr/>
          <p:nvPr/>
        </p:nvSpPr>
        <p:spPr>
          <a:xfrm>
            <a:off x="755640" y="38606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istorie chem. Průmyslu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s://www.slideshare.net/kchtul/hic-1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464653"/>
                </a:solidFill>
                <a:latin typeface="Bookman Old Style"/>
              </a:rPr>
              <a:t>Historie chemické kinetiky</a:t>
            </a:r>
            <a:br>
              <a:rPr sz="2900"/>
            </a:br>
            <a:r>
              <a:rPr b="0" lang="cs-CZ" sz="14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400"/>
            </a:br>
            <a:endParaRPr b="0" lang="en-US" sz="1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755640" y="1700280"/>
            <a:ext cx="785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studoval rychlost inverze sacharózy (tj. hydrolýzy na D - (+) - glukózu a D - (-) - fruktózu v přítomnosti kyseliny) a zjistil, že je úměrná koncentraci jak cukru tak i kyseliny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iz experimentální úloha v praktiku fyzikální chemi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1" name="Picture 5" descr="Výsledek obrázku pro Wilhelmy sacchar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4290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Zástupný symbol pro číslo snímku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3AB2-D54E-4EDB-A318-70D5D6FB8A07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2" descr="Výsledek obrázku pro Guldberg Wa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765000"/>
            <a:ext cx="3240000" cy="5262840"/>
          </a:xfrm>
          <a:prstGeom prst="rect">
            <a:avLst/>
          </a:prstGeom>
          <a:ln w="0">
            <a:noFill/>
          </a:ln>
        </p:spPr>
      </p:pic>
      <p:sp>
        <p:nvSpPr>
          <p:cNvPr id="544" name="Obdélník 4"/>
          <p:cNvSpPr/>
          <p:nvPr/>
        </p:nvSpPr>
        <p:spPr>
          <a:xfrm>
            <a:off x="684360" y="476280"/>
            <a:ext cx="446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64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rmuloval "zákon působení hmoty", podle kterého reakční "síly" jsou přímo úměrné součinu koncentrace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=[R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[S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/([A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[B]</a:t>
            </a:r>
            <a:r>
              <a:rPr b="1" lang="cs-CZ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a, b, r and s jsou stechiometrické koeficienty pro chemickou reakci A+B=R+S. A to tak, že rychlost dopředné reakce je  úměrná součinu [A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B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rychlost zpětné reakce je úměrná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[S]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bdélník 5"/>
          <p:cNvSpPr/>
          <p:nvPr/>
        </p:nvSpPr>
        <p:spPr>
          <a:xfrm>
            <a:off x="4067280" y="629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https://en.wikipedia.org/wiki/Peter_Wa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755640" y="475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analyzovali reakci mezi H2O2 a HI a mezi KMnO4 a (COOH)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.  Napsali odpovídající diferenciální rovnice, integrovali je a určili koncentrace v závislosti na čase. Také navrhli rovnici pro teplotní závislosti rychlosti reakce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k = A .T. 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7" name="Picture 4" descr="http://1.bp.blogspot.com/-CC2ly_ZmL6M/VwLCidRLO7I/AAAAAAAAAQA/8Z_QWI6-EeIobhAaPruGynVp4FLPzduXQ/s1600/Jacobus_van_%2527t_Hoff_by_Perscheid_1904.jpg"/>
          <p:cNvPicPr/>
          <p:nvPr/>
        </p:nvPicPr>
        <p:blipFill>
          <a:blip r:embed="rId1"/>
          <a:stretch/>
        </p:blipFill>
        <p:spPr>
          <a:xfrm>
            <a:off x="6338880" y="2565360"/>
            <a:ext cx="1982880" cy="2308320"/>
          </a:xfrm>
          <a:prstGeom prst="rect">
            <a:avLst/>
          </a:prstGeom>
          <a:ln w="0">
            <a:noFill/>
          </a:ln>
        </p:spPr>
      </p:pic>
      <p:sp>
        <p:nvSpPr>
          <p:cNvPr id="548" name="Obdélník 1"/>
          <p:cNvSpPr/>
          <p:nvPr/>
        </p:nvSpPr>
        <p:spPr>
          <a:xfrm>
            <a:off x="611280" y="256536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84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ublikoval své "Studie o chemické dynamice" (Études de dynamique CHIMIQUE), ve kterých zobecnil a dále rozvíjel práci Wilhelmyho (o sacharoze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bdélník 2"/>
          <p:cNvSpPr/>
          <p:nvPr/>
        </p:nvSpPr>
        <p:spPr>
          <a:xfrm>
            <a:off x="417600" y="508464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006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1885 Harcourt and Ess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Uvedl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ferenciální metodu analýzy a rovněž analyzovali teplotní závislost rovnovážné konstanty (pojmenovali ji "van't Hoff rovnice"). Sledovali reakcí dopřednou i zpětno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5440" y="456840"/>
            <a:ext cx="4822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Gill Sans MT"/>
              </a:rPr>
              <a:t>zavádí pojmy "řád reakce" a „poločas reakce" ve své knize: "Lehrbuch der allgemeinen Chemie.„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Obdélník 1"/>
          <p:cNvSpPr/>
          <p:nvPr/>
        </p:nvSpPr>
        <p:spPr>
          <a:xfrm>
            <a:off x="971640" y="201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b292ca"/>
                </a:solidFill>
                <a:uFillTx/>
                <a:latin typeface="Times New Roman"/>
                <a:hlinkClick r:id="rId1"/>
              </a:rPr>
              <a:t>http://www.eoht.info/page/Wilhelm+Ostwald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(Ostwald happiness formula, Radical athe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4" descr="Výsledek obrázku pro Ostwa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24360" y="457200"/>
            <a:ext cx="2886120" cy="2200320"/>
          </a:xfrm>
          <a:prstGeom prst="rect">
            <a:avLst/>
          </a:prstGeom>
          <a:ln w="0">
            <a:noFill/>
          </a:ln>
        </p:spPr>
      </p:pic>
      <p:sp>
        <p:nvSpPr>
          <p:cNvPr id="553" name="Obdélník 2"/>
          <p:cNvSpPr/>
          <p:nvPr/>
        </p:nvSpPr>
        <p:spPr>
          <a:xfrm>
            <a:off x="539640" y="3213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889: </a:t>
            </a:r>
            <a:r>
              <a:rPr b="0" lang="cs-CZ" sz="24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ále analyzoval teplotní závislost reakční rychlosti a zjistil, že lépe odpovídá vzta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 = A exp (-B / 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zajedl pojem "energetická bariéra" .  Dnes nese tato rovnice jeho jmé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6" descr="https://i.ytimg.com/vi/3fXIYGSyyQM/hqdefault.jpg"/>
          <p:cNvPicPr/>
          <p:nvPr/>
        </p:nvPicPr>
        <p:blipFill>
          <a:blip r:embed="rId4"/>
          <a:stretch/>
        </p:blipFill>
        <p:spPr>
          <a:xfrm>
            <a:off x="5111640" y="3213000"/>
            <a:ext cx="3835440" cy="28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685800" y="457200"/>
            <a:ext cx="7772400" cy="18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12 Mentenová (Maude Lenora Menten, 1879-1960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ill Sans MT"/>
              </a:rPr>
              <a:t>Se zabývala enzymovou kinetikou a popsala rychlost enzymové reakc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TextovéPole 1"/>
          <p:cNvSpPr/>
          <p:nvPr/>
        </p:nvSpPr>
        <p:spPr>
          <a:xfrm>
            <a:off x="684360" y="2349360"/>
            <a:ext cx="39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ala v oddělení prof. Michae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la se profesorkou v 79-ti letech (195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http://1.bp.blogspot.com/-7DSc73P4M_Q/VQs6mrwwwdI/AAAAAAAABHY/dUGD7b9EDGU/s1600/mente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46880" y="1413000"/>
            <a:ext cx="2735280" cy="426852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https://acsundergrad.files.wordpress.com/2012/07/menten-and-michaelis.jpg"/>
          <p:cNvPicPr/>
          <p:nvPr/>
        </p:nvPicPr>
        <p:blipFill>
          <a:blip r:embed="rId3"/>
          <a:stretch/>
        </p:blipFill>
        <p:spPr>
          <a:xfrm>
            <a:off x="4937040" y="2060640"/>
            <a:ext cx="4008600" cy="2114640"/>
          </a:xfrm>
          <a:prstGeom prst="rect">
            <a:avLst/>
          </a:prstGeom>
          <a:ln w="0">
            <a:noFill/>
          </a:ln>
        </p:spPr>
      </p:pic>
      <p:sp>
        <p:nvSpPr>
          <p:cNvPr id="559" name="Obdélník 3"/>
          <p:cNvSpPr/>
          <p:nvPr/>
        </p:nvSpPr>
        <p:spPr>
          <a:xfrm>
            <a:off x="655560" y="549108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chemheritage.org/discover/online-resources/chemistry-in-history/themes/biomolecules/proteins-and-sugars/michaelis-and-menten.asp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Helmholz a Gibb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61" name="Zástupný symbol pro obsah 4" descr=""/>
          <p:cNvPicPr/>
          <p:nvPr/>
        </p:nvPicPr>
        <p:blipFill>
          <a:blip r:embed="rId1"/>
          <a:stretch/>
        </p:blipFill>
        <p:spPr>
          <a:xfrm>
            <a:off x="2001960" y="2467080"/>
            <a:ext cx="4819680" cy="3152520"/>
          </a:xfrm>
          <a:prstGeom prst="rect">
            <a:avLst/>
          </a:prstGeom>
          <a:ln w="0">
            <a:noFill/>
          </a:ln>
        </p:spPr>
      </p:pic>
      <p:sp>
        <p:nvSpPr>
          <p:cNvPr id="562" name="Zástupný symbol pro číslo snímku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B94E-C0B0-40ED-8A84-84F1B0C3B199}" type="slidenum">
              <a:rPr b="0" lang="cs-CZ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2"/>
          <p:cNvSpPr/>
          <p:nvPr/>
        </p:nvSpPr>
        <p:spPr>
          <a:xfrm>
            <a:off x="900000" y="500868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TextovéPole 6" descr=""/>
          <p:cNvPicPr/>
          <p:nvPr/>
        </p:nvPicPr>
        <p:blipFill>
          <a:blip r:embed="rId2"/>
          <a:stretch/>
        </p:blipFill>
        <p:spPr>
          <a:xfrm>
            <a:off x="2133720" y="5619600"/>
            <a:ext cx="1755720" cy="397080"/>
          </a:xfrm>
          <a:prstGeom prst="rect">
            <a:avLst/>
          </a:prstGeom>
          <a:ln w="0">
            <a:noFill/>
          </a:ln>
        </p:spPr>
      </p:pic>
      <p:pic>
        <p:nvPicPr>
          <p:cNvPr id="565" name="TextovéPole 7" descr=""/>
          <p:cNvPicPr/>
          <p:nvPr/>
        </p:nvPicPr>
        <p:blipFill>
          <a:blip r:embed="rId3"/>
          <a:stretch/>
        </p:blipFill>
        <p:spPr>
          <a:xfrm>
            <a:off x="4657680" y="5619600"/>
            <a:ext cx="1736640" cy="738360"/>
          </a:xfrm>
          <a:prstGeom prst="rect">
            <a:avLst/>
          </a:prstGeom>
          <a:ln w="0">
            <a:noFill/>
          </a:ln>
        </p:spPr>
      </p:pic>
      <p:sp>
        <p:nvSpPr>
          <p:cNvPr id="566" name="TextovéPole 8"/>
          <p:cNvSpPr/>
          <p:nvPr/>
        </p:nvSpPr>
        <p:spPr>
          <a:xfrm>
            <a:off x="2392560" y="59990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T,V…kon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ovéPole 9"/>
          <p:cNvSpPr/>
          <p:nvPr/>
        </p:nvSpPr>
        <p:spPr>
          <a:xfrm>
            <a:off x="4922280" y="598788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T,p…kon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bdélník 10"/>
          <p:cNvSpPr/>
          <p:nvPr/>
        </p:nvSpPr>
        <p:spPr>
          <a:xfrm>
            <a:off x="900000" y="1392120"/>
            <a:ext cx="3511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inux Libertine"/>
              </a:rPr>
              <a:t>Hermann von Helmhol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ugust 31, 1821 – September 8, 1894) was a German physician and physic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bdélník 11"/>
          <p:cNvSpPr/>
          <p:nvPr/>
        </p:nvSpPr>
        <p:spPr>
          <a:xfrm>
            <a:off x="4527720" y="1392120"/>
            <a:ext cx="3357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Linux Libertine"/>
              </a:rPr>
              <a:t>Josiah Willard Gib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inux Libertine"/>
              </a:rPr>
              <a:t>(February 11, 1839 – April 28, 1903) was an American scient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5564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Cca 1890 J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ossiah</a:t>
            </a: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 Willard Gibbs (US): Shrnutí termodynamik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71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http://www.ub.uni-heidelberg.de/helios/fachinfo/www/math/htmg/gibbs.jpg"/>
          <p:cNvPicPr/>
          <p:nvPr/>
        </p:nvPicPr>
        <p:blipFill>
          <a:blip r:embed="rId2"/>
          <a:stretch/>
        </p:blipFill>
        <p:spPr>
          <a:xfrm>
            <a:off x="179280" y="1700280"/>
            <a:ext cx="2898720" cy="4257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Výsledek obrázku pro Josiah Willard Gibbs orig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87880" y="4429080"/>
            <a:ext cx="2927520" cy="219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4653"/>
                </a:solidFill>
                <a:latin typeface="Bookman Old Style"/>
              </a:rPr>
              <a:t>Shrnutí poznatků z histor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39640" y="1268280"/>
            <a:ext cx="4896000" cy="511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Řada pojmů a představ se kterými se setkáváme v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chemické kinetice je již dlouho známých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Získání některých kinetických informací je velmi náročné (mechanismy reakcí, reakční koordináta,…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Moderní kinetika je interdisciplinární (biochemická kinetika, molekulová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Gill Sans MT"/>
              </a:rPr>
              <a:t>ynamika, kvantová chemi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6" name="Picture 5" descr="Výsledek obrázku pro chemical kinetic trends future"/>
          <p:cNvPicPr/>
          <p:nvPr/>
        </p:nvPicPr>
        <p:blipFill>
          <a:blip r:embed="rId1"/>
          <a:stretch/>
        </p:blipFill>
        <p:spPr>
          <a:xfrm>
            <a:off x="5400720" y="18446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ří Sopoušek</cp:lastModifiedBy>
  <dcterms:modified xsi:type="dcterms:W3CDTF">2020-02-17T13:23:45Z</dcterms:modified>
  <cp:revision>47</cp:revision>
  <dc:subject/>
  <dc:title>Prezentace aplikace PowerPoint</dc:title>
</cp:coreProperties>
</file>