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C849-D44D-4B5A-B264-5F63632BF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8827-8E4D-40EE-8704-704C2ADA9C0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3F97-3E8D-469E-B3CA-15F928EDF3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3123-4331-47B7-904D-D015C1FCC15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6F37-817B-41FB-A8CA-4AFA477403B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6B66-0266-4612-892D-551BA2E15A5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E30-ECE0-48D8-A702-F66A7D25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9EE-4082-4F88-922F-8442D5E3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4AF-A9CC-4C06-99E0-6752AF40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B64-3E66-49A3-AD28-82AA3810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1CC-D53B-4C07-91C1-B3030F67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717-7FC9-477A-90B4-FA3B6251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D0A-E50C-4D18-8F5D-A587B784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584-F350-4BBE-9CB6-3816004C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95E-BC02-438B-B8B2-8C1D0197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4A2-5215-49C3-B0B0-17BDBB18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8D6-C15C-4316-B14E-6E05D1AE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B23-63C0-4D3D-997A-59D2669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DD45-C66D-4951-AE84-EA47FF92B7B7}" type="slidenum">
              <a:rPr b="0" lang="cs-CZ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4500" spc="-1" strike="noStrike">
                <a:solidFill>
                  <a:srgbClr val="000000"/>
                </a:solidFill>
                <a:latin typeface="Arial"/>
                <a:ea typeface="Arial"/>
              </a:rPr>
              <a:t>C6320 Chemická kinetika</a:t>
            </a:r>
            <a:br>
              <a:rPr sz="4500"/>
            </a:br>
            <a:r>
              <a:rPr b="0" lang="cs-CZ" sz="4500" spc="-1" strike="noStrike">
                <a:solidFill>
                  <a:srgbClr val="000000"/>
                </a:solidFill>
                <a:latin typeface="Arial Black"/>
              </a:rPr>
              <a:t>Úvodní hodina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37"/>
          <p:cNvSpPr/>
          <p:nvPr/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8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7B2E-C74B-42A6-86E0-532B2A8EDF07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8207280" cy="2824200"/>
          </a:xfrm>
          <a:prstGeom prst="rect">
            <a:avLst/>
          </a:prstGeom>
          <a:ln w="0">
            <a:noFill/>
          </a:ln>
        </p:spPr>
      </p:pic>
      <p:sp>
        <p:nvSpPr>
          <p:cNvPr id="52" name="Obdélník 1"/>
          <p:cNvSpPr/>
          <p:nvPr/>
        </p:nvSpPr>
        <p:spPr>
          <a:xfrm>
            <a:off x="2124000" y="6093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s://www.boundless.com/chemistry/textbooks/boundless-chemistry-textbook/chemical-kinetics-13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B755-661A-4830-AF00-F5B387913D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 Light"/>
              </a:rPr>
              <a:t>P5: Experiment. Vsádkový, 05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Zástupný symbol pro číslo snímku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A47A-D65F-4253-99B7-8D6BF53E61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44546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8A0A-0271-43C3-BCFC-8BE04756CC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996D-107B-41C1-99B0-1116F5AF40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101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Calibri"/>
              </a:rPr>
              <a:t>P9: Reakce oscilující: oscilátory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2F53-2EB2-4EAC-AB02-0265789BEE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3A16-B9CA-40ED-8DD4-264D55792E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D0BC-19C9-4D49-ABA8-237B189DAD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14: Úvod do kinetiky reakcí v tuhém stavu (nukleace, fázové transformace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64E0-59AC-4A16-B850-656D6D2CD4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932360" y="139392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Two-step nucleation mechanism in solid–solid phase trans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www.nature.com/nmat/journal/v14/n1/images_article/nmat4083-f4.jpg"/>
          <p:cNvPicPr/>
          <p:nvPr/>
        </p:nvPicPr>
        <p:blipFill>
          <a:blip r:embed="rId1"/>
          <a:stretch/>
        </p:blipFill>
        <p:spPr>
          <a:xfrm>
            <a:off x="539640" y="2781360"/>
            <a:ext cx="5715000" cy="3152880"/>
          </a:xfrm>
          <a:prstGeom prst="rect">
            <a:avLst/>
          </a:prstGeom>
          <a:ln w="0">
            <a:noFill/>
          </a:ln>
        </p:spPr>
      </p:pic>
      <p:sp>
        <p:nvSpPr>
          <p:cNvPr id="118" name="Obdélník 1"/>
          <p:cNvSpPr/>
          <p:nvPr/>
        </p:nvSpPr>
        <p:spPr>
          <a:xfrm>
            <a:off x="1332000" y="60278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nature.com/nmat/journal/v14/n1/full/nmat408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Arial Black"/>
              </a:rPr>
              <a:t>Organizace přednášky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arant a vyučující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Prof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iří Sopoušek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. 549497138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opousek@mail.muni.c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stav chemi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KB, bu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kan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. 23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erekvizity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bsolvování přednášek Fyzik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chemie I a I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dmínky ke připuštění ke zkoušc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prokázání schopnosti samostatně řešit modelové    problémy kinetiky reak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získání zápočtu ze semináře C633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BA4F-4F9B-4058-A807-1736A84ABE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 Black"/>
              </a:rPr>
              <a:t>Organizace semináře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 Black"/>
              </a:rPr>
              <a:t>C6330 Chemická kinetika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62828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yučující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oc. Jiří Sopouš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Obsah cvičení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aktické procvičování učiva probraného na přednášce (kalkulačku sebou, práce s 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oužívání software urychlujícího práci (zejména EXCEL, Mathcad, ) Matematika: Wolfra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svojení si vyhledávat potřebné informace (internet, wifi MU k dispozic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dmínky získání zápočt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Znalost probírané tématiky dle sylabu přednášky C63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ypracování zápočtových příkladů a zpracování kinetického vid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2319-DD15-45FD-BA4E-A6813363D4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Arial Black"/>
              </a:rPr>
              <a:t>Doporučená literatur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295280"/>
            <a:ext cx="7415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tkins, P. W.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chemistr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6th ed. Oxford : Oxford University Press, 1998. xvi, 1014. ISBN 0-19-850101-3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Calibri"/>
              </a:rPr>
              <a:t>R. I. Masel: Chemical kinetics an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atalysis, John Wiley &amp; Sons, 2001,  ISBN 0-471-24197-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7171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f71717"/>
                </a:solidFill>
                <a:latin typeface="Calibri"/>
              </a:rPr>
              <a:t>J. Vohlídal, Chemická kinetika, Karolinum, Praha 2001 (scrip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reindl, Ľudovít.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emická kinetika [Treindl, 1990]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lide share: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https://www.slideshare.net/wkkok1957/ib-chemistry-on-gibbs-free-energy-and-equilibrium-constant-k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hanAcademy: https://www.khanacademy.org/science/chemistry/chem-kine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2603-C551-4294-ACE8-A7FE957FDA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Zobrazit zdrojový obrázek"/>
          <p:cNvPicPr/>
          <p:nvPr/>
        </p:nvPicPr>
        <p:blipFill>
          <a:blip r:embed="rId1"/>
          <a:stretch/>
        </p:blipFill>
        <p:spPr>
          <a:xfrm>
            <a:off x="7715160" y="1844640"/>
            <a:ext cx="142236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číslo snímku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8A3B-ACC4-4CAB-B03A-13F14AE51C06}" type="slidenum">
              <a:rPr b="0" lang="cs-CZ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rázek 2" descr=""/>
          <p:cNvPicPr/>
          <p:nvPr/>
        </p:nvPicPr>
        <p:blipFill>
          <a:blip r:embed="rId1"/>
          <a:stretch/>
        </p:blipFill>
        <p:spPr>
          <a:xfrm>
            <a:off x="611280" y="407880"/>
            <a:ext cx="7759440" cy="593568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3"/>
          <p:cNvSpPr/>
          <p:nvPr/>
        </p:nvSpPr>
        <p:spPr>
          <a:xfrm>
            <a:off x="971640" y="6459480"/>
            <a:ext cx="457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https://www.khanacademy.org/science/chemistry/chem-kinetic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říkladník z fyzikální chemie VŠChT: http://www.vscht.cz/fch/prikladnik/prikladnik/p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Interaktivní osnova předmě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25A5-2F0F-4A8D-914A-AEE2A9FF81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91380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 Light"/>
              </a:rPr>
              <a:t>Osnova přednášky a seminář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. Typy chemických reakcí, elementární reakce, molekular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2F5A-2F3A-4080-A73B-558AF30711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030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42C7-19E3-4216-802E-D7F108BA7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6920" indent="-376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ástupný symbol pro číslo snímku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33EC-58B8-45C6-89F2-6A1D966DDF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030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ledná nevratná reakce prvního řád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44546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ří Sopoušek</dc:creator>
  <dc:description/>
  <dc:language>en-US</dc:language>
  <cp:lastModifiedBy>Student</cp:lastModifiedBy>
  <dcterms:modified xsi:type="dcterms:W3CDTF">2021-03-02T13:48:38Z</dcterms:modified>
  <cp:revision>50</cp:revision>
  <dc:subject/>
  <dc:title>Prezentace aplikace PowerPoint</dc:title>
</cp:coreProperties>
</file>