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FAB0-8E7D-4BA2-A0CA-0CD248AC605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3BDE-176D-4669-A523-19BC2CBBDFA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D077-7A6A-4C26-8298-1703A065E9A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94EF-F974-4CCC-8504-B079169CDF5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F1B9-965C-4B2D-BFBF-8494A5B5A08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71C2-3FED-41C0-8E73-BE7BF3E36EA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2CCE-1A01-4ACD-8664-F375E0E7D2E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A8DC-E55B-4B56-BA79-AF5EC79F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EF17-1621-4217-9047-4D400FAA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A492B-7362-461E-9EC4-1F1B7094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F2AFF-80A8-49B6-8730-532A08F4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B7E8D-FAAC-493C-BD39-85F8D2EC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F8F93-39C4-41F6-97D2-CE714DF4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24DF0-576A-4FA7-913F-F33106D6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6735B-A9BB-4654-B6CB-DDF0D5B8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06EAE-1AE2-41EA-980D-3947B5C0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499DB-A28A-413F-9E78-7EA8ACB5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8D79B-8BA5-441A-BE2F-228F5207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61F97-9B4E-466A-8832-D2441C26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BFD6-3446-4A5E-91D3-1EB78490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5438E-8A3A-45B6-9AF0-34946E44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6B09E-8A2C-496F-A966-103ECAE8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846A7-45E0-4C57-BDC9-125BBD01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85424-9DE8-447E-B5F1-2FDF0EB4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27E27-C712-4404-AA20-9E9038FD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FB62D-00E8-488E-B03B-4E8F661B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D5C29-C010-4F11-A2BA-A1FE6674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22993-6FF2-48DD-98E6-0F93307C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8BF2A-AF43-4E99-B45F-FFAC9393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109D4-9746-4F23-ABC5-6EDD4511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6F2F-8FE0-4042-9B27-500BB855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5A062-3F53-4D8A-9A8E-03CFE717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B679B-60A7-4157-8754-06F34282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AA99C-C385-4415-86AE-CDB2A4F9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8E657-4762-4467-B63F-D8E701E6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84529-FF1A-4028-AEB8-3EDAA263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2CA66-60E2-424F-91BA-920FD5B9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B20A3-EF47-44A5-B77C-51AA9CB5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FC76A-B9C1-4388-9A2E-E034DE95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5FEE9-23F6-4181-8240-958C0843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2614A-ED1B-48E7-B315-C8B3BC8A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C786-F327-43F1-8A5D-2E5F2C2E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FABF9-7FDE-4193-BFC0-0495E3C6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D11E9-DDB8-4ABE-A17E-F45E8F19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A9D21-7A9C-4264-AAC0-2E5C9EAD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AFCB1-E6FB-4C1F-8A70-B4403790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80002-B102-4B06-BC63-C0D648A7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D1F09-9AD9-4C43-B69E-53D15738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6B5D5-06D1-4D82-88C4-4C204978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41C13-9426-4DB4-BE38-04D575E0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29160-AC7A-4587-8325-FF790BA6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8107D-36F5-4ABB-A599-1C93A0FE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203B-14CE-425D-A677-7814E54D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CF5ED-AF1C-4D9D-BD99-01F6F6FE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730DA-4FCF-4EF1-B320-DC36CEA6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A4875-9A89-4A12-8AEA-B3A9A0E5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E9FF2-93F4-4288-8FE0-F6EB97AF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970A0-9B6B-4B84-9AFB-795061DA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BC4E-F7EC-411E-AA8C-17D574ED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7CE2-87E5-4F0E-A80E-5A40A83E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3685-0812-476A-903F-98623EB1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EB24-9394-4F63-8B6C-13BFD088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CB50-CFCA-4781-919E-4B80DA00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64F6-7BBD-40C2-9095-5A836A89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55C3-8C2F-4FC2-8550-F26AC83F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172D-ECAA-4D64-A0C6-2B00DD76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B5D9-BBE4-4003-9E83-B87AF127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0A97-9E94-4155-98AC-BE612A0D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14C9-1A26-41B5-A675-1DC39496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2C294-5683-410A-B05F-8C875B41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C0F74-9617-4D28-9E32-480D9345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70317-87AA-45F5-A952-7AC7271D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4C057-7E89-4799-B828-575748CD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E6E8F-96F8-441F-9E77-9480A8AA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59C1-C94B-4177-8046-5505ED08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57744-6F6C-4D79-96DE-1EBF0B43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D88FE-3BC4-4668-8FED-4B160FAC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29A1B-9727-493B-B673-233EF419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E341E-0D63-4CD6-BF6B-8A0D2FAA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205B1-543B-45F0-B7CD-E422F787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B5082-D474-498C-8C05-AB1B6755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851F5-3A64-480D-9488-C71581C7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25656-C476-4276-890E-F9C8067D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83958-D1B6-4631-8EC2-61C258DF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980EF-7E3E-4357-B0B9-685636C3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8A84-C206-4AFE-8084-81C0E599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4AEA0-CB84-4C99-8832-A392A775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7136B-9D7A-49C9-8351-8C4A3541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3E6C1-E089-4F2D-8AE4-26901A76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81632-4BB9-47B2-B6F5-04BBA1B7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88BCF-877A-4B72-BCA8-CF24E345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64147-776A-4BA5-A4F7-77FAE555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873BA-80AF-4820-A4A9-727541BA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273D8-A109-477E-A580-652DCE17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81E87-C0A8-4330-9AB1-5A6881B7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D3AF4-64A7-4F57-BF8E-901D518B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95B-6F06-46E3-84CE-62544948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2A938-E953-433D-834F-A61DBDD8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7D163-0299-4DF6-99F3-0B5F6FAC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C616D-595A-4A84-AED2-88833864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0BBD0-B294-4B30-968E-88C89AE1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1702B-CF3C-4345-AC67-309A311B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22598-8A5B-45B6-9CCE-DC6DB64D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F16C1-BF8F-4EAA-8FA6-BE47BDEF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AB45D-9FEA-4FD7-9545-BA024FBC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0121B-9261-4082-8C79-AF4EA3E0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B7A27-D486-41DF-A524-21CE4EF9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7C44-84C4-460B-89D4-4B4E6965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0ABDD-FFCE-4828-AD50-D8838430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82EC7-3A6E-4550-96DB-DD384333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0FE60-677D-4465-B6A7-45B25E7D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1B9B4-C878-490D-9DC5-5B4D298C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357C3-4722-4CE8-9158-48C1A7CD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25C1E-DBEB-4301-9D41-7B36BC8F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5217B-A908-41EB-8D86-B3966308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6E0FF-167D-4928-B2BE-DCADE8C1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DCDDC-D630-4E3E-B2C5-BA8E8D68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229E8-0B33-496E-A757-ADF6BC22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0F9A-F2A6-4634-BE4B-27824E30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BD1D7-304E-46C5-A083-C6A01546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D4CB2-6477-43C0-BB4A-C772C3C8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46E7B-4D21-457C-AE82-8DF9D5BA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88750-600C-4D2C-8CF4-EB6BADD2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DDD92-DA96-41F5-8B19-1AD4DDC2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B1B08-903A-4ACA-863D-9AD917DE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07F2F-0CFF-464B-AD4D-6DBC2DBB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6F3C7-D742-4CD3-A862-DB0AA93C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DF4BD-8415-4B4E-8895-3C72DB59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026D7-24F4-49FA-8887-22EF6D7D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1CD0-AF23-4CE2-9132-B60A18F9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BD7BE-9313-4F8A-AF15-5152F346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075B2-5695-4F55-9C88-97E3BEF1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788A0-A3DA-4A53-A0AE-B0F62801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61DB4-B9B7-4E32-A7E7-D1E90678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1C1D8-45C8-412B-B6C0-0076CB9B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9DF4F-19CF-4982-B1D1-E2D340AA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42985-DE3E-4B0A-A43C-EF5D4679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08A3E-36BA-4AB1-AAE0-504CD4CF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19E4C-D02B-43B8-93C8-19D05F4A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BA553-D3FA-40C5-8543-31FEBD08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E414-975E-4975-AD9E-E844ED70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226C0-F897-4CF8-B2A8-0D0420BB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96437-2658-48DD-A5E3-1ADAB02F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6C862-D8A8-4124-ACA1-5E57FCD6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43CEE-6808-458F-A3FC-742C2DAE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5E575-06C2-45E8-8244-FB9A413F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25917-3B18-41C2-B261-A1EBDADE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BA0A5-9E9B-48C2-BAB4-FFAE780F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977D2-722F-4096-9499-1F8D3399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44F8D-CA85-4E6F-AD38-E7241913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766F2-1031-4AA4-99D1-EE05E598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A0CD-37AC-44E3-A86A-64A9450F4DE5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římá spojnice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římá spojnice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římá spojnice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ovnoramenný trojúhelní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bdélník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9978-EC9B-420C-98C5-9703D00F1918}" type="slidenum">
              <a:rPr b="0" lang="cs-CZ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římá spojnice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římá spojnice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3F2A-B871-44A1-BD57-AE54D1F80D6A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římá spojnice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ovnoramenný trojúhelní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římá spojnice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9CE0-DBAF-4158-99BC-547523015EBE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bdélní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bdélník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bdélník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0358-5627-4BE6-B41F-7E9105BFCE4F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římá spojnice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římá spojnice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1198-8B01-417E-92BD-1F5FB83E3A0E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bdélní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bdélní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0581-B11D-4072-9BAB-4590FA612074}" type="slidenum">
              <a:rPr b="0" lang="cs-CZ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římá spojnice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římá spojnice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92EF-4364-451F-B2CC-E3ED203E8C0D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římá spojnice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římá spojnice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CE47-6EAE-417F-A17A-7003F42B6901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římá spojnice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římá spojnice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ovnoramenný trojúhelník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0E51-37D0-492D-8998-9BD64B2C1336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římá spojnice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ovnoramenný trojúhelní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9E3C-AF2F-4350-BD2F-2AB1ED4BE06D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římá spojnice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římá spojnice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ovnoramenný trojúhelník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AD58-935F-4BB4-98DE-184942865535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en.wikipedia.org/wiki/Antoine_Lavoisier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i1qM6izaPSAhVNahoKHVhpDbAQjRwIBw&amp;url=http%3A%2F%2Fwikivisually.com%2Fwiki%2FHexose&amp;bvm=bv.147448319,d.d2s&amp;psig=AFQjCNEdaQpZ9F97k3qcKA5wosjDqJ49WQ&amp;ust=1487849429244212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0ahUKEwj9odnWzKPSAhVF0xoKHXA3AbEQjRwIBw&amp;url=https%3A%2F%2Fen.wikipedia.org%2Fwiki%2FPeter_Waage&amp;bvm=bv.147448319,d.d2s&amp;psig=AFQjCNEGPxFNIe4Zd1l8kLiG6lRwf5HkyQ&amp;ust=1487849236273669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oht.info/page/Wilhelm+Ostwald" TargetMode="External"/><Relationship Id="rId2" Type="http://schemas.openxmlformats.org/officeDocument/2006/relationships/hyperlink" Target="http://www.google.cz/url?sa=i&amp;rct=j&amp;q=&amp;esrc=s&amp;source=images&amp;cd=&amp;ved=0ahUKEwjb0drgzqPSAhVEMBoKHdRzDrAQjRwIBw&amp;url=http%3A%2F%2Fwww.eoht.info%2Fpage%2FWilhelm%2BOstwald&amp;bvm=bv.147448319,d.d2s&amp;psig=AFQjCNGh_GeaMuliuSJeg_MhcflyvwkwlQ&amp;ust=1487849835812449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g446flY7LAhWFWBQKHVziAboQjRwIBw&amp;url=http%3A%2F%2Fcrystalsandcatalysts.blogspot.com%2F2015%2F03%2Fscientist-of-week-3-maud-leonora-menten.html&amp;psig=AFQjCNExtplb-7QqOymhjPc8aIespZT7zw&amp;ust=1456326409050737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hyperlink" Target="http://www.google.cz/url?sa=i&amp;rct=j&amp;q=&amp;esrc=s&amp;source=images&amp;cd=&amp;cad=rja&amp;uact=8&amp;ved=0ahUKEwj31O7T0KPSAhWHiRoKHUGpC7AQjRwIBw&amp;url=http%3A%2F%2Fwww.lindahall.org%2Fjosiah-willard-gibbs%2F&amp;bvm=bv.147448319,d.d2s&amp;psig=AFQjCNHBgJCFxtkVnuu_JelIa21f15p2Aw&amp;ust=1487850349160860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Bookman Old Style"/>
              </a:rPr>
              <a:t>C6320 Chemická kinetika: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Bookman Old Style"/>
              </a:rPr>
              <a:t>Historie chemické kinetik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36" name="Picture 4" descr="https://upload.wikimedia.org/wikipedia/commons/6/6c/Antoine_lavoisier_color.jpg"/>
          <p:cNvPicPr/>
          <p:nvPr/>
        </p:nvPicPr>
        <p:blipFill>
          <a:blip r:embed="rId1"/>
          <a:stretch/>
        </p:blipFill>
        <p:spPr>
          <a:xfrm>
            <a:off x="900000" y="2637000"/>
            <a:ext cx="2352960" cy="3466800"/>
          </a:xfrm>
          <a:prstGeom prst="rect">
            <a:avLst/>
          </a:prstGeom>
          <a:ln w="0">
            <a:noFill/>
          </a:ln>
        </p:spPr>
      </p:pic>
      <p:sp>
        <p:nvSpPr>
          <p:cNvPr id="537" name="TextovéPole 1"/>
          <p:cNvSpPr/>
          <p:nvPr/>
        </p:nvSpPr>
        <p:spPr>
          <a:xfrm>
            <a:off x="3419640" y="450864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292ca"/>
                </a:solidFill>
                <a:uFillTx/>
                <a:latin typeface="Times New Roman"/>
                <a:hlinkClick r:id="rId2"/>
              </a:rPr>
              <a:t>Antoine Lavoisi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veloped the theory of combustion as a chemical reaction with oxy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bdélník 2"/>
          <p:cNvSpPr/>
          <p:nvPr/>
        </p:nvSpPr>
        <p:spPr>
          <a:xfrm>
            <a:off x="684360" y="62373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s://en.wikipedia.org/wiki/Chemical_re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Arial Black"/>
              </a:rPr>
              <a:t>Literatur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611280" y="1844640"/>
            <a:ext cx="76197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znamné ženy a muži vě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s://www.biographyonline.net/scientists/famous-chemists.ht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bdélník 3"/>
          <p:cNvSpPr/>
          <p:nvPr/>
        </p:nvSpPr>
        <p:spPr>
          <a:xfrm>
            <a:off x="755640" y="386064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istorie chem. Průmyslu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ttps://www.slideshare.net/kchtul/hic-1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464653"/>
                </a:solidFill>
                <a:latin typeface="Bookman Old Style"/>
              </a:rPr>
              <a:t>Historie chemické kinetiky</a:t>
            </a:r>
            <a:br>
              <a:rPr sz="2900"/>
            </a:br>
            <a:r>
              <a:rPr b="0" lang="cs-CZ" sz="1400" spc="-1" strike="noStrike">
                <a:solidFill>
                  <a:srgbClr val="ff0000"/>
                </a:solidFill>
                <a:latin typeface="ArialNarrow"/>
              </a:rPr>
              <a:t>Ref: "The World of Physical Chemistry," by K. J. Laidler, Oxford Univ. Press, 1993)</a:t>
            </a:r>
            <a:br>
              <a:rPr sz="1400"/>
            </a:br>
            <a:endParaRPr b="0" lang="en-US" sz="1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755640" y="1700280"/>
            <a:ext cx="7850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850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Wilhelmy (Germany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studoval rychlost inverze sacharózy (tj. hydrolýzy na D - (+) - glukózu a D - (-) - fruktózu v přítomnosti kyseliny) a zjistil, že je úměrná koncentraci jak cukru tak i kyseliny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viz experimentální úloha v praktiku fyzikální chemie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1" name="Picture 5" descr="Výsledek obrázku pro Wilhelmy saccharo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4290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Zástupný symbol pro číslo snímku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4912-5EC0-44D1-98D6-86B8B182EB94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2" descr="Výsledek obrázku pro Guldberg Wa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765000"/>
            <a:ext cx="3240000" cy="5262840"/>
          </a:xfrm>
          <a:prstGeom prst="rect">
            <a:avLst/>
          </a:prstGeom>
          <a:ln w="0">
            <a:noFill/>
          </a:ln>
        </p:spPr>
      </p:pic>
      <p:sp>
        <p:nvSpPr>
          <p:cNvPr id="544" name="Obdélník 4"/>
          <p:cNvSpPr/>
          <p:nvPr/>
        </p:nvSpPr>
        <p:spPr>
          <a:xfrm>
            <a:off x="684360" y="476280"/>
            <a:ext cx="446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864: </a:t>
            </a:r>
            <a:r>
              <a:rPr b="0" lang="cs-CZ" sz="2400" spc="-1" strike="noStrike">
                <a:solidFill>
                  <a:srgbClr val="ff0066"/>
                </a:solidFill>
                <a:latin typeface="Arial"/>
              </a:rPr>
              <a:t>Guldberg and Waage (Norway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ormuloval "zákon působení hmoty", podle kterého reakční "síly" jsou přímo úměrné součinu koncentrace reaktantů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=[R]</a:t>
            </a:r>
            <a:r>
              <a:rPr b="1" lang="cs-CZ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[S]</a:t>
            </a:r>
            <a:r>
              <a:rPr b="1" lang="cs-CZ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/([A]</a:t>
            </a:r>
            <a:r>
              <a:rPr b="1" lang="cs-CZ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[B]</a:t>
            </a:r>
            <a:r>
              <a:rPr b="1" lang="cs-CZ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e a, b, r and s jsou stechiometrické koeficienty pro chemickou reakci A+B=R+S. A to tak, že rychlost dopředné reakce je  úměrná součinu [A]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[B]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rychlost zpětné reakce je úměrná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]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[S]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bdélník 5"/>
          <p:cNvSpPr/>
          <p:nvPr/>
        </p:nvSpPr>
        <p:spPr>
          <a:xfrm>
            <a:off x="4067280" y="6294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ttps://en.wikipedia.org/wiki/Peter_Wa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755640" y="475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865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 (UK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analyzovali reakci mezi H2O2 a HI a mezi KMnO4 a (COOH)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.  Napsali odpovídající diferenciální rovnice, integrovali je a určili koncentrace v závislosti na čase. Také navrhli rovnici pro teplotní závislosti rychlosti reakce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k = A .T. 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7" name="Picture 4" descr="http://1.bp.blogspot.com/-CC2ly_ZmL6M/VwLCidRLO7I/AAAAAAAAAQA/8Z_QWI6-EeIobhAaPruGynVp4FLPzduXQ/s1600/Jacobus_van_%2527t_Hoff_by_Perscheid_1904.jpg"/>
          <p:cNvPicPr/>
          <p:nvPr/>
        </p:nvPicPr>
        <p:blipFill>
          <a:blip r:embed="rId1"/>
          <a:stretch/>
        </p:blipFill>
        <p:spPr>
          <a:xfrm>
            <a:off x="6338880" y="2565360"/>
            <a:ext cx="1982880" cy="2308320"/>
          </a:xfrm>
          <a:prstGeom prst="rect">
            <a:avLst/>
          </a:prstGeom>
          <a:ln w="0">
            <a:noFill/>
          </a:ln>
        </p:spPr>
      </p:pic>
      <p:sp>
        <p:nvSpPr>
          <p:cNvPr id="548" name="Obdélník 1"/>
          <p:cNvSpPr/>
          <p:nvPr/>
        </p:nvSpPr>
        <p:spPr>
          <a:xfrm>
            <a:off x="611280" y="2565360"/>
            <a:ext cx="51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884: </a:t>
            </a:r>
            <a:r>
              <a:rPr b="0" lang="cs-CZ" sz="2400" spc="-1" strike="noStrike">
                <a:solidFill>
                  <a:srgbClr val="ff0066"/>
                </a:solidFill>
                <a:latin typeface="Arial"/>
              </a:rPr>
              <a:t>van't Hoff (The Netherlands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ublikoval své "Studie o chemické dynamice" (Études de dynamique CHIMIQUE), ve kterých zobecnil a dále rozvíjel práci Wilhelmyho (o sacharoz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Obdélník 2"/>
          <p:cNvSpPr/>
          <p:nvPr/>
        </p:nvSpPr>
        <p:spPr>
          <a:xfrm>
            <a:off x="417600" y="508464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ff00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66"/>
                </a:solidFill>
                <a:latin typeface="Arial"/>
              </a:rPr>
              <a:t>1885 Harcourt and Ess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Uvedli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iferenciální metodu analýzy a rovněž analyzovali teplotní závislost rovnovážné konstanty (pojmenovali ji "van't Hoff rovnice"). Sledovali reakcí dopřednou i zpětno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685440" y="456840"/>
            <a:ext cx="48229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887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Ostwald (Germany; Latvia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zavádí pojmy "řád reakce" a „poločas reakce" ve své knize: "Lehrbuch der allgemeinen Chemie.„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Obdélník 1"/>
          <p:cNvSpPr/>
          <p:nvPr/>
        </p:nvSpPr>
        <p:spPr>
          <a:xfrm>
            <a:off x="971640" y="2011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b292ca"/>
                </a:solidFill>
                <a:uFillTx/>
                <a:latin typeface="Times New Roman"/>
                <a:hlinkClick r:id="rId1"/>
              </a:rPr>
              <a:t>http://www.eoht.info/page/Wilhelm+Ostwald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Ostwald happiness formula, Radical athei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4" descr="Výsledek obrázku pro Ostwal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457200"/>
            <a:ext cx="2886120" cy="2200320"/>
          </a:xfrm>
          <a:prstGeom prst="rect">
            <a:avLst/>
          </a:prstGeom>
          <a:ln w="0">
            <a:noFill/>
          </a:ln>
        </p:spPr>
      </p:pic>
      <p:sp>
        <p:nvSpPr>
          <p:cNvPr id="553" name="Obdélník 2"/>
          <p:cNvSpPr/>
          <p:nvPr/>
        </p:nvSpPr>
        <p:spPr>
          <a:xfrm>
            <a:off x="539640" y="3213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889: </a:t>
            </a:r>
            <a:r>
              <a:rPr b="0" lang="cs-CZ" sz="2400" spc="-1" strike="noStrike">
                <a:solidFill>
                  <a:srgbClr val="ff0066"/>
                </a:solidFill>
                <a:latin typeface="Arial"/>
              </a:rPr>
              <a:t>Arrhenius (Sweden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ále analyzoval teplotní závislost reakční rychlosti a zjistil, že lépe odpovídá vzta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 = A exp (-B / 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e zajedl pojem "energetická bariéra" .  Dnes nese tato rovnice jeho jmé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6" descr="https://i.ytimg.com/vi/3fXIYGSyyQM/hqdefault.jpg"/>
          <p:cNvPicPr/>
          <p:nvPr/>
        </p:nvPicPr>
        <p:blipFill>
          <a:blip r:embed="rId4"/>
          <a:stretch/>
        </p:blipFill>
        <p:spPr>
          <a:xfrm>
            <a:off x="5111640" y="3213000"/>
            <a:ext cx="3835440" cy="28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685800" y="457200"/>
            <a:ext cx="7772400" cy="18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912 Mentenová (Maude Lenora Menten, 1879-1960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Se zabývala enzymovou kinetikou a popsala rychlost enzymové reakce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TextovéPole 1"/>
          <p:cNvSpPr/>
          <p:nvPr/>
        </p:nvSpPr>
        <p:spPr>
          <a:xfrm>
            <a:off x="684360" y="2349360"/>
            <a:ext cx="395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acovala v oddělení prof. Michael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la se profesorkou v 79-ti letech (195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2" descr="http://1.bp.blogspot.com/-7DSc73P4M_Q/VQs6mrwwwdI/AAAAAAAABHY/dUGD7b9EDGU/s1600/mente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46880" y="1413000"/>
            <a:ext cx="2735280" cy="42685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https://acsundergrad.files.wordpress.com/2012/07/menten-and-michaelis.jpg"/>
          <p:cNvPicPr/>
          <p:nvPr/>
        </p:nvPicPr>
        <p:blipFill>
          <a:blip r:embed="rId3"/>
          <a:stretch/>
        </p:blipFill>
        <p:spPr>
          <a:xfrm>
            <a:off x="4937040" y="2060640"/>
            <a:ext cx="4008600" cy="2114640"/>
          </a:xfrm>
          <a:prstGeom prst="rect">
            <a:avLst/>
          </a:prstGeom>
          <a:ln w="0">
            <a:noFill/>
          </a:ln>
        </p:spPr>
      </p:pic>
      <p:sp>
        <p:nvSpPr>
          <p:cNvPr id="559" name="Obdélník 3"/>
          <p:cNvSpPr/>
          <p:nvPr/>
        </p:nvSpPr>
        <p:spPr>
          <a:xfrm>
            <a:off x="655560" y="549108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www.chemheritage.org/discover/online-resources/chemistry-in-history/themes/biomolecules/proteins-and-sugars/michaelis-and-menten.asp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Helmholz a Gibb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61" name="Zástupný symbol pro obsah 4" descr=""/>
          <p:cNvPicPr/>
          <p:nvPr/>
        </p:nvPicPr>
        <p:blipFill>
          <a:blip r:embed="rId1"/>
          <a:stretch/>
        </p:blipFill>
        <p:spPr>
          <a:xfrm>
            <a:off x="2001960" y="2467080"/>
            <a:ext cx="4819680" cy="3152520"/>
          </a:xfrm>
          <a:prstGeom prst="rect">
            <a:avLst/>
          </a:prstGeom>
          <a:ln w="0">
            <a:noFill/>
          </a:ln>
        </p:spPr>
      </p:pic>
      <p:sp>
        <p:nvSpPr>
          <p:cNvPr id="562" name="Zástupný symbol pro číslo snímku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DE81-BC27-4585-A3C2-42955A843531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2"/>
          <p:cNvSpPr/>
          <p:nvPr/>
        </p:nvSpPr>
        <p:spPr>
          <a:xfrm>
            <a:off x="900000" y="50086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TextovéPole 6" descr=""/>
          <p:cNvPicPr/>
          <p:nvPr/>
        </p:nvPicPr>
        <p:blipFill>
          <a:blip r:embed="rId2"/>
          <a:stretch/>
        </p:blipFill>
        <p:spPr>
          <a:xfrm>
            <a:off x="2133720" y="5619600"/>
            <a:ext cx="1755720" cy="397080"/>
          </a:xfrm>
          <a:prstGeom prst="rect">
            <a:avLst/>
          </a:prstGeom>
          <a:ln w="0">
            <a:noFill/>
          </a:ln>
        </p:spPr>
      </p:pic>
      <p:pic>
        <p:nvPicPr>
          <p:cNvPr id="565" name="TextovéPole 7" descr=""/>
          <p:cNvPicPr/>
          <p:nvPr/>
        </p:nvPicPr>
        <p:blipFill>
          <a:blip r:embed="rId3"/>
          <a:stretch/>
        </p:blipFill>
        <p:spPr>
          <a:xfrm>
            <a:off x="4657680" y="5619600"/>
            <a:ext cx="1736640" cy="738360"/>
          </a:xfrm>
          <a:prstGeom prst="rect">
            <a:avLst/>
          </a:prstGeom>
          <a:ln w="0">
            <a:noFill/>
          </a:ln>
        </p:spPr>
      </p:pic>
      <p:sp>
        <p:nvSpPr>
          <p:cNvPr id="566" name="TextovéPole 8"/>
          <p:cNvSpPr/>
          <p:nvPr/>
        </p:nvSpPr>
        <p:spPr>
          <a:xfrm>
            <a:off x="2392560" y="59990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T,V…kon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ovéPole 9"/>
          <p:cNvSpPr/>
          <p:nvPr/>
        </p:nvSpPr>
        <p:spPr>
          <a:xfrm>
            <a:off x="4922280" y="598788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T,p…kon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Obdélník 10"/>
          <p:cNvSpPr/>
          <p:nvPr/>
        </p:nvSpPr>
        <p:spPr>
          <a:xfrm>
            <a:off x="900000" y="1392120"/>
            <a:ext cx="351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Linux Libertine"/>
              </a:rPr>
              <a:t>Hermann von Helmhol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ugust 31, 1821 – September 8, 1894) was a German physician and physicis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Obdélník 11"/>
          <p:cNvSpPr/>
          <p:nvPr/>
        </p:nvSpPr>
        <p:spPr>
          <a:xfrm>
            <a:off x="4527720" y="1392120"/>
            <a:ext cx="3357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Linux Libertine"/>
              </a:rPr>
              <a:t>Josiah Willard Gib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inux Libertine"/>
              </a:rPr>
              <a:t>(February 11, 1839 – April 28, 1903) was an American scient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5564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Cca 1890 J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ssiah</a:t>
            </a: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 Willard Gibbs (US): Shrnutí termodynamik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71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40021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" descr="http://www.ub.uni-heidelberg.de/helios/fachinfo/www/math/htmg/gibbs.jpg"/>
          <p:cNvPicPr/>
          <p:nvPr/>
        </p:nvPicPr>
        <p:blipFill>
          <a:blip r:embed="rId2"/>
          <a:stretch/>
        </p:blipFill>
        <p:spPr>
          <a:xfrm>
            <a:off x="179280" y="1700280"/>
            <a:ext cx="2898720" cy="42577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7" descr="Výsledek obrázku pro Josiah Willard Gibbs origi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87880" y="4429080"/>
            <a:ext cx="2927520" cy="21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Shrnutí poznatků z histori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539640" y="1268280"/>
            <a:ext cx="4896000" cy="511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Řada pojmů a představ se kterými se setkáváme v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chemické kinetice je již dlouho známých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Získání některých kinetických informací je velmi náročné (mechanismy reakcí, reakční koordináta,…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Moderní kinetika je interdisciplinární (biochemická kinetika, molekulová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ynamika, kvantová chemi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6" name="Picture 5" descr="Výsledek obrázku pro chemical kinetic trends future"/>
          <p:cNvPicPr/>
          <p:nvPr/>
        </p:nvPicPr>
        <p:blipFill>
          <a:blip r:embed="rId1"/>
          <a:stretch/>
        </p:blipFill>
        <p:spPr>
          <a:xfrm>
            <a:off x="5400720" y="184464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ří Sopoušek</cp:lastModifiedBy>
  <dcterms:modified xsi:type="dcterms:W3CDTF">2020-02-17T13:23:45Z</dcterms:modified>
  <cp:revision>47</cp:revision>
  <dc:subject/>
  <dc:title>Prezentace aplikace PowerPoint</dc:title>
</cp:coreProperties>
</file>