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0BD-D263-4D8C-BFA2-BF8E94D76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821-0C39-4BA0-BED9-C8889203CB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7A6-C12C-4904-BBC8-12999EB2BA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C978-FE0E-432E-B69A-9132DBBE0E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830-F877-45CE-BC9C-1D0CE6052F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7A81-22FA-403A-8A29-688F97FFFC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95D-0BF8-4954-A5AE-98DA6D23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33F-B607-4E80-9FFB-5BE9F725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9F4-2F2F-49B7-A91E-78DC4C4D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69B-2167-485F-A1F1-87577328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622-9255-4CBE-A068-49EB21F0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3B4-D13D-477F-B66D-8F94DB46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6BE-64D1-424F-B8C3-54C6B71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88A-285A-442D-A7D8-4629DEFA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DB7-0C7E-46D7-9355-5C292759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214-E15E-43AC-8D0B-ADEC3F92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C04-019A-4765-9406-80FEBEB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E9F-DB14-4DB2-9E5F-2CB8794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893-301E-44A1-9C51-A390CA382BE4}" type="slidenum">
              <a:rPr b="0" lang="cs-CZ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4500" spc="-1" strike="noStrike">
                <a:solidFill>
                  <a:srgbClr val="000000"/>
                </a:solidFill>
                <a:latin typeface="Arial"/>
                <a:ea typeface="Arial"/>
              </a:rPr>
              <a:t>C6320 Chemická kinetika</a:t>
            </a:r>
            <a:br>
              <a:rPr sz="4500"/>
            </a:br>
            <a:r>
              <a:rPr b="0" lang="cs-CZ" sz="4500" spc="-1" strike="noStrike">
                <a:solidFill>
                  <a:srgbClr val="000000"/>
                </a:solidFill>
                <a:latin typeface="Arial Black"/>
              </a:rPr>
              <a:t>Úvodní hodina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033F-B21C-4202-8EFB-B35A98AC479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8207280" cy="282420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1"/>
          <p:cNvSpPr/>
          <p:nvPr/>
        </p:nvSpPr>
        <p:spPr>
          <a:xfrm>
            <a:off x="2124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www.boundless.com/chemistry/textbooks/boundless-chemistry-textbook/chemical-kinetics-1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080-E3FF-4EF1-9C8D-2588B736E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 Light"/>
              </a:rPr>
              <a:t>P5: Experiment. Vsádkový, 05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Zástupný symbol pro číslo snímku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E8D-3C8C-47ED-8DD8-4FEE11E23B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44546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06C-CA4B-45D4-BA2C-B1884D0F5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1C3C-7918-474A-9890-5ABE0F99B7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01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Calibri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F12-7FD3-4E45-A17C-532C3DA524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0571-D77D-46D0-AB9D-3B7BB9F7A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44CF-4F49-4AAA-A186-A5646E0A6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4: Úvod do kinetiky reakcí v tuhém stavu (nukleace, fázové transformac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56E4-13A8-4F37-9BD8-3C700AB54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32360" y="139392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Two-step nucleation mechanism in solid–solid phase trans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nature.com/nmat/journal/v14/n1/images_article/nmat4083-f4.jpg"/>
          <p:cNvPicPr/>
          <p:nvPr/>
        </p:nvPicPr>
        <p:blipFill>
          <a:blip r:embed="rId1"/>
          <a:stretch/>
        </p:blipFill>
        <p:spPr>
          <a:xfrm>
            <a:off x="539640" y="2781360"/>
            <a:ext cx="5715000" cy="315288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1"/>
          <p:cNvSpPr/>
          <p:nvPr/>
        </p:nvSpPr>
        <p:spPr>
          <a:xfrm>
            <a:off x="1332000" y="60278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nature.com/nmat/journal/v14/n1/full/nmat408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Black"/>
              </a:rPr>
              <a:t>Organizace přednášky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Pro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. 549497138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opousek@mail.muni.c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bsolvování přednášek Fyzi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chemie I a I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prokázání schopnosti samostatně řešit modelové    problémy kinetiky reak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získání zápočtu ze semináře C63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71B5-B6B8-4041-B060-2E5E69ACC0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Black"/>
              </a:rPr>
              <a:t>Organizace seminář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 Black"/>
              </a:rPr>
              <a:t>C6330 Chemická kinetik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62828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aktické procvičování učiva probraného na přednášce (kalkulačku sebou, práce s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žívání software urychlujícího práci (zejména EXCEL, Mathcad, ) Matematika: Wolf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svojení si vyhledávat potřebné informace (internet, wifi MU k dispozic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Znalost probírané tématiky dle sylabu přednášky C63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pracování zápočtových příkladů a zpracování kinetického v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34B1-5167-4903-95D0-8A39CBC3DD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Black"/>
              </a:rPr>
              <a:t>Doporučená literatur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95280"/>
            <a:ext cx="741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tkins, P. W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chemist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6th ed. Oxford : Oxford University Press, 1998. xvi, 1014. ISBN 0-19-850101-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R. I. Masel: Chemical kinetics a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talysis, John Wiley &amp; Sons, 2001,  ISBN 0-471-24197-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7171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f71717"/>
                </a:solidFill>
                <a:latin typeface="Calibri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reindl, Ľudovít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emická kinetika [Treindl, 1990]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lide share: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https://www.slideshare.net/wkkok1957/ib-chemistry-on-gibbs-free-energy-and-equilibrium-constant-k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hanAcademy: https://www.khanacademy.org/science/chemistry/chem-kine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7B9-4EB6-48FD-9336-5229E7928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Zobrazit zdrojový obrázek"/>
          <p:cNvPicPr/>
          <p:nvPr/>
        </p:nvPicPr>
        <p:blipFill>
          <a:blip r:embed="rId1"/>
          <a:stretch/>
        </p:blipFill>
        <p:spPr>
          <a:xfrm>
            <a:off x="7715160" y="1844640"/>
            <a:ext cx="1422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92EB-3992-4B2F-BB16-65AFD31D87ED}" type="slidenum">
              <a:rPr b="0" lang="cs-CZ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ek 2" descr=""/>
          <p:cNvPicPr/>
          <p:nvPr/>
        </p:nvPicPr>
        <p:blipFill>
          <a:blip r:embed="rId1"/>
          <a:stretch/>
        </p:blipFill>
        <p:spPr>
          <a:xfrm>
            <a:off x="611280" y="407880"/>
            <a:ext cx="7759440" cy="593568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3"/>
          <p:cNvSpPr/>
          <p:nvPr/>
        </p:nvSpPr>
        <p:spPr>
          <a:xfrm>
            <a:off x="971640" y="645948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https://www.khanacademy.org/science/chemistry/chem-kinet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kladník z fyzikální chemie VŠChT: http://www.vscht.cz/fch/prikladnik/prikladnik/p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teraktivní osnova předmě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A03D-4C61-4D1C-B2BF-72C5AE849B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913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 Light"/>
              </a:rPr>
              <a:t>Osnova přednášky a seminář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2D3E-4828-437B-8E88-E69FCEC7D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6208-1859-4694-BA5A-66760D7A3B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EF21-AEF6-417B-A872-860AA87136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ří Sopoušek</dc:creator>
  <dc:description/>
  <dc:language>en-US</dc:language>
  <cp:lastModifiedBy>Student</cp:lastModifiedBy>
  <dcterms:modified xsi:type="dcterms:W3CDTF">2021-03-02T13:48:38Z</dcterms:modified>
  <cp:revision>50</cp:revision>
  <dc:subject/>
  <dc:title>Prezentace aplikace PowerPoint</dc:title>
</cp:coreProperties>
</file>