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4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C3F-F94C-45B9-A66D-1C06FE9C82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6EC-7270-4234-A5B9-AC48F14A38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9C9-1AD9-48AA-B141-B4057DDF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6BE-0474-401E-BE32-791CED2F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C34-724A-4A66-A9AE-203468C9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6CF-2CB4-4647-8A73-21704C71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C65-6A4B-420C-8116-C6A09DF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2725-F727-4486-8752-CA3BF22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0AF6-CB8C-4C50-8779-3D12224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A1D2-358E-42EA-BA25-67604417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6A75-2457-4912-AFA8-B2DC0F1F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E9C9-F595-41A7-AB1E-BD0DE74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C455-39A5-46D6-B125-04F6857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0DB-14BF-4CBB-AC74-01A8DE88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2DF-6B58-45A9-B8D7-20E046E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AF7-786E-4F85-96D2-814B1B1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DE6-5BD8-4F97-9E0D-86E1B259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2198-0ABE-4095-9698-CEBD579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7307-1CC4-4D9B-8247-EE3C1C07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2C52-6C7A-4795-A310-546B78A0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F151-B426-4DEA-9DAD-E4536052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94F6-DD35-402B-AF4B-990953F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DB8C-0421-4ECD-A273-25CD030C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1D57-A3D4-449E-9A8A-7C62CD6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D1A-0555-4405-9C3A-A59BAA98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97F3-4F1A-4C14-8E95-8A8A297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0FAF-AC5F-4E5C-8E0D-6389A3D3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03A6-4C91-4592-8ABC-9113CBA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BCD6-353F-4D49-BC18-BE07B86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84A0-09AC-420E-8549-4DE05BB4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2715-8958-4447-A78C-80C715F7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9B4B-A8A0-4980-AC07-A356E4A5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8DB-97DC-47D3-93BC-E7ABB16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A9C-191A-48E2-8CA6-4D7882B7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39E-42B7-4A99-92BF-F2195DD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CAE-2647-414B-88BB-23F000B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BD9-E399-4775-A196-801462A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157-7CBE-466B-AC09-2DDEB94E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903-0C20-4868-855E-F475E2C26F3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50E-681C-4D44-A98A-85387FF2B63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B829-465E-4CBF-8609-6DCD4337357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034-D7BC-47D7-ACBF-9DCC47C7C48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93E-987C-4F26-8890-CF8CC0D8B3E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C80-06D0-4F7C-BCD0-E450BD6407B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E28-E389-48D8-A7A4-B8FC741BB06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Přímá spojnice 5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římá spojnice 9"/>
          <p:cNvSpPr/>
          <p:nvPr/>
        </p:nvSpPr>
        <p:spPr>
          <a:xfrm flipV="1">
            <a:off x="328680" y="1197000"/>
            <a:ext cx="83469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římá spojnice 11"/>
          <p:cNvSpPr/>
          <p:nvPr/>
        </p:nvSpPr>
        <p:spPr>
          <a:xfrm>
            <a:off x="468360" y="1557360"/>
            <a:ext cx="4200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811840" y="2276640"/>
            <a:ext cx="3181320" cy="3999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8"/>
          <p:cNvSpPr/>
          <p:nvPr/>
        </p:nvSpPr>
        <p:spPr>
          <a:xfrm>
            <a:off x="6389280" y="4869000"/>
            <a:ext cx="19422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dotyk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7B26-EEF7-4B6A-A048-2AFE1008B2A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763120" cy="5991120"/>
          </a:xfrm>
          <a:prstGeom prst="rect">
            <a:avLst/>
          </a:prstGeom>
          <a:ln w="0">
            <a:noFill/>
          </a:ln>
        </p:spPr>
      </p:pic>
      <p:sp>
        <p:nvSpPr>
          <p:cNvPr id="190" name="Přímá spojnice 3"/>
          <p:cNvSpPr/>
          <p:nvPr/>
        </p:nvSpPr>
        <p:spPr>
          <a:xfrm>
            <a:off x="3851280" y="981000"/>
            <a:ext cx="4897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římá spojnice 5"/>
          <p:cNvSpPr/>
          <p:nvPr/>
        </p:nvSpPr>
        <p:spPr>
          <a:xfrm>
            <a:off x="225360" y="1197000"/>
            <a:ext cx="8523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5800680" y="3133800"/>
            <a:ext cx="3191040" cy="428400"/>
          </a:xfrm>
          <a:prstGeom prst="rect">
            <a:avLst/>
          </a:prstGeom>
          <a:ln w="0">
            <a:noFill/>
          </a:ln>
        </p:spPr>
      </p:pic>
      <p:cxnSp>
        <p:nvCxnSpPr>
          <p:cNvPr id="193" name="Přímá spojnice se šipkou 7"/>
          <p:cNvCxnSpPr/>
          <p:nvPr/>
        </p:nvCxnSpPr>
        <p:spPr>
          <a:xfrm flipV="1">
            <a:off x="5579640" y="3561840"/>
            <a:ext cx="1080360" cy="58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5D9-4329-4086-A9BA-4F345CD87C6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1"/>
          <p:cNvSpPr/>
          <p:nvPr/>
        </p:nvSpPr>
        <p:spPr>
          <a:xfrm>
            <a:off x="967680" y="152280"/>
            <a:ext cx="68864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ětná poznámka s problémem u trubkového reakto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 stanovení rychlostní konstanty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F0C-707C-480D-9A5F-AD08E57C71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900000" y="2060640"/>
            <a:ext cx="5832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C72A-7E62-4FF6-ADE5-3C0A8D74632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1"/>
          <p:cNvSpPr/>
          <p:nvPr/>
        </p:nvSpPr>
        <p:spPr>
          <a:xfrm>
            <a:off x="6213960" y="13413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1.3×10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B6C-BFD6-4EF4-87BC-5A45ED2E3B1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4C0-2807-41E8-B35D-F847F2832FB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  <p:sp>
        <p:nvSpPr>
          <p:cNvPr id="212" name="Přímá spojnice 3"/>
          <p:cNvSpPr/>
          <p:nvPr/>
        </p:nvSpPr>
        <p:spPr>
          <a:xfrm>
            <a:off x="5796000" y="184464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římá spojnice 5"/>
          <p:cNvSpPr/>
          <p:nvPr/>
        </p:nvSpPr>
        <p:spPr>
          <a:xfrm>
            <a:off x="4591080" y="2133720"/>
            <a:ext cx="214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6"/>
          <p:cNvSpPr/>
          <p:nvPr/>
        </p:nvSpPr>
        <p:spPr>
          <a:xfrm>
            <a:off x="3492360" y="2637000"/>
            <a:ext cx="2303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bdélník 8"/>
          <p:cNvSpPr/>
          <p:nvPr/>
        </p:nvSpPr>
        <p:spPr>
          <a:xfrm>
            <a:off x="2268360" y="4221000"/>
            <a:ext cx="457200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922480" y="5373720"/>
            <a:ext cx="2584440" cy="1298520"/>
          </a:xfrm>
          <a:prstGeom prst="rect">
            <a:avLst/>
          </a:prstGeom>
          <a:ln w="0">
            <a:noFill/>
          </a:ln>
        </p:spPr>
      </p:pic>
      <p:sp>
        <p:nvSpPr>
          <p:cNvPr id="217" name="TextovéPole 9"/>
          <p:cNvSpPr/>
          <p:nvPr/>
        </p:nvSpPr>
        <p:spPr>
          <a:xfrm>
            <a:off x="404280" y="5780160"/>
            <a:ext cx="235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=f(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ovéPole 1"/>
          <p:cNvSpPr/>
          <p:nvPr/>
        </p:nvSpPr>
        <p:spPr>
          <a:xfrm>
            <a:off x="5910120" y="3933720"/>
            <a:ext cx="32403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,71828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=0,367879   tj. relaxační doba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e čas za který poklesne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 cca 37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32C7-AA7F-43D8-8EB3-2E1665E0724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F3F-C7E1-445F-81E8-5FADA1D87C5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  <p:sp>
        <p:nvSpPr>
          <p:cNvPr id="225" name="Přímá spojnice 3"/>
          <p:cNvSpPr/>
          <p:nvPr/>
        </p:nvSpPr>
        <p:spPr>
          <a:xfrm>
            <a:off x="6227640" y="3357720"/>
            <a:ext cx="25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římá spojnice 6"/>
          <p:cNvSpPr/>
          <p:nvPr/>
        </p:nvSpPr>
        <p:spPr>
          <a:xfrm>
            <a:off x="395280" y="3645000"/>
            <a:ext cx="792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bdélník 9"/>
          <p:cNvSpPr/>
          <p:nvPr/>
        </p:nvSpPr>
        <p:spPr>
          <a:xfrm>
            <a:off x="395280" y="4941720"/>
            <a:ext cx="8582040" cy="96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5906-397D-46F5-97C0-BE37EA77643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"/>
          <p:cNvSpPr/>
          <p:nvPr/>
        </p:nvSpPr>
        <p:spPr>
          <a:xfrm>
            <a:off x="8548920" y="297000"/>
            <a:ext cx="3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ovéPole 5"/>
          <p:cNvSpPr/>
          <p:nvPr/>
        </p:nvSpPr>
        <p:spPr>
          <a:xfrm>
            <a:off x="6815520" y="1792440"/>
            <a:ext cx="18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6778800" y="2496960"/>
            <a:ext cx="11523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75B-8977-459D-9DAE-E8092C7A240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EA8-1C11-44A7-90DD-7AFC1631488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  <p:sp>
        <p:nvSpPr>
          <p:cNvPr id="240" name="TextovéPole 1"/>
          <p:cNvSpPr/>
          <p:nvPr/>
        </p:nvSpPr>
        <p:spPr>
          <a:xfrm>
            <a:off x="6443640" y="2924280"/>
            <a:ext cx="2376360" cy="16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né rychlostní Konstanty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platné pro teplotu na kterou se soustava ohřá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9102-638F-4951-A9CF-5094FF30C6F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1"/>
          <p:cNvSpPr/>
          <p:nvPr/>
        </p:nvSpPr>
        <p:spPr>
          <a:xfrm>
            <a:off x="6036120" y="1085760"/>
            <a:ext cx="221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ř.: HA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A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bdélník 3"/>
          <p:cNvSpPr/>
          <p:nvPr/>
        </p:nvSpPr>
        <p:spPr>
          <a:xfrm>
            <a:off x="6804000" y="4548240"/>
            <a:ext cx="205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chem.libretexts.org/Core/Physical_and_Theoretical_Chemistry/Kinetics/Experimental_Methods/Resolving_Kinetics%3A_Faster_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7" descr="https://chem.libretexts.org/@api/deki/files/17505/shocktube.png?revision=1&amp;size=bestfit&amp;width=439&amp;height=312"/>
          <p:cNvPicPr/>
          <p:nvPr/>
        </p:nvPicPr>
        <p:blipFill>
          <a:blip r:embed="rId2"/>
          <a:stretch/>
        </p:blipFill>
        <p:spPr>
          <a:xfrm>
            <a:off x="673200" y="2708280"/>
            <a:ext cx="56275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331-E6EF-40F9-98D4-4080797CD85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  <p:sp>
        <p:nvSpPr>
          <p:cNvPr id="250" name="Obdélník 1"/>
          <p:cNvSpPr/>
          <p:nvPr/>
        </p:nvSpPr>
        <p:spPr>
          <a:xfrm>
            <a:off x="250920" y="1268280"/>
            <a:ext cx="84978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římá spojnice 4"/>
          <p:cNvSpPr/>
          <p:nvPr/>
        </p:nvSpPr>
        <p:spPr>
          <a:xfrm>
            <a:off x="4140360" y="2276640"/>
            <a:ext cx="43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římá spojnice 6"/>
          <p:cNvSpPr/>
          <p:nvPr/>
        </p:nvSpPr>
        <p:spPr>
          <a:xfrm>
            <a:off x="250920" y="2492280"/>
            <a:ext cx="648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10840" cy="2838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Výsledek obrázku pro &quot;laser photolysis&quot; method"/>
          <p:cNvPicPr/>
          <p:nvPr/>
        </p:nvPicPr>
        <p:blipFill>
          <a:blip r:embed="rId2"/>
          <a:stretch/>
        </p:blipFill>
        <p:spPr>
          <a:xfrm>
            <a:off x="324000" y="4508640"/>
            <a:ext cx="4464000" cy="191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Výsledek obrázku pro flash photolysis excitation absorption"/>
          <p:cNvPicPr/>
          <p:nvPr/>
        </p:nvPicPr>
        <p:blipFill>
          <a:blip r:embed="rId3"/>
          <a:stretch/>
        </p:blipFill>
        <p:spPr>
          <a:xfrm>
            <a:off x="4932360" y="4251240"/>
            <a:ext cx="3755880" cy="2336760"/>
          </a:xfrm>
          <a:prstGeom prst="rect">
            <a:avLst/>
          </a:prstGeom>
          <a:ln w="0">
            <a:noFill/>
          </a:ln>
        </p:spPr>
      </p:pic>
      <p:sp>
        <p:nvSpPr>
          <p:cNvPr id="257" name="Obdélník 1"/>
          <p:cNvSpPr/>
          <p:nvPr/>
        </p:nvSpPr>
        <p:spPr>
          <a:xfrm>
            <a:off x="3419640" y="6588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photochemistry.wordpress.com/tag/jablonski-diagra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842-669E-4F53-8025-720AFCD520E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A91-D141-4C48-B615-B9E472116C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23920" y="647640"/>
            <a:ext cx="8696160" cy="5562720"/>
          </a:xfrm>
          <a:prstGeom prst="rect">
            <a:avLst/>
          </a:prstGeom>
          <a:ln w="0">
            <a:noFill/>
          </a:ln>
        </p:spPr>
      </p:pic>
      <p:sp>
        <p:nvSpPr>
          <p:cNvPr id="264" name="Přímá spojnice 3"/>
          <p:cNvSpPr/>
          <p:nvPr/>
        </p:nvSpPr>
        <p:spPr>
          <a:xfrm>
            <a:off x="1116000" y="4437000"/>
            <a:ext cx="77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78760" cy="93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4757760" y="1341360"/>
            <a:ext cx="3645000" cy="2374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395280" y="1503360"/>
            <a:ext cx="3441600" cy="34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3403440" cy="36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5"/>
          <a:stretch/>
        </p:blipFill>
        <p:spPr>
          <a:xfrm>
            <a:off x="395280" y="3840120"/>
            <a:ext cx="8107200" cy="812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6"/>
          <a:stretch/>
        </p:blipFill>
        <p:spPr>
          <a:xfrm>
            <a:off x="1692360" y="4676760"/>
            <a:ext cx="6035760" cy="480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"/>
          <p:cNvPicPr/>
          <p:nvPr/>
        </p:nvPicPr>
        <p:blipFill>
          <a:blip r:embed="rId7"/>
          <a:stretch/>
        </p:blipFill>
        <p:spPr>
          <a:xfrm>
            <a:off x="306360" y="5300640"/>
            <a:ext cx="8196120" cy="1120680"/>
          </a:xfrm>
          <a:prstGeom prst="rect">
            <a:avLst/>
          </a:prstGeom>
          <a:ln w="0">
            <a:noFill/>
          </a:ln>
        </p:spPr>
      </p:pic>
      <p:cxnSp>
        <p:nvCxnSpPr>
          <p:cNvPr id="273" name="Přímá spojnice se šipkou 2"/>
          <p:cNvCxnSpPr/>
          <p:nvPr/>
        </p:nvCxnSpPr>
        <p:spPr>
          <a:xfrm flipH="1">
            <a:off x="4363560" y="3212640"/>
            <a:ext cx="1721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F417-EA3C-47D3-8A04-A2A01202E90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BCC-FF14-4B7D-9FF3-B9757BF6E1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ovéPole 1"/>
          <p:cNvSpPr/>
          <p:nvPr/>
        </p:nvSpPr>
        <p:spPr>
          <a:xfrm>
            <a:off x="611280" y="162864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EMICKÉ REAKTORY - PDF Free Download (docplayer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emická kinetika (N403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c. Lidmila Bartovská a prof. Petr Slaví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ol-termreak02_78725.pdf (upce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D7BB-5509-400A-AF85-27AFD9242F0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E04-5788-4A49-8FAC-46AC11F9714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71360" y="404640"/>
            <a:ext cx="8753400" cy="239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6840" y="3409920"/>
            <a:ext cx="882792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1042920" y="59500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419760" y="2335320"/>
            <a:ext cx="25290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7"/>
          <p:cNvSpPr/>
          <p:nvPr/>
        </p:nvSpPr>
        <p:spPr>
          <a:xfrm>
            <a:off x="492480" y="5084640"/>
            <a:ext cx="26312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ý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ovéPole 8"/>
          <p:cNvSpPr/>
          <p:nvPr/>
        </p:nvSpPr>
        <p:spPr>
          <a:xfrm>
            <a:off x="5053320" y="5516640"/>
            <a:ext cx="316152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měna konc. Chemickopu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AAC-711D-4EBF-9ECF-19E522D9EAE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495720" y="1773360"/>
            <a:ext cx="2751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ná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ovéPole 5"/>
          <p:cNvSpPr/>
          <p:nvPr/>
        </p:nvSpPr>
        <p:spPr>
          <a:xfrm>
            <a:off x="898920" y="2776680"/>
            <a:ext cx="2913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elementu 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E746-8ECC-4025-9188-F68C114290E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5"/>
          <p:cNvSpPr/>
          <p:nvPr/>
        </p:nvSpPr>
        <p:spPr>
          <a:xfrm>
            <a:off x="6390720" y="3357720"/>
            <a:ext cx="20534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prostor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EE7-1358-4229-97C3-19CAD08084D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1A9A-EC0F-4849-84A4-1FD227CAC45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  <p:sp>
        <p:nvSpPr>
          <p:cNvPr id="170" name="Přímá spojnice 3"/>
          <p:cNvSpPr/>
          <p:nvPr/>
        </p:nvSpPr>
        <p:spPr>
          <a:xfrm>
            <a:off x="1979640" y="5877000"/>
            <a:ext cx="6775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římá spojnice 5"/>
          <p:cNvSpPr/>
          <p:nvPr/>
        </p:nvSpPr>
        <p:spPr>
          <a:xfrm>
            <a:off x="369720" y="6165720"/>
            <a:ext cx="2257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tudent</cp:lastModifiedBy>
  <dcterms:modified xsi:type="dcterms:W3CDTF">2021-04-04T16:56:15Z</dcterms:modified>
  <cp:revision>46</cp:revision>
  <dc:subject/>
  <dc:title>Prezentace aplikace PowerPoint</dc:title>
</cp:coreProperties>
</file>