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3C5C-BF3E-4560-BE60-7C6A3F45C1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B73-1504-4F13-86C3-AADAA15E7DE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CD3-E58C-41CD-8C4F-8155732B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6C8-5A51-4602-AFB0-7725613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5B0-80F0-4B98-8466-B6C5A5A3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396-334F-4073-85C9-6D6501DB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8842-7A00-4C98-9BA2-2C434918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456-2DA4-4E7B-A7B6-4D2196E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7AB-3989-4DFE-A6C3-AACF9E50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E6E6-1023-4DE0-841D-53B9567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2329-260B-40B6-B386-80925B7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455-F97A-4FD9-8FC9-237D495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F0F-7408-4059-A497-46409B4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865-4CD5-410F-B82D-4C36480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4A7-A875-4772-8DC0-E2F6E19A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E56D-0BB6-4B02-97D9-FFF4DFF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4743-5072-473A-A039-2AC90BAD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B360-46DD-4638-807A-07B37F7B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3AE9-4B32-4295-B19E-9856F737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887-30B7-4DEC-86C3-41F8CB9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F83-1823-4301-9147-99F60BBA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7B0-CAF1-45EA-A291-AD88E66A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6BB-01F6-4CF2-BD59-945074D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E94-2438-40A0-B608-FE97AAD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B33-2320-4F5B-89BC-AEF972B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175-1332-44D7-848C-AA6F090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9D66-6CA4-4D98-9C52-F69C3E7704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67A9-A8CC-4395-A747-026693D2634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f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03T10:04:29Z</dcterms:modified>
  <cp:revision>151</cp:revision>
  <dc:subject/>
  <dc:title>C6730 Fázové rovnováhy</dc:title>
</cp:coreProperties>
</file>