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37AD-B577-434E-9BF1-08EC367294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6044-87BD-473B-9577-25583CA2DBE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090-D6D7-482A-BA1D-07B20900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6B9-A084-4CA2-BDFB-20BFCB2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D10-EAA2-4605-B760-33D5B495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B33-E0E0-40F6-9CAC-E611FDD2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5E0-127B-4A8C-9955-38A6A843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B99A-27C9-4231-A2E2-68C374A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CE8-156E-4797-94B4-816B6833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2E5C-B038-4EF5-A2E7-6FBF6172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82D-0A64-45A1-A8E0-D3648E5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742A-F228-4A86-B0E3-0F24C4DD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B310-01AB-4E6F-B9BA-558A29F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843-8E0F-42B7-A82E-4D144E77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4491-46F0-455E-A054-52C34AA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D9B-8E33-4EE6-995A-B12CAE6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5DA-5FF3-4B81-8770-AA10FDB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96A-B12C-465C-AC71-E003EB0A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2E50-A1D0-4C32-B03E-A81827CE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EC8-805D-4A96-A355-6178CDA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99D-CC56-4FEF-8DED-4AF81B4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3A8-DF88-4526-8382-7A35D3B8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430-EAE3-4A9A-B6B1-A6C73184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10B-6CB8-40AF-8DCC-BE6C03D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4FA-5782-45CF-B2C1-D64DBFD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BB6-993F-454D-A5AB-8148C40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C7E-0541-4E80-A70D-8BD5D7CB77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433-EED6-428F-9012-8F239FB7AF2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f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03T10:04:29Z</dcterms:modified>
  <cp:revision>151</cp:revision>
  <dc:subject/>
  <dc:title>C6730 Fázové rovnováhy</dc:title>
</cp:coreProperties>
</file>