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BA5B-5AAD-4F80-BCE7-1C7529E8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B87C-198E-457D-A9DC-939D05B3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A5AD-D901-4AF4-815D-26E3B530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DB50-2456-4E32-A081-0342E3EA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7677-2E01-42E9-A715-79DD6B13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FE3E-25DA-41F8-BC80-4DEABCDC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A819-3CD7-4635-A9B7-53EE8B46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A07F-B2E5-49D3-9578-0F6E98BF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671A-B588-4EF4-A4EF-8A1AA9D2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4C8C-43C2-4DB6-8FF8-3DC7208C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00C8-B95B-44D6-BADD-B67E3595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7E56-6DC4-4817-804D-F78F6829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9A83-F66F-44C6-A281-8EDE0E5B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A88A-D6A5-4DBE-B991-8F6E9E3D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9598-25B9-495B-A8E5-4452AD9E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EDD1-BF9E-4F89-8C20-2065A1DD6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35F1-E07B-463E-BA7F-22BDC60DB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1BF7-61B5-4A27-AA5F-60B5718F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9E49-3780-484D-BA3E-ECB7EC38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2E0B-087E-49E0-9687-798B857B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8BAF-6D5A-4DBD-BD70-B38FF9F8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419A-943D-45D2-B9E2-7332293B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5556-7C20-4597-8625-AA284FFB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86BB-E3EC-49F3-91DA-E42711E6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D5B0-CE49-465C-A0B6-52564F4E426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B64C-75A8-4010-8676-6609D89FF5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jergym.hiedu.cz/~canovm/mechanic/pravidl2/haber/haber.html" TargetMode="External"/><Relationship Id="rId2" Type="http://schemas.openxmlformats.org/officeDocument/2006/relationships/hyperlink" Target="http://www.jergym.hiedu.cz/~canovm/mechanic/pravidl2/haber/haber.html" TargetMode="External"/><Relationship Id="rId3" Type="http://schemas.openxmlformats.org/officeDocument/2006/relationships/hyperlink" Target="http://www.jergym.hiedu.cz/~canovm/mechanic/pravidl2/haber/haber.html" TargetMode="External"/><Relationship Id="rId4" Type="http://schemas.openxmlformats.org/officeDocument/2006/relationships/hyperlink" Target="http://www.jergym.hiedu.cz/~canovm/mechanic/pravidl2/haber/haber.html" TargetMode="External"/><Relationship Id="rId5" Type="http://schemas.openxmlformats.org/officeDocument/2006/relationships/hyperlink" Target="http://www.jergym.hiedu.cz/~canovm/mechanic/pravidl2/haber/haber.html" TargetMode="External"/><Relationship Id="rId6" Type="http://schemas.openxmlformats.org/officeDocument/2006/relationships/hyperlink" Target="http://www.jergym.hiedu.cz/~canovm/mechanic/pravidl2/haber/haber.html" TargetMode="External"/><Relationship Id="rId7" Type="http://schemas.openxmlformats.org/officeDocument/2006/relationships/hyperlink" Target="http://www.jergym.hiedu.cz/~canovm/mechanic/pravidl2/haber/haber.html" TargetMode="External"/><Relationship Id="rId8" Type="http://schemas.openxmlformats.org/officeDocument/2006/relationships/hyperlink" Target="http://www.jergym.hiedu.cz/~canovm/mechanic/pravidl2/haber/haber.html" TargetMode="External"/><Relationship Id="rId9" Type="http://schemas.openxmlformats.org/officeDocument/2006/relationships/hyperlink" Target="http://www.jergym.hiedu.cz/~canovm/mechanic/pravidl2/haber/haber.html" TargetMode="External"/><Relationship Id="rId10" Type="http://schemas.openxmlformats.org/officeDocument/2006/relationships/hyperlink" Target="http://www.jergym.hiedu.cz/~canovm/mechanic/pravidl2/haber/haber.html" TargetMode="External"/><Relationship Id="rId11" Type="http://schemas.openxmlformats.org/officeDocument/2006/relationships/hyperlink" Target="http://www.jergym.hiedu.cz/~canovm/mechanic/pravidl2/haber/haber.html" TargetMode="External"/><Relationship Id="rId12" Type="http://schemas.openxmlformats.org/officeDocument/2006/relationships/hyperlink" Target="http://www.jergym.hiedu.cz/~canovm/mechanic/pravidl2/haber/haber.html" TargetMode="External"/><Relationship Id="rId13" Type="http://schemas.openxmlformats.org/officeDocument/2006/relationships/hyperlink" Target="http://www.jergym.hiedu.cz/~canovm/mechanic/pravidl2/haber/haber.html" TargetMode="External"/><Relationship Id="rId14" Type="http://schemas.openxmlformats.org/officeDocument/2006/relationships/hyperlink" Target="http://www.jergym.hiedu.cz/~canovm/mechanic/pravidl2/haber/haber.html" TargetMode="External"/><Relationship Id="rId15" Type="http://schemas.openxmlformats.org/officeDocument/2006/relationships/hyperlink" Target="http://www.jergym.hiedu.cz/~canovm/mechanic/pravidl2/haber/haber.html" TargetMode="External"/><Relationship Id="rId16" Type="http://schemas.openxmlformats.org/officeDocument/2006/relationships/hyperlink" Target="http://www.jergym.hiedu.cz/~canovm/mechanic/pravidl2/haber/haber.html" TargetMode="External"/><Relationship Id="rId17" Type="http://schemas.openxmlformats.org/officeDocument/2006/relationships/hyperlink" Target="http://dl.cuni.cz/cuni/mod/resource/view.php?id=9459" TargetMode="External"/><Relationship Id="rId18" Type="http://schemas.openxmlformats.org/officeDocument/2006/relationships/hyperlink" Target="http://dl.cuni.cz/cuni/mod/resource/view.php?id=9459" TargetMode="External"/><Relationship Id="rId19" Type="http://schemas.openxmlformats.org/officeDocument/2006/relationships/hyperlink" Target="http://dl.cuni.cz/cuni/mod/resource/view.php?id=9459" TargetMode="External"/><Relationship Id="rId20" Type="http://schemas.openxmlformats.org/officeDocument/2006/relationships/hyperlink" Target="http://dl.cuni.cz/cuni/mod/resource/view.php?id=9459" TargetMode="External"/><Relationship Id="rId21" Type="http://schemas.openxmlformats.org/officeDocument/2006/relationships/hyperlink" Target="http://dl.cuni.cz/cuni/mod/resource/view.php?id=9459" TargetMode="External"/><Relationship Id="rId22" Type="http://schemas.openxmlformats.org/officeDocument/2006/relationships/hyperlink" Target="http://dl.cuni.cz/cuni/mod/resource/view.php?id=9459" TargetMode="External"/><Relationship Id="rId23" Type="http://schemas.openxmlformats.org/officeDocument/2006/relationships/hyperlink" Target="http://dl.cuni.cz/cuni/mod/resource/view.php?id=9459" TargetMode="External"/><Relationship Id="rId24" Type="http://schemas.openxmlformats.org/officeDocument/2006/relationships/hyperlink" Target="http://dl.cuni.cz/cuni/mod/resource/view.php?id=9459" TargetMode="External"/><Relationship Id="rId25" Type="http://schemas.openxmlformats.org/officeDocument/2006/relationships/hyperlink" Target="http://dl.cuni.cz/cuni/mod/resource/view.php?id=9459" TargetMode="External"/><Relationship Id="rId26" Type="http://schemas.openxmlformats.org/officeDocument/2006/relationships/hyperlink" Target="http://dl.cuni.cz/cuni/mod/resource/view.php?id=9459" TargetMode="External"/><Relationship Id="rId27" Type="http://schemas.openxmlformats.org/officeDocument/2006/relationships/hyperlink" Target="http://dl.cuni.cz/cuni/mod/resource/view.php?id=9459" TargetMode="External"/><Relationship Id="rId28" Type="http://schemas.openxmlformats.org/officeDocument/2006/relationships/hyperlink" Target="http://dl.cuni.cz/cuni/mod/resource/view.php?id=9459" TargetMode="External"/><Relationship Id="rId29" Type="http://schemas.openxmlformats.org/officeDocument/2006/relationships/hyperlink" Target="http://dl.cuni.cz/cuni/mod/resource/view.php?id=9459" TargetMode="External"/><Relationship Id="rId30" Type="http://schemas.openxmlformats.org/officeDocument/2006/relationships/hyperlink" Target="http://dl.cuni.cz/cuni/mod/resource/view.php?id=9459" TargetMode="External"/><Relationship Id="rId31" Type="http://schemas.openxmlformats.org/officeDocument/2006/relationships/hyperlink" Target="http://dl.cuni.cz/cuni/mod/resource/view.php?id=9459" TargetMode="External"/><Relationship Id="rId32" Type="http://schemas.openxmlformats.org/officeDocument/2006/relationships/hyperlink" Target="http://dl.cuni.cz/cuni/mod/resource/view.php?id=9459" TargetMode="External"/><Relationship Id="rId33" Type="http://schemas.openxmlformats.org/officeDocument/2006/relationships/hyperlink" Target="http://dl.cuni.cz/cuni/mod/resource/view.php?id=9459" TargetMode="External"/><Relationship Id="rId34" Type="http://schemas.openxmlformats.org/officeDocument/2006/relationships/hyperlink" Target="http://www.jergym.hiedu.cz/~canovm/mechanic/pravidl2.html" TargetMode="External"/><Relationship Id="rId35" Type="http://schemas.openxmlformats.org/officeDocument/2006/relationships/hyperlink" Target="http://www.jergym.hiedu.cz/~canovm/mechanic/pravidl2.html" TargetMode="External"/><Relationship Id="rId36" Type="http://schemas.openxmlformats.org/officeDocument/2006/relationships/hyperlink" Target="http://www.jergym.hiedu.cz/~canovm/mechanic/pravidl2.html" TargetMode="External"/><Relationship Id="rId37" Type="http://schemas.openxmlformats.org/officeDocument/2006/relationships/hyperlink" Target="http://www.jergym.hiedu.cz/~canovm/mechanic/pravidl2.html" TargetMode="External"/><Relationship Id="rId38" Type="http://schemas.openxmlformats.org/officeDocument/2006/relationships/hyperlink" Target="http://www.jergym.hiedu.cz/~canovm/mechanic/pravidl2.html" TargetMode="External"/><Relationship Id="rId39" Type="http://schemas.openxmlformats.org/officeDocument/2006/relationships/hyperlink" Target="http://www.jergym.hiedu.cz/~canovm/mechanic/pravidl2.html" TargetMode="External"/><Relationship Id="rId40" Type="http://schemas.openxmlformats.org/officeDocument/2006/relationships/hyperlink" Target="http://www.jergym.hiedu.cz/~canovm/mechanic/pravidl2.html" TargetMode="External"/><Relationship Id="rId41" Type="http://schemas.openxmlformats.org/officeDocument/2006/relationships/hyperlink" Target="http://www.jergym.hiedu.cz/~canovm/mechanic/pravidl2.html" TargetMode="External"/><Relationship Id="rId42" Type="http://schemas.openxmlformats.org/officeDocument/2006/relationships/hyperlink" Target="http://www.jergym.hiedu.cz/~canovm/mechanic/pravidl2.html" TargetMode="External"/><Relationship Id="rId43" Type="http://schemas.openxmlformats.org/officeDocument/2006/relationships/hyperlink" Target="http://www.jergym.hiedu.cz/~canovm/mechanic/pravidl2.html" TargetMode="External"/><Relationship Id="rId44" Type="http://schemas.openxmlformats.org/officeDocument/2006/relationships/hyperlink" Target="http://www.jergym.hiedu.cz/~canovm/mechanic/pravidl2.html" TargetMode="External"/><Relationship Id="rId45" Type="http://schemas.openxmlformats.org/officeDocument/2006/relationships/hyperlink" Target="http://www.jergym.hiedu.cz/~canovm/mechanic/pravidl2.html" TargetMode="External"/><Relationship Id="rId4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ber-Boshova syntéza amoniaku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aneb počátek blahoby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2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F782-C29F-47F2-A3A3-AA5CAD992C1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kazy na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belova cena (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6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7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8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0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1"/>
              </a:rPr>
              <a:t>/pravidl2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2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4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6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ce výroby NH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: 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7"/>
              </a:rPr>
              <a:t>http:/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8"/>
              </a:rPr>
              <a:t>dl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0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2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4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5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6"/>
              </a:rPr>
              <a:t>mod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7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8"/>
              </a:rPr>
              <a:t>resource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0"/>
              </a:rPr>
              <a:t>view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2"/>
              </a:rPr>
              <a:t>php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3"/>
              </a:rPr>
              <a:t>?id=945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odkazy na významné reakce organických chem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4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5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6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7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8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9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0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1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2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3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4"/>
              </a:rPr>
              <a:t>/pravidl2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5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4E1A-ED42-4E2B-9D2C-B24C9FAD57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on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yntéza amoniaku ze syntézní směsi N2 a H2 probíhá katalytickou reakcí při vysokém tlaku a teplotě (20-100 kPa, 500) podle rovnice: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2 + 3H2 --------&gt; 2 NH3 + 46,05 kJ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obený amoniak může být používán k přímému hnojení, nebo je výchozí surovinou pro výrobu kyseliny dusičné, ledků, močoviny, N roztoků, vícesložkových hnojiv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dusíkatých hnojiv je energeticky náročná. Na výrobu 1 kg čistého N v hnojivu je zapotřebí podle druhu použité technologie 1,5 i více litrů nafty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B2FC-DF85-406C-9AF8-D7D7C8E0D3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28:48Z</dcterms:modified>
  <cp:revision>22</cp:revision>
  <dc:subject/>
  <dc:title>Prezentace aplikace PowerPoint</dc:title>
</cp:coreProperties>
</file>