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07D3-D3EC-4DC8-841E-D4829FEBA57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280A-DA73-4EE0-80F0-31BC2FE62B9C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0508-5DDC-41F0-A7C6-4E5724386C8A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BBD1-774F-4C3E-A208-899B341DD768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3352-184B-4AA2-84B3-42F7264EAC5A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6FB4-0432-42A5-BA1D-0CCD97326418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360E-5AA5-4FAD-BD86-7B88AC08C515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BF78-B3DE-4A8E-B885-A1EA9B5B9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D2F1-E955-4602-A193-C2AB73DA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F5D8-AEFF-459E-A859-1808676F3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DD4B-5C38-4511-ADC2-2F818249F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415D-42AB-422A-8B70-DFBE86176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76B7-6C4D-422B-9538-01BE36D8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9A80-E431-49AC-AB17-77AC651A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D29C-D32A-4564-AE6F-8571E867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A041-9004-4E23-A135-4AFA5310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7C5B-901A-47F2-BEAE-56D3E46D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79ED-1648-4A31-B65A-348A64D3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5FFA-E25C-41FC-AF9E-D40B369C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964E-34AF-4AC0-A2B1-5CB24987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162E-29AD-4FE3-AB19-CD4DAC28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9086-64D8-4A6B-8EBB-A0F43EEB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2B18-A064-4963-B753-420FDB4A8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EBD7-12A8-49DF-8170-878C72EBA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0A1D-72A5-43C4-9F05-ED02EBCD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2A74-9560-4658-B804-753DECA6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8AC9-A7C8-4150-B76F-13696505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A3F0-3826-4699-93DF-A8EA4763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1BCB-62A1-421A-BE66-3C53B402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E06D-ABA8-4CEA-8EC8-B48BCD66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DEF9-2151-49F6-9C6C-337223B0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1027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1028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1029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1030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1031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1032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1033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034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035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036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037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038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039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040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041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042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043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1044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1045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1046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1047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1048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1049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1050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1051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1052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1053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1054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1055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1056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1057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1058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1059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1060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1061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1062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1063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1064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1065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1066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1067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1068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1069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1070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1071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1072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1073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1074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1075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1076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1077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1078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1079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1080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1081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1082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1083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1084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1085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1086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1087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1088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1089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1090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1091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1092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1093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1094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1095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1096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1097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1098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1099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1100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1101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1102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1103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1104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1105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1106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1107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1108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1109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1110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1111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1112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1113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1114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1115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1116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1117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1118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1119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1120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1121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1122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1123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1124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1125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126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127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128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129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130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7091-8A76-4A31-89A1-8BCC52628125}" type="slidenum">
              <a:rPr b="0" lang="cs-CZ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026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1027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1028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1029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1030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1031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1032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1033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1034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1035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1036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1037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1038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1039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1040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1041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1042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1043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1044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1045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1046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1047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1048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1049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1050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1051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1052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1053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1054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1055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1056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1057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1058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1059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1060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1061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1062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1063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1064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1065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1066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1067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1068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1069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1070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1071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1072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1073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1074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1075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1076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1077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1078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1079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1080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1081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1082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1083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1084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1085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1086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1087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1088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1089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1090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1091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1092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1093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1094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1095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1096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1097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1098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1099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1100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1101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1102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1103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1104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1105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1106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1107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1108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1109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1110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1111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1112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1113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1114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1115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1116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1117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1118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1119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1120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1121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1122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1123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1124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1125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1126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1132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1133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A715-CFFE-427F-B6FE-BC81F0544019}" type="slidenum">
              <a:rPr b="0" lang="cs-CZ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jchemed.chem.wisc.edu/JCEWWW/Features/eChemists/Bios/Menten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C6320 Chemical kinetics: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History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ArialNarrow"/>
              </a:rPr>
              <a:t>Ref: "The World of Physical Chemistry," by K. J. Laidler, Oxford Univ. Press, 1993)</a:t>
            </a:r>
            <a:br>
              <a:rPr sz="1600"/>
            </a:b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850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50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Wilhelmy (Germany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studied the rate of inversion of sucrose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(hydrolysis into D-(+)-glucose and D-(-)-fructose in the presence of an acid) and found it to be proportional to the concentrations of both the sugar and the acid. (viz experimentální úloha v praktiku fyzikální chemie)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64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Guldberg and Waage (Norway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formulated their "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law of mass action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," according to which the reaction "forces" are proportional to the product of the concentrations of the reactants: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K=[R]r [S]s/([A]a [B]b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where a, b, r and s are the stoichiometric coefficients in the chemical equation A+B=R+S. So the rate of the forward reaction is proportional to [A]a [B]b and that of the reverse reaction is proportional to {R]r [S]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65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Harcourt and Esson (UK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analyzed the reactions between H2O2 and HI and between KMnO4 and (COOH)2.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They wrote the corresponding differential equations, integrated them and determined the concentration vs. time relationships.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They also proposed an equation for the temperature dependence of the reaction rate, k = A TC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4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van't Hoff (The Netherlands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published his "Studies of Chemical Dynamics" (Études de dynamique chimique), in which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he generalized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and further developed the work of Wilhelmy (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sacharoza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Harcourt and Esson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. In particular, he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introduced the differential method of analysis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. He also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analyzed the temperature dependence of the equilibrium constant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(now called the "van't Hoff equation") and of forward and reverse reaction rate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7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Ostwald (Germany; Latvia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introduces the terms "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reaction order" and "half-life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" in his "Lehrbuch der allgemeinen Chemie.„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9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Arrhenius (Sweden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further analyzed the temperature dependence of reaction rate,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k = A exp(-B/T),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and gave it an "energy barrier" interpretation; this is now called the "Arrhenius equation."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Miss Menten (Maude Lenora Menten, *1879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Michaelis-Menten equation (1912),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nzyme kinetics (Professor 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at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79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years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 age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3" name="Picture 8" descr="http://employees.csbsju.edu/hjakubowski/classes/ch331/transkinetics/Menten.GIF"/>
          <p:cNvPicPr/>
          <p:nvPr/>
        </p:nvPicPr>
        <p:blipFill>
          <a:blip r:embed="rId1"/>
          <a:stretch/>
        </p:blipFill>
        <p:spPr>
          <a:xfrm>
            <a:off x="4572000" y="2133720"/>
            <a:ext cx="3429000" cy="4022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Termodynamik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5" name="Picture 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53452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280" y="60912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ummary of findings from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37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ummary of findings from history. Many concepts and ideas encountered in chemical kinetics has long been known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Getting some kinetic information is very demanding (reaction mechanisms, reaction coordinate, ...)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odern kinetics is interdisciplinary (biochemical kinetics, molecular dynamics, quantum chemistry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Literatu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609480" y="1828800"/>
            <a:ext cx="7620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otable women and men of science 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jchemed.chem.wisc.edu/JCEWWW/Features/eChemists/Bios/Menten.html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opousek</dc:creator>
  <dc:description/>
  <dc:language>en-US</dc:language>
  <cp:lastModifiedBy>sopousek</cp:lastModifiedBy>
  <dcterms:modified xsi:type="dcterms:W3CDTF">2014-02-19T16:42:42Z</dcterms:modified>
  <cp:revision>24</cp:revision>
  <dc:subject/>
  <dc:title>Prezentace aplikace PowerPoint</dc:title>
</cp:coreProperties>
</file>