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D4C-7625-404E-A243-2A2F6305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928-A706-41B7-BB34-5E1827C7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FD0-EDA0-48C9-AD11-B41DBB0B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65A-4548-4121-A073-AA2562A5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0BE-B7FF-4C94-995E-2994272D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EB8-7B57-45A8-B2E2-3819BC39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79C-F5DC-4E93-8773-17FB1812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E9F-9074-430F-85C5-4248323C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9B8-FF1A-46AF-9FE0-BAB94F49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B28-0AC9-4ADA-92D5-C4ECC9F0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0D9-796D-4AC1-9D14-BBB6F527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D7E-1D67-4CCC-8154-F1F96735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F5FC-2DAC-482B-9284-13C8DF5665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26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rate low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598320" y="1628640"/>
            <a:ext cx="670752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TextovéPole 5" descr=""/>
          <p:cNvPicPr/>
          <p:nvPr/>
        </p:nvPicPr>
        <p:blipFill>
          <a:blip r:embed="rId2"/>
          <a:stretch/>
        </p:blipFill>
        <p:spPr>
          <a:xfrm>
            <a:off x="4065480" y="2981160"/>
            <a:ext cx="24876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029000" y="3025800"/>
            <a:ext cx="1867680" cy="9169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…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…ligh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…bio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6" descr="http://img.youtube.com/vi/nZiOyVElo-s/0.jpg"/>
          <p:cNvPicPr/>
          <p:nvPr/>
        </p:nvPicPr>
        <p:blipFill>
          <a:blip r:embed="rId1"/>
          <a:stretch/>
        </p:blipFill>
        <p:spPr>
          <a:xfrm>
            <a:off x="4416480" y="129384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ate lo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Picture 34" descr="http://www.chemguide.co.uk/physical/basicrates/reqnab1.gif"/>
          <p:cNvPicPr/>
          <p:nvPr/>
        </p:nvPicPr>
        <p:blipFill>
          <a:blip r:embed="rId2"/>
          <a:stretch/>
        </p:blipFill>
        <p:spPr>
          <a:xfrm>
            <a:off x="352440" y="2852640"/>
            <a:ext cx="6154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52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  <p:cxnSp>
        <p:nvCxnSpPr>
          <p:cNvPr id="63" name="Přímá spojnice se šipkou 2"/>
          <p:cNvCxnSpPr/>
          <p:nvPr/>
        </p:nvCxnSpPr>
        <p:spPr>
          <a:xfrm>
            <a:off x="2615760" y="2754000"/>
            <a:ext cx="35964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sp>
        <p:nvSpPr>
          <p:cNvPr id="64" name="Přímá spojnice 4"/>
          <p:cNvSpPr/>
          <p:nvPr/>
        </p:nvSpPr>
        <p:spPr>
          <a:xfrm flipV="1">
            <a:off x="684360" y="4941360"/>
            <a:ext cx="8208720" cy="14292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7"/>
          <p:cNvSpPr/>
          <p:nvPr/>
        </p:nvSpPr>
        <p:spPr>
          <a:xfrm flipV="1">
            <a:off x="0" y="5373720"/>
            <a:ext cx="3780000" cy="7128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30:08Z</dcterms:modified>
  <cp:revision>109</cp:revision>
  <dc:subject/>
  <dc:title>Soustava</dc:title>
</cp:coreProperties>
</file>