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28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5520-DB4D-4C8A-99C7-85F3691B1E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FE64-C54C-4C84-A4D6-C2CA15A20C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25A-DBF4-4BF1-B89C-07946BED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E95-67C4-4C89-AE4A-5099EE60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695-094B-4A20-A22B-4F2A12A2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EF9-C260-4FCE-870A-899A7E69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E568-D584-41B8-B00D-B5B46822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FDC1-D78B-4611-9B20-82D814A2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E679-F32B-4AFC-9596-01BD1193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CACF-954F-4DB1-8847-CBB0737C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12BD-C0D5-44A2-A8F3-E0738D1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B691-488E-4150-BA6D-0631E07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15D4-A746-440A-BED9-AF5D8429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1E4-5E0F-4B2F-9FF3-7CA63F34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42EC-DB80-41F3-A6DD-13D27B5C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9EFD-493C-4A44-A144-B66A4D8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AFEC-BC3B-46BD-BCE1-01E9B276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BC7C-CCED-44D0-99C4-0325B0DA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AF8C-8A9E-4A00-93F6-1148B2F3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F76C9-174A-4B3D-945B-79F75431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D359-5CBA-4DFA-8EBC-CC8ECB84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1CE2-C16F-44BD-99FF-2CF41324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672E-7BFE-4C94-BBFC-D33D586D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B0E2C-D82D-49BA-9105-C4CFE2D4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9C5-5539-4821-9B84-3B259203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B717-16D5-4E15-87D2-A1E170E2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995E-31CA-40AD-B74D-A7B1813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FDBC-828A-4E82-869A-E425F957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B4DC-DFFC-4494-A282-DCFF6A5B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7790-25CB-44B5-9A55-3BA47E9B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E1B00-5FCA-44EA-AF26-5F810187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246CF-71DE-4CEE-A33F-23D5A979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847-6836-45D4-A499-4F4C3364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87B-F031-4547-BC8A-ADC9B51C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360-1573-4D38-BD13-67055F86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882-D5CF-472C-8B33-8ABD4EA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C56D-844E-4C49-B1BE-944FA386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43A-7DD9-4957-A793-25CCF665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0247-CA2D-4515-AC9C-F7D9BBA20FE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9B84-EA21-40F9-85BD-F93AA7A68FF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9702-E6C8-4530-97F0-ACCC8D8920D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s://www.researchgate.net/publication/259169382_Hydrogel_Preparation_characterization_and_applications_A_review/figures?lo=1" TargetMode="External"/><Relationship Id="rId3" Type="http://schemas.openxmlformats.org/officeDocument/2006/relationships/hyperlink" Target="https://www.shutterstock.com/cs/search/chemical-reactors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s://www.sciencedirect.com/science/article/pii/S1385894720307774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s://old.vscht.cz/fch/cz/pomucky/bartovska/Kin-teorie/5-Reaktory.pdf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google.cz/url?sa=i&amp;rct=j&amp;q=&amp;esrc=s&amp;source=images&amp;cd=&amp;cad=rja&amp;uact=8&amp;ved=0ahUKEwjCjc3D9IzTAhXGVxoKHd9hDnIQjRwIBw&amp;url=http%3A%2F%2Fphotobiology.info%2FNonell_Viappiani.html&amp;bvm=bv.151426398,d.d2s&amp;psig=AFQjCNEPwj2frNU5aCN35aKaaIzrGljllQ&amp;ust=1491467736771369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s://www.google.cz/url?sa=i&amp;rct=j&amp;q=&amp;esrc=s&amp;source=images&amp;cd=&amp;cad=rja&amp;uact=8&amp;ved=0ahUKEwjr5rzq9YzTAhWP0RoKHVwaAHsQjRwIBw&amp;url=https%3A%2F%2Fphotochemistry.wordpress.com%2Ftag%2Fjablonski-diagram%2F&amp;bvm=bv.151426398,d.d2s&amp;psig=AFQjCNEORTja9wHzmQSwV-5h3FPHshTE_w&amp;ust=1491468058310657" TargetMode="External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é reak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0B0E-0B7E-442B-960D-B7448CC137B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5370-90AB-4B13-A99A-E6DD8D1618C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33280" y="1109520"/>
            <a:ext cx="8677440" cy="46389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5378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konale promíchávaný průtokový reak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CAFD-13B7-4B1A-9F6A-9AEAEEF3A77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28680" y="333360"/>
            <a:ext cx="8486640" cy="5657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16080" y="5925960"/>
            <a:ext cx="870552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Přímá spojnice 5"/>
          <p:cNvSpPr/>
          <p:nvPr/>
        </p:nvSpPr>
        <p:spPr>
          <a:xfrm>
            <a:off x="611280" y="981000"/>
            <a:ext cx="806436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římá spojnice 9"/>
          <p:cNvSpPr/>
          <p:nvPr/>
        </p:nvSpPr>
        <p:spPr>
          <a:xfrm flipV="1">
            <a:off x="328680" y="1197000"/>
            <a:ext cx="834696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římá spojnice 11"/>
          <p:cNvSpPr/>
          <p:nvPr/>
        </p:nvSpPr>
        <p:spPr>
          <a:xfrm>
            <a:off x="468360" y="1557360"/>
            <a:ext cx="42004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5811840" y="2276640"/>
            <a:ext cx="3181320" cy="39996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18"/>
          <p:cNvSpPr/>
          <p:nvPr/>
        </p:nvSpPr>
        <p:spPr>
          <a:xfrm>
            <a:off x="6389280" y="4869000"/>
            <a:ext cx="19422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dotyk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B01D-C2DF-4237-8F02-AB4200A6862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25360" y="433440"/>
            <a:ext cx="8763120" cy="5991120"/>
          </a:xfrm>
          <a:prstGeom prst="rect">
            <a:avLst/>
          </a:prstGeom>
          <a:ln w="0">
            <a:noFill/>
          </a:ln>
        </p:spPr>
      </p:pic>
      <p:sp>
        <p:nvSpPr>
          <p:cNvPr id="187" name="Přímá spojnice 3"/>
          <p:cNvSpPr/>
          <p:nvPr/>
        </p:nvSpPr>
        <p:spPr>
          <a:xfrm>
            <a:off x="3851280" y="981000"/>
            <a:ext cx="48974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římá spojnice 5"/>
          <p:cNvSpPr/>
          <p:nvPr/>
        </p:nvSpPr>
        <p:spPr>
          <a:xfrm>
            <a:off x="225360" y="1197000"/>
            <a:ext cx="852336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5800680" y="3133800"/>
            <a:ext cx="3191040" cy="428400"/>
          </a:xfrm>
          <a:prstGeom prst="rect">
            <a:avLst/>
          </a:prstGeom>
          <a:ln w="0">
            <a:noFill/>
          </a:ln>
        </p:spPr>
      </p:pic>
      <p:cxnSp>
        <p:nvCxnSpPr>
          <p:cNvPr id="190" name="Přímá spojnice se šipkou 7"/>
          <p:cNvCxnSpPr/>
          <p:nvPr/>
        </p:nvCxnSpPr>
        <p:spPr>
          <a:xfrm flipV="1">
            <a:off x="5579640" y="3561840"/>
            <a:ext cx="1080360" cy="58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B999-3A7F-4FA2-8FA7-CD8237F91DB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71360" y="614520"/>
            <a:ext cx="8801280" cy="562896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967680" y="152280"/>
            <a:ext cx="688644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ětná poznámka s problémem u trubkového reakto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chnology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252B-9D84-4D3C-93F6-72B692A244B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Obrázek 4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3714840" cy="4368960"/>
          </a:xfrm>
          <a:prstGeom prst="rect">
            <a:avLst/>
          </a:prstGeom>
          <a:ln w="0">
            <a:noFill/>
          </a:ln>
        </p:spPr>
      </p:pic>
      <p:sp>
        <p:nvSpPr>
          <p:cNvPr id="198" name="Obdélník 5"/>
          <p:cNvSpPr/>
          <p:nvPr/>
        </p:nvSpPr>
        <p:spPr>
          <a:xfrm>
            <a:off x="404640" y="5892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(15) (PDF) Hydrogel: Preparation, characterization, and applications: A review (researchgate.n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bdélník 6"/>
          <p:cNvSpPr/>
          <p:nvPr/>
        </p:nvSpPr>
        <p:spPr>
          <a:xfrm>
            <a:off x="4941720" y="1386000"/>
            <a:ext cx="34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11 878 chemical reactors Snímků, stock fotografií a vektorů | Shutter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Obrázek 7" descr=""/>
          <p:cNvPicPr/>
          <p:nvPr/>
        </p:nvPicPr>
        <p:blipFill>
          <a:blip r:embed="rId4"/>
          <a:stretch/>
        </p:blipFill>
        <p:spPr>
          <a:xfrm>
            <a:off x="4572000" y="2490840"/>
            <a:ext cx="42102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B41E-A418-4E21-B464-61A28F6E802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diabatic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https://ars.els-cdn.com/content/image/1-s2.0-S1385894720307774-gr1.jpg"/>
          <p:cNvPicPr/>
          <p:nvPr/>
        </p:nvPicPr>
        <p:blipFill>
          <a:blip r:embed="rId1"/>
          <a:stretch/>
        </p:blipFill>
        <p:spPr>
          <a:xfrm>
            <a:off x="193680" y="1557360"/>
            <a:ext cx="4670280" cy="2854440"/>
          </a:xfrm>
          <a:prstGeom prst="rect">
            <a:avLst/>
          </a:prstGeom>
          <a:ln w="0">
            <a:noFill/>
          </a:ln>
        </p:spPr>
      </p:pic>
      <p:sp>
        <p:nvSpPr>
          <p:cNvPr id="204" name="Obdélník 4"/>
          <p:cNvSpPr/>
          <p:nvPr/>
        </p:nvSpPr>
        <p:spPr>
          <a:xfrm>
            <a:off x="179280" y="50846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Adiabatic plasma-catalytic reactor configuration: Energy efficiency enhancement by plasma and thermal synergies on CO2 methanation - Science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Obrázek 5" descr=""/>
          <p:cNvPicPr/>
          <p:nvPr/>
        </p:nvPicPr>
        <p:blipFill>
          <a:blip r:embed="rId3"/>
          <a:stretch/>
        </p:blipFill>
        <p:spPr>
          <a:xfrm>
            <a:off x="907920" y="4549680"/>
            <a:ext cx="3114720" cy="409680"/>
          </a:xfrm>
          <a:prstGeom prst="rect">
            <a:avLst/>
          </a:prstGeom>
          <a:ln w="0">
            <a:noFill/>
          </a:ln>
        </p:spPr>
      </p:pic>
      <p:sp>
        <p:nvSpPr>
          <p:cNvPr id="206" name="TextovéPole 6"/>
          <p:cNvSpPr/>
          <p:nvPr/>
        </p:nvSpPr>
        <p:spPr>
          <a:xfrm>
            <a:off x="4919760" y="1417680"/>
            <a:ext cx="3539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riments were carried out using 300 mg of Ni-C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A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catalyst, which was placed in the plasma region and immobilized with glass wool. Prior to reaction, catalyst was in-situ reduced under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Ar mixture (Abelló Linde, 95% Ar and 5%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with a flow rate of 150 mL·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at 450 °C for 3 h and a heating ramp of 7.5 °C·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For the methanation reaction, a stoichiometric mixture o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= 4:1 (Abelló Linde) was introduced into the reactor with a constant gas flow rate, in the range of 0.2–1 L·m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esulting in a gas hour space velocities (GHSV) of 40,000–200,000 mL·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·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−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cade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8487-AE31-49B5-9DBF-239AE74A570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Obrázek 5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6095880" cy="303876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6"/>
          <p:cNvSpPr/>
          <p:nvPr/>
        </p:nvSpPr>
        <p:spPr>
          <a:xfrm>
            <a:off x="457200" y="4711680"/>
            <a:ext cx="59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zřejmé, že z obou alternativ vyhovuje požadavku maximálního výkonu kaskáda dvou reakto_x0002_rů, jejíž celkový objem je pouze 181,82 dm3 , zatímco objem jediného reaktoru potřebný k dosažení stejného stupně přeměny by byl 1000 dm3 . Výkon kaskády je 5,5 krát vyšší než vý_x0002_kon samostatného reaktoru. Kaskáda má maximální výkon jsou-li oba reaktory stejně velk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bdélník 7"/>
          <p:cNvSpPr/>
          <p:nvPr/>
        </p:nvSpPr>
        <p:spPr>
          <a:xfrm>
            <a:off x="6955200" y="50497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5 (vscht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laxační metody stanovení rychlostní konstanty rea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90F2-60A3-42A5-BF51-A7C8124FC14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" descr="http://chemwiki.ucdavis.edu/@api/deki/files/17502/relaxation.png?size=bestfit&amp;width=395&amp;height=308&amp;revision=1"/>
          <p:cNvPicPr/>
          <p:nvPr/>
        </p:nvPicPr>
        <p:blipFill>
          <a:blip r:embed="rId1"/>
          <a:stretch/>
        </p:blipFill>
        <p:spPr>
          <a:xfrm>
            <a:off x="900000" y="2060640"/>
            <a:ext cx="5832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C9AD-FF4C-4662-AD82-08E55219996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848720" cy="6524640"/>
          </a:xfrm>
          <a:prstGeom prst="rect">
            <a:avLst/>
          </a:prstGeom>
          <a:ln w="0">
            <a:noFill/>
          </a:ln>
        </p:spPr>
      </p:pic>
      <p:sp>
        <p:nvSpPr>
          <p:cNvPr id="218" name="Obdélník 1"/>
          <p:cNvSpPr/>
          <p:nvPr/>
        </p:nvSpPr>
        <p:spPr>
          <a:xfrm>
            <a:off x="6213960" y="1341360"/>
            <a:ext cx="19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=1.3×10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s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de-DE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BD88-ACF1-40BE-96C7-D73E24CB2CA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98360" y="404640"/>
            <a:ext cx="8705880" cy="2076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217440" y="2781360"/>
            <a:ext cx="8820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52B8-3E8D-424D-BDD9-7947B84F42A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74720" y="196920"/>
            <a:ext cx="75945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7D18-4C43-4B0F-9C18-32A80614839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62000" y="1197000"/>
            <a:ext cx="8858160" cy="4057560"/>
          </a:xfrm>
          <a:prstGeom prst="rect">
            <a:avLst/>
          </a:prstGeom>
          <a:ln w="0">
            <a:noFill/>
          </a:ln>
        </p:spPr>
      </p:pic>
      <p:sp>
        <p:nvSpPr>
          <p:cNvPr id="226" name="Přímá spojnice 3"/>
          <p:cNvSpPr/>
          <p:nvPr/>
        </p:nvSpPr>
        <p:spPr>
          <a:xfrm>
            <a:off x="5796000" y="184464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římá spojnice 5"/>
          <p:cNvSpPr/>
          <p:nvPr/>
        </p:nvSpPr>
        <p:spPr>
          <a:xfrm>
            <a:off x="4591080" y="2133720"/>
            <a:ext cx="214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bdélník 6"/>
          <p:cNvSpPr/>
          <p:nvPr/>
        </p:nvSpPr>
        <p:spPr>
          <a:xfrm>
            <a:off x="3492360" y="2637000"/>
            <a:ext cx="2303640" cy="36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bdélník 8"/>
          <p:cNvSpPr/>
          <p:nvPr/>
        </p:nvSpPr>
        <p:spPr>
          <a:xfrm>
            <a:off x="2268360" y="4221000"/>
            <a:ext cx="4572000" cy="648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2922480" y="5373720"/>
            <a:ext cx="2584440" cy="1298520"/>
          </a:xfrm>
          <a:prstGeom prst="rect">
            <a:avLst/>
          </a:prstGeom>
          <a:ln w="0">
            <a:noFill/>
          </a:ln>
        </p:spPr>
      </p:pic>
      <p:sp>
        <p:nvSpPr>
          <p:cNvPr id="231" name="TextovéPole 9"/>
          <p:cNvSpPr/>
          <p:nvPr/>
        </p:nvSpPr>
        <p:spPr>
          <a:xfrm>
            <a:off x="404280" y="5780160"/>
            <a:ext cx="235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islost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=f(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93680" y="549360"/>
            <a:ext cx="8950320" cy="5340240"/>
          </a:xfrm>
          <a:prstGeom prst="rect">
            <a:avLst/>
          </a:prstGeom>
          <a:ln w="0">
            <a:noFill/>
          </a:ln>
        </p:spPr>
      </p:pic>
      <p:sp>
        <p:nvSpPr>
          <p:cNvPr id="234" name="TextovéPole 1"/>
          <p:cNvSpPr/>
          <p:nvPr/>
        </p:nvSpPr>
        <p:spPr>
          <a:xfrm>
            <a:off x="1280880" y="5848200"/>
            <a:ext cx="64137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relaxační křivka má tvar jako u kinetiky 1.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ovéPole 1"/>
          <p:cNvSpPr/>
          <p:nvPr/>
        </p:nvSpPr>
        <p:spPr>
          <a:xfrm>
            <a:off x="5910120" y="3933720"/>
            <a:ext cx="3240360" cy="85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2,71828 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i="1" lang="cs-CZ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=0,367879   tj. relaxační doba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je čas za který poklesne </a:t>
            </a:r>
            <a:r>
              <a:rPr b="0" i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 cca 37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03C6-CC43-472B-9BD7-8A0606A06B1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66680" y="952560"/>
            <a:ext cx="8810640" cy="4952880"/>
          </a:xfrm>
          <a:prstGeom prst="rect">
            <a:avLst/>
          </a:prstGeom>
          <a:ln w="0">
            <a:noFill/>
          </a:ln>
        </p:spPr>
      </p:pic>
      <p:sp>
        <p:nvSpPr>
          <p:cNvPr id="239" name="Přímá spojnice 3"/>
          <p:cNvSpPr/>
          <p:nvPr/>
        </p:nvSpPr>
        <p:spPr>
          <a:xfrm>
            <a:off x="6227640" y="3357720"/>
            <a:ext cx="25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římá spojnice 6"/>
          <p:cNvSpPr/>
          <p:nvPr/>
        </p:nvSpPr>
        <p:spPr>
          <a:xfrm>
            <a:off x="395280" y="3645000"/>
            <a:ext cx="792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bdélník 9"/>
          <p:cNvSpPr/>
          <p:nvPr/>
        </p:nvSpPr>
        <p:spPr>
          <a:xfrm>
            <a:off x="395280" y="4941720"/>
            <a:ext cx="8582040" cy="963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FA36-7017-4CC3-A70E-2A3C4598711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47600" y="309600"/>
            <a:ext cx="8848800" cy="6238800"/>
          </a:xfrm>
          <a:prstGeom prst="rect">
            <a:avLst/>
          </a:prstGeom>
          <a:ln w="0">
            <a:noFill/>
          </a:ln>
        </p:spPr>
      </p:pic>
      <p:sp>
        <p:nvSpPr>
          <p:cNvPr id="245" name="TextovéPole 1"/>
          <p:cNvSpPr/>
          <p:nvPr/>
        </p:nvSpPr>
        <p:spPr>
          <a:xfrm>
            <a:off x="8548920" y="297000"/>
            <a:ext cx="315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ovéPole 5"/>
          <p:cNvSpPr/>
          <p:nvPr/>
        </p:nvSpPr>
        <p:spPr>
          <a:xfrm>
            <a:off x="6815520" y="1792440"/>
            <a:ext cx="1838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6778800" y="2496960"/>
            <a:ext cx="115236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CDD1-96D7-4EF2-89BA-9E5D0740369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57240" y="357120"/>
            <a:ext cx="9029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D24C-99B7-45FB-84FB-28677A4F23B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531200" cy="6270840"/>
          </a:xfrm>
          <a:prstGeom prst="rect">
            <a:avLst/>
          </a:prstGeom>
          <a:ln w="0">
            <a:noFill/>
          </a:ln>
        </p:spPr>
      </p:pic>
      <p:sp>
        <p:nvSpPr>
          <p:cNvPr id="254" name="TextovéPole 1"/>
          <p:cNvSpPr/>
          <p:nvPr/>
        </p:nvSpPr>
        <p:spPr>
          <a:xfrm>
            <a:off x="6443640" y="2924280"/>
            <a:ext cx="2376360" cy="166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né rychlostní Konstanty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k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platné pro teplotu na kterou se soustava ohřá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CE16-079D-4B69-B9F6-4A508137E79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09440" y="333360"/>
            <a:ext cx="8925120" cy="1895400"/>
          </a:xfrm>
          <a:prstGeom prst="rect">
            <a:avLst/>
          </a:prstGeom>
          <a:ln w="0">
            <a:noFill/>
          </a:ln>
        </p:spPr>
      </p:pic>
      <p:sp>
        <p:nvSpPr>
          <p:cNvPr id="258" name="TextovéPole 1"/>
          <p:cNvSpPr/>
          <p:nvPr/>
        </p:nvSpPr>
        <p:spPr>
          <a:xfrm>
            <a:off x="6036120" y="1085760"/>
            <a:ext cx="22165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př.: HAc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+Ac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bdélník 3"/>
          <p:cNvSpPr/>
          <p:nvPr/>
        </p:nvSpPr>
        <p:spPr>
          <a:xfrm>
            <a:off x="6804000" y="4548240"/>
            <a:ext cx="2052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chem.libretexts.org/Core/Physical_and_Theoretical_Chemistry/Kinetics/Experimental_Methods/Resolving_Kinetics%3A_Faster_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7" descr="https://chem.libretexts.org/@api/deki/files/17505/shocktube.png?revision=1&amp;size=bestfit&amp;width=439&amp;height=312"/>
          <p:cNvPicPr/>
          <p:nvPr/>
        </p:nvPicPr>
        <p:blipFill>
          <a:blip r:embed="rId2"/>
          <a:stretch/>
        </p:blipFill>
        <p:spPr>
          <a:xfrm>
            <a:off x="673200" y="2708280"/>
            <a:ext cx="56275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1FF4-6227-402D-AE83-9BDDDB0DD40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23840" y="260280"/>
            <a:ext cx="8896320" cy="6058080"/>
          </a:xfrm>
          <a:prstGeom prst="rect">
            <a:avLst/>
          </a:prstGeom>
          <a:ln w="0">
            <a:noFill/>
          </a:ln>
        </p:spPr>
      </p:pic>
      <p:sp>
        <p:nvSpPr>
          <p:cNvPr id="264" name="Obdélník 1"/>
          <p:cNvSpPr/>
          <p:nvPr/>
        </p:nvSpPr>
        <p:spPr>
          <a:xfrm>
            <a:off x="250920" y="1268280"/>
            <a:ext cx="8497800" cy="129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římá spojnice 4"/>
          <p:cNvSpPr/>
          <p:nvPr/>
        </p:nvSpPr>
        <p:spPr>
          <a:xfrm>
            <a:off x="4140360" y="2276640"/>
            <a:ext cx="43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římá spojnice 6"/>
          <p:cNvSpPr/>
          <p:nvPr/>
        </p:nvSpPr>
        <p:spPr>
          <a:xfrm>
            <a:off x="250920" y="2492280"/>
            <a:ext cx="6481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alší metody studia rychlých reak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10840" cy="2838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Výsledek obrázku pro &quot;laser photolysis&quot; metho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508640"/>
            <a:ext cx="4464000" cy="1911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Výsledek obrázku pro flash photolysis excitation absorpt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251240"/>
            <a:ext cx="3755880" cy="233676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419640" y="6588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photochemistry.wordpress.com/tag/jablonski-diagra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CF15-6E9D-450B-AED8-C6148CD600B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90360" y="223920"/>
            <a:ext cx="896328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0E5-B0D9-4D0A-A57B-C09E1189E92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95120" y="260280"/>
            <a:ext cx="8753760" cy="84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73160" y="1413000"/>
            <a:ext cx="8629560" cy="293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assignmenthelp.net/assignment_help/images/chemical-engineering/plug-flow-reactor.png"/>
          <p:cNvPicPr/>
          <p:nvPr/>
        </p:nvPicPr>
        <p:blipFill>
          <a:blip r:embed="rId3"/>
          <a:stretch/>
        </p:blipFill>
        <p:spPr>
          <a:xfrm>
            <a:off x="2195640" y="4106880"/>
            <a:ext cx="3744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0977-42A2-4B67-BDED-94092A9BA56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24000" y="422280"/>
            <a:ext cx="8696160" cy="5562720"/>
          </a:xfrm>
          <a:prstGeom prst="rect">
            <a:avLst/>
          </a:prstGeom>
          <a:ln w="0">
            <a:noFill/>
          </a:ln>
        </p:spPr>
      </p:pic>
      <p:sp>
        <p:nvSpPr>
          <p:cNvPr id="278" name="Přímá spojnice 3"/>
          <p:cNvSpPr/>
          <p:nvPr/>
        </p:nvSpPr>
        <p:spPr>
          <a:xfrm>
            <a:off x="1116000" y="4437000"/>
            <a:ext cx="770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bdélník 1"/>
          <p:cNvSpPr/>
          <p:nvPr/>
        </p:nvSpPr>
        <p:spPr>
          <a:xfrm>
            <a:off x="468360" y="59500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MR – Nukleární Magnetická Rezonance – Web o chemii, elektronice a programování (z-moravec.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078760" cy="936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4757760" y="1341360"/>
            <a:ext cx="3645000" cy="2374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3"/>
          <a:stretch/>
        </p:blipFill>
        <p:spPr>
          <a:xfrm>
            <a:off x="395280" y="1503360"/>
            <a:ext cx="3441600" cy="34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"/>
          <p:cNvPicPr/>
          <p:nvPr/>
        </p:nvPicPr>
        <p:blipFill>
          <a:blip r:embed="rId4"/>
          <a:stretch/>
        </p:blipFill>
        <p:spPr>
          <a:xfrm>
            <a:off x="468360" y="1844640"/>
            <a:ext cx="3403440" cy="360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"/>
          <p:cNvPicPr/>
          <p:nvPr/>
        </p:nvPicPr>
        <p:blipFill>
          <a:blip r:embed="rId5"/>
          <a:stretch/>
        </p:blipFill>
        <p:spPr>
          <a:xfrm>
            <a:off x="395280" y="3840120"/>
            <a:ext cx="8107200" cy="812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6"/>
          <a:stretch/>
        </p:blipFill>
        <p:spPr>
          <a:xfrm>
            <a:off x="1692360" y="4676760"/>
            <a:ext cx="6035760" cy="480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"/>
          <p:cNvPicPr/>
          <p:nvPr/>
        </p:nvPicPr>
        <p:blipFill>
          <a:blip r:embed="rId7"/>
          <a:stretch/>
        </p:blipFill>
        <p:spPr>
          <a:xfrm>
            <a:off x="306360" y="5300640"/>
            <a:ext cx="8196120" cy="1120680"/>
          </a:xfrm>
          <a:prstGeom prst="rect">
            <a:avLst/>
          </a:prstGeom>
          <a:ln w="0">
            <a:noFill/>
          </a:ln>
        </p:spPr>
      </p:pic>
      <p:cxnSp>
        <p:nvCxnSpPr>
          <p:cNvPr id="288" name="Přímá spojnice se šipkou 2"/>
          <p:cNvCxnSpPr/>
          <p:nvPr/>
        </p:nvCxnSpPr>
        <p:spPr>
          <a:xfrm flipH="1">
            <a:off x="4363560" y="3212640"/>
            <a:ext cx="172152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03F6-F382-4396-8E1E-504C6A6AC92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3404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4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0A12-75B1-491E-9105-3716A99EAB2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ovéPole 1"/>
          <p:cNvSpPr/>
          <p:nvPr/>
        </p:nvSpPr>
        <p:spPr>
          <a:xfrm>
            <a:off x="706320" y="1700280"/>
            <a:ext cx="69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obně zpracovaná teorie reaktor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kaz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HEMICKÉ REAKTORY - PDF Free Download (docplayer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emická kinetika (N403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oc. Lidmila Bartovská a prof. Petr Slavíč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příklady reaktorů v průmysl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ol-termreak02_78725.pdf (upce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chnická řešení a mikroreakt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0 (upol.c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C3C7-0AD4-46D3-9540-F3F823D56FA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23920" y="138240"/>
            <a:ext cx="86961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číslo snímku 3"/>
          <p:cNvSpPr/>
          <p:nvPr/>
        </p:nvSpPr>
        <p:spPr>
          <a:xfrm>
            <a:off x="6489720" y="646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C886-CCF6-43D3-B0DD-CB831B76D58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08000" y="509760"/>
            <a:ext cx="8753400" cy="239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90360" y="3157560"/>
            <a:ext cx="8828280" cy="210672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1"/>
          <p:cNvSpPr/>
          <p:nvPr/>
        </p:nvSpPr>
        <p:spPr>
          <a:xfrm>
            <a:off x="388800" y="5549760"/>
            <a:ext cx="69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kud v dV nebude probíhat chemická reakce pak platí že se koncentrace na výtoku nezm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ovéPole 1"/>
          <p:cNvSpPr/>
          <p:nvPr/>
        </p:nvSpPr>
        <p:spPr>
          <a:xfrm>
            <a:off x="356400" y="2440080"/>
            <a:ext cx="252900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ovéPole 7"/>
          <p:cNvSpPr/>
          <p:nvPr/>
        </p:nvSpPr>
        <p:spPr>
          <a:xfrm>
            <a:off x="389160" y="4924440"/>
            <a:ext cx="26312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výto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ovéPole 8"/>
          <p:cNvSpPr/>
          <p:nvPr/>
        </p:nvSpPr>
        <p:spPr>
          <a:xfrm>
            <a:off x="5046840" y="5264280"/>
            <a:ext cx="316152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měna konc. Chemickopu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BB04-C806-4E2F-9340-11C9FB02753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24000" y="149400"/>
            <a:ext cx="8496000" cy="655920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4"/>
          <p:cNvSpPr/>
          <p:nvPr/>
        </p:nvSpPr>
        <p:spPr>
          <a:xfrm>
            <a:off x="495720" y="1773360"/>
            <a:ext cx="2751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mol s-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aná reakc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ovéPole 5"/>
          <p:cNvSpPr/>
          <p:nvPr/>
        </p:nvSpPr>
        <p:spPr>
          <a:xfrm>
            <a:off x="898920" y="2776680"/>
            <a:ext cx="291348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elková změna n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 elementu 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5625-FDF1-4384-803D-CF5C13612D9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7320" y="260280"/>
            <a:ext cx="8829360" cy="37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38040" y="4041720"/>
            <a:ext cx="8648640" cy="280044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5"/>
          <p:cNvSpPr/>
          <p:nvPr/>
        </p:nvSpPr>
        <p:spPr>
          <a:xfrm>
            <a:off x="6390720" y="3357720"/>
            <a:ext cx="2053440" cy="37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/Q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prostorový č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51B-C57E-4966-8019-38914FC6F5C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648180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8476-3662-49B7-A909-E97F2B154A2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69720" y="620640"/>
            <a:ext cx="8420400" cy="410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44520" y="5084640"/>
            <a:ext cx="8410680" cy="1200240"/>
          </a:xfrm>
          <a:prstGeom prst="rect">
            <a:avLst/>
          </a:prstGeom>
          <a:ln w="0">
            <a:noFill/>
          </a:ln>
        </p:spPr>
      </p:pic>
      <p:sp>
        <p:nvSpPr>
          <p:cNvPr id="170" name="Přímá spojnice 3"/>
          <p:cNvSpPr/>
          <p:nvPr/>
        </p:nvSpPr>
        <p:spPr>
          <a:xfrm>
            <a:off x="1979640" y="5877000"/>
            <a:ext cx="6775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římá spojnice 5"/>
          <p:cNvSpPr/>
          <p:nvPr/>
        </p:nvSpPr>
        <p:spPr>
          <a:xfrm>
            <a:off x="369720" y="6165720"/>
            <a:ext cx="22575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Jiří Sopoušek</cp:lastModifiedBy>
  <dcterms:modified xsi:type="dcterms:W3CDTF">2023-03-27T13:39:56Z</dcterms:modified>
  <cp:revision>56</cp:revision>
  <dc:subject/>
  <dc:title>Prezentace aplikace PowerPoint</dc:title>
</cp:coreProperties>
</file>