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CF3B-0559-4CAF-AA50-4B3E725ECC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38EC-C88E-464E-9ADB-EFBBF883B6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847-49B5-4988-B9D0-34F1CC2C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018-B63B-4782-8736-DE3456EF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17D-7DBE-41B2-8A6F-D699956E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8DB-FFD6-45EE-883C-C6E325C8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D3F-B071-445A-B457-B8F4182B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8EE-BB6C-48AC-AB20-5904394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6471-7AB1-426D-ADF8-C68C51A4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61B1-7AA4-49ED-9501-6E33C50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8E9B-E35B-49ED-996A-C8AE4F24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0391-FA30-4FE2-AE42-5AE2CD4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96D5-1385-46B9-A539-8D49E1D6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49A-48CC-43C7-834B-E5744987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236B-26CC-45BD-B1AB-2884FBBF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34F4-FB3B-445E-AB45-743E8E4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C016-AE2F-4621-80A2-8B5F782A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13C0-9733-4D90-8178-5B01DBA6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A99B-5180-4B43-A985-8A8AC281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2E27-5F91-40E9-9B58-30F4EC16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EC1B-D2C9-42AC-A6AB-F216E6FA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71EE-7034-4B4A-8E71-48C9F02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7F92-477F-40FE-843C-71C93F6C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635F-5694-45C6-A9A9-D32405B9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927-1C39-4F15-85C3-5A46E9F1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22CD-A74E-464A-B5EB-0CBFB84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3B5D-7DF4-4962-BE7D-477084ED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42E1-D458-4268-A009-11D7107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E790-D537-489C-9966-773D8EE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3024-0FE5-43F3-AE11-D732D9F8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0B24-884E-406E-AE38-61FC64FA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7744-2890-4F34-AA76-9D06B966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C21-B1A3-44D1-9330-644C91F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F3C-002D-4598-9B6D-32CC039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E5D-298F-412C-AF4D-A13C3D3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DB5-9125-4850-B376-D3AF306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FA0-C343-49D1-A414-550907B5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904-CEF2-48FD-83A3-47F2402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84E6-FE10-40C0-9EDE-04881A85969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F256-DFC8-4A49-8988-DECDD952FA7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93C-1A9C-4953-A539-A81E1496C63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s://www.researchgate.net/publication/259169382_Hydrogel_Preparation_characterization_and_applications_A_review/figures?lo=1" TargetMode="External"/><Relationship Id="rId3" Type="http://schemas.openxmlformats.org/officeDocument/2006/relationships/hyperlink" Target="https://www.shutterstock.com/cs/search/chemical-reactors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s://www.sciencedirect.com/science/article/pii/S1385894720307774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s://old.vscht.cz/fch/cz/pomucky/bartovska/Kin-teorie/5-Reaktory.pdf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google.cz/url?sa=i&amp;rct=j&amp;q=&amp;esrc=s&amp;source=images&amp;cd=&amp;cad=rja&amp;uact=8&amp;ved=0ahUKEwjCjc3D9IzTAhXGVxoKHd9hDnIQjRwIBw&amp;url=http%3A%2F%2Fphotobiology.info%2FNonell_Viappiani.html&amp;bvm=bv.151426398,d.d2s&amp;psig=AFQjCNEPwj2frNU5aCN35aKaaIzrGljllQ&amp;ust=1491467736771369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s://www.google.cz/url?sa=i&amp;rct=j&amp;q=&amp;esrc=s&amp;source=images&amp;cd=&amp;cad=rja&amp;uact=8&amp;ved=0ahUKEwjr5rzq9YzTAhWP0RoKHVwaAHsQjRwIBw&amp;url=https%3A%2F%2Fphotochemistry.wordpress.com%2Ftag%2Fjablonski-diagram%2F&amp;bvm=bv.151426398,d.d2s&amp;psig=AFQjCNEORTja9wHzmQSwV-5h3FPHshTE_w&amp;ust=1491468058310657" TargetMode="External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F10-3B25-4ADB-A0B5-B5FD4863AAB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D45C-B7D0-47A6-9336-80D85EBDA17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4D3-ABE8-4C0E-9C10-DA9AEAC3871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Přímá spojnice 5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římá spojnice 9"/>
          <p:cNvSpPr/>
          <p:nvPr/>
        </p:nvSpPr>
        <p:spPr>
          <a:xfrm flipV="1">
            <a:off x="328680" y="1197000"/>
            <a:ext cx="83469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římá spojnice 11"/>
          <p:cNvSpPr/>
          <p:nvPr/>
        </p:nvSpPr>
        <p:spPr>
          <a:xfrm>
            <a:off x="468360" y="1557360"/>
            <a:ext cx="4200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811840" y="2276640"/>
            <a:ext cx="318132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18"/>
          <p:cNvSpPr/>
          <p:nvPr/>
        </p:nvSpPr>
        <p:spPr>
          <a:xfrm>
            <a:off x="6389280" y="4869000"/>
            <a:ext cx="19422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dotyk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5D04-9662-49A8-839D-84E7D7E3753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763120" cy="5991120"/>
          </a:xfrm>
          <a:prstGeom prst="rect">
            <a:avLst/>
          </a:prstGeom>
          <a:ln w="0">
            <a:noFill/>
          </a:ln>
        </p:spPr>
      </p:pic>
      <p:sp>
        <p:nvSpPr>
          <p:cNvPr id="187" name="Přímá spojnice 3"/>
          <p:cNvSpPr/>
          <p:nvPr/>
        </p:nvSpPr>
        <p:spPr>
          <a:xfrm>
            <a:off x="3851280" y="981000"/>
            <a:ext cx="4897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římá spojnice 5"/>
          <p:cNvSpPr/>
          <p:nvPr/>
        </p:nvSpPr>
        <p:spPr>
          <a:xfrm>
            <a:off x="225360" y="1197000"/>
            <a:ext cx="8523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800680" y="3133800"/>
            <a:ext cx="3191040" cy="428400"/>
          </a:xfrm>
          <a:prstGeom prst="rect">
            <a:avLst/>
          </a:prstGeom>
          <a:ln w="0">
            <a:noFill/>
          </a:ln>
        </p:spPr>
      </p:pic>
      <p:cxnSp>
        <p:nvCxnSpPr>
          <p:cNvPr id="190" name="Přímá spojnice se šipkou 7"/>
          <p:cNvCxnSpPr/>
          <p:nvPr/>
        </p:nvCxnSpPr>
        <p:spPr>
          <a:xfrm flipV="1">
            <a:off x="5579640" y="3561840"/>
            <a:ext cx="1080360" cy="58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DB77-23D6-440E-AE7C-359620C55CB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967680" y="152280"/>
            <a:ext cx="68864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ětná poznámka s problémem u trubkového reakto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chnology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041E-EB09-4ED2-B51A-82E12254EE8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Obrázek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714840" cy="4368960"/>
          </a:xfrm>
          <a:prstGeom prst="rect">
            <a:avLst/>
          </a:prstGeom>
          <a:ln w="0">
            <a:noFill/>
          </a:ln>
        </p:spPr>
      </p:pic>
      <p:sp>
        <p:nvSpPr>
          <p:cNvPr id="198" name="Obdélník 5"/>
          <p:cNvSpPr/>
          <p:nvPr/>
        </p:nvSpPr>
        <p:spPr>
          <a:xfrm>
            <a:off x="404640" y="5892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(15) (PDF) Hydrogel: Preparation, characterization, and applications: A review (researchgate.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bdélník 6"/>
          <p:cNvSpPr/>
          <p:nvPr/>
        </p:nvSpPr>
        <p:spPr>
          <a:xfrm>
            <a:off x="4941720" y="138600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11 878 chemical reactors Snímků, stock fotografií a vektorů | Shutter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Obrázek 7" descr=""/>
          <p:cNvPicPr/>
          <p:nvPr/>
        </p:nvPicPr>
        <p:blipFill>
          <a:blip r:embed="rId4"/>
          <a:stretch/>
        </p:blipFill>
        <p:spPr>
          <a:xfrm>
            <a:off x="4572000" y="2490840"/>
            <a:ext cx="42102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EEE-AC22-4FC1-B4D0-E0501AD8F12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diabatic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https://ars.els-cdn.com/content/image/1-s2.0-S1385894720307774-gr1.jpg"/>
          <p:cNvPicPr/>
          <p:nvPr/>
        </p:nvPicPr>
        <p:blipFill>
          <a:blip r:embed="rId1"/>
          <a:stretch/>
        </p:blipFill>
        <p:spPr>
          <a:xfrm>
            <a:off x="193680" y="1557360"/>
            <a:ext cx="4670280" cy="285444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4"/>
          <p:cNvSpPr/>
          <p:nvPr/>
        </p:nvSpPr>
        <p:spPr>
          <a:xfrm>
            <a:off x="179280" y="5084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Adiabatic plasma-catalytic reactor configuration: Energy efficiency enhancement by plasma and thermal synergies on CO2 methanation - Scienc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rázek 5" descr=""/>
          <p:cNvPicPr/>
          <p:nvPr/>
        </p:nvPicPr>
        <p:blipFill>
          <a:blip r:embed="rId3"/>
          <a:stretch/>
        </p:blipFill>
        <p:spPr>
          <a:xfrm>
            <a:off x="907920" y="4549680"/>
            <a:ext cx="3114720" cy="409680"/>
          </a:xfrm>
          <a:prstGeom prst="rect">
            <a:avLst/>
          </a:prstGeom>
          <a:ln w="0">
            <a:noFill/>
          </a:ln>
        </p:spPr>
      </p:pic>
      <p:sp>
        <p:nvSpPr>
          <p:cNvPr id="206" name="TextovéPole 6"/>
          <p:cNvSpPr/>
          <p:nvPr/>
        </p:nvSpPr>
        <p:spPr>
          <a:xfrm>
            <a:off x="4919760" y="1417680"/>
            <a:ext cx="3539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s were carried out using 300 mg of Ni-C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catalyst, which was placed in the plasma region and immobilized with glass wool. Prior to reaction, catalyst was in-situ reduced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r mixture (Abelló Linde, 95% Ar and 5%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with a flow rate of 150 mL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at 450 °C for 3 h and a heating ramp of 7.5 °C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For the methanation reaction, a stoichiometric mixtur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= 4:1 (Abelló Linde) was introduced into the reactor with a constant gas flow rate, in the range of 0.2–1 L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esulting in a gas hour space velocities (GHSV) of 40,000–200,000 mL·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·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cade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4E5-E06C-43EC-AB65-14CBC4F6617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rázek 5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6095880" cy="303876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6"/>
          <p:cNvSpPr/>
          <p:nvPr/>
        </p:nvSpPr>
        <p:spPr>
          <a:xfrm>
            <a:off x="457200" y="471168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zřejmé, že z obou alternativ vyhovuje požadavku maximálního výkonu kaskáda dvou reakto_x0002_rů, jejíž celkový objem je pouze 181,82 dm3 , zatímco objem jediného reaktoru potřebný k dosažení stejného stupně přeměny by byl 1000 dm3 . Výkon kaskády je 5,5 krát vyšší než vý_x0002_kon samostatného reaktoru. Kaskáda má maximální výkon jsou-li oba reaktory stejně velk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7"/>
          <p:cNvSpPr/>
          <p:nvPr/>
        </p:nvSpPr>
        <p:spPr>
          <a:xfrm>
            <a:off x="6955200" y="50497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5 (vscht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 stanovení rychlostní konstanty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9253-1020-4BA1-A77C-350DCA422EA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900000" y="2060640"/>
            <a:ext cx="5832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C38E-7AE8-4107-8DD0-6112D6707EE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  <p:sp>
        <p:nvSpPr>
          <p:cNvPr id="218" name="Obdélník 1"/>
          <p:cNvSpPr/>
          <p:nvPr/>
        </p:nvSpPr>
        <p:spPr>
          <a:xfrm>
            <a:off x="6213960" y="134136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1.3×10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BF49-4DDC-430F-9312-55DF85B3236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42F9-6DFB-4E3D-8F45-8F960B7DC42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010E-3D1F-4509-BE00-BF2A2CFD2AD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  <p:sp>
        <p:nvSpPr>
          <p:cNvPr id="226" name="Přímá spojnice 3"/>
          <p:cNvSpPr/>
          <p:nvPr/>
        </p:nvSpPr>
        <p:spPr>
          <a:xfrm>
            <a:off x="5796000" y="184464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římá spojnice 5"/>
          <p:cNvSpPr/>
          <p:nvPr/>
        </p:nvSpPr>
        <p:spPr>
          <a:xfrm>
            <a:off x="4591080" y="2133720"/>
            <a:ext cx="214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bdélník 6"/>
          <p:cNvSpPr/>
          <p:nvPr/>
        </p:nvSpPr>
        <p:spPr>
          <a:xfrm>
            <a:off x="3492360" y="2637000"/>
            <a:ext cx="230364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bdélník 8"/>
          <p:cNvSpPr/>
          <p:nvPr/>
        </p:nvSpPr>
        <p:spPr>
          <a:xfrm>
            <a:off x="2268360" y="4221000"/>
            <a:ext cx="4572000" cy="64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2922480" y="5373720"/>
            <a:ext cx="258444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9"/>
          <p:cNvSpPr/>
          <p:nvPr/>
        </p:nvSpPr>
        <p:spPr>
          <a:xfrm>
            <a:off x="404280" y="5780160"/>
            <a:ext cx="235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=f(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234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ovéPole 1"/>
          <p:cNvSpPr/>
          <p:nvPr/>
        </p:nvSpPr>
        <p:spPr>
          <a:xfrm>
            <a:off x="5910120" y="3933720"/>
            <a:ext cx="32403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2,71828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=0,367879   tj. relaxační doba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e čas za který poklesne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 cca 37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72FC-D787-469A-9FDC-095A772293B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  <p:sp>
        <p:nvSpPr>
          <p:cNvPr id="239" name="Přímá spojnice 3"/>
          <p:cNvSpPr/>
          <p:nvPr/>
        </p:nvSpPr>
        <p:spPr>
          <a:xfrm>
            <a:off x="6227640" y="3357720"/>
            <a:ext cx="25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římá spojnice 6"/>
          <p:cNvSpPr/>
          <p:nvPr/>
        </p:nvSpPr>
        <p:spPr>
          <a:xfrm>
            <a:off x="395280" y="3645000"/>
            <a:ext cx="792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bdélník 9"/>
          <p:cNvSpPr/>
          <p:nvPr/>
        </p:nvSpPr>
        <p:spPr>
          <a:xfrm>
            <a:off x="395280" y="4941720"/>
            <a:ext cx="8582040" cy="96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50C7-A877-4974-94C6-15E05D88703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  <p:sp>
        <p:nvSpPr>
          <p:cNvPr id="245" name="TextovéPole 1"/>
          <p:cNvSpPr/>
          <p:nvPr/>
        </p:nvSpPr>
        <p:spPr>
          <a:xfrm>
            <a:off x="8548920" y="297000"/>
            <a:ext cx="3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ovéPole 5"/>
          <p:cNvSpPr/>
          <p:nvPr/>
        </p:nvSpPr>
        <p:spPr>
          <a:xfrm>
            <a:off x="6815520" y="1792440"/>
            <a:ext cx="18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6778800" y="2496960"/>
            <a:ext cx="11523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733-6EC8-4152-8A2F-920E5E8E5B5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982A-A5BF-4A12-851B-9E28B0CE605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  <p:sp>
        <p:nvSpPr>
          <p:cNvPr id="254" name="TextovéPole 1"/>
          <p:cNvSpPr/>
          <p:nvPr/>
        </p:nvSpPr>
        <p:spPr>
          <a:xfrm>
            <a:off x="6443640" y="2924280"/>
            <a:ext cx="2376360" cy="16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né rychlostní Konstanty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platné pro teplotu na kterou se soustava ohřá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ACE8-0F12-4869-90B3-64BDD7421A3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1"/>
          <p:cNvSpPr/>
          <p:nvPr/>
        </p:nvSpPr>
        <p:spPr>
          <a:xfrm>
            <a:off x="6036120" y="1085760"/>
            <a:ext cx="221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ř.: HA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A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bdélník 3"/>
          <p:cNvSpPr/>
          <p:nvPr/>
        </p:nvSpPr>
        <p:spPr>
          <a:xfrm>
            <a:off x="6804000" y="4548240"/>
            <a:ext cx="205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chem.libretexts.org/Core/Physical_and_Theoretical_Chemistry/Kinetics/Experimental_Methods/Resolving_Kinetics%3A_Faster_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7" descr="https://chem.libretexts.org/@api/deki/files/17505/shocktube.png?revision=1&amp;size=bestfit&amp;width=439&amp;height=312"/>
          <p:cNvPicPr/>
          <p:nvPr/>
        </p:nvPicPr>
        <p:blipFill>
          <a:blip r:embed="rId2"/>
          <a:stretch/>
        </p:blipFill>
        <p:spPr>
          <a:xfrm>
            <a:off x="673200" y="2708280"/>
            <a:ext cx="56275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927C-A976-48D4-9533-3FFA13E3054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  <p:sp>
        <p:nvSpPr>
          <p:cNvPr id="264" name="Obdélník 1"/>
          <p:cNvSpPr/>
          <p:nvPr/>
        </p:nvSpPr>
        <p:spPr>
          <a:xfrm>
            <a:off x="250920" y="1268280"/>
            <a:ext cx="84978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římá spojnice 4"/>
          <p:cNvSpPr/>
          <p:nvPr/>
        </p:nvSpPr>
        <p:spPr>
          <a:xfrm>
            <a:off x="4140360" y="2276640"/>
            <a:ext cx="43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římá spojnice 6"/>
          <p:cNvSpPr/>
          <p:nvPr/>
        </p:nvSpPr>
        <p:spPr>
          <a:xfrm>
            <a:off x="250920" y="2492280"/>
            <a:ext cx="648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10840" cy="2838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Výsledek obrázku pro &quot;laser photolysis&quot; metho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508640"/>
            <a:ext cx="4464000" cy="191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Výsledek obrázku pro flash photolysis excitation absorp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251240"/>
            <a:ext cx="3755880" cy="233676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419640" y="6588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photochemistry.wordpress.com/tag/jablonski-diagra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9298-DC4C-4779-B703-3693B35B8E9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6F4-12B3-4CB2-BC16-1EA464DF288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D7D5-9A34-4895-A920-50757A5ABF3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24000" y="422280"/>
            <a:ext cx="8696160" cy="5562720"/>
          </a:xfrm>
          <a:prstGeom prst="rect">
            <a:avLst/>
          </a:prstGeom>
          <a:ln w="0">
            <a:noFill/>
          </a:ln>
        </p:spPr>
      </p:pic>
      <p:sp>
        <p:nvSpPr>
          <p:cNvPr id="278" name="Přímá spojnice 3"/>
          <p:cNvSpPr/>
          <p:nvPr/>
        </p:nvSpPr>
        <p:spPr>
          <a:xfrm>
            <a:off x="1116000" y="4437000"/>
            <a:ext cx="77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bdélník 1"/>
          <p:cNvSpPr/>
          <p:nvPr/>
        </p:nvSpPr>
        <p:spPr>
          <a:xfrm>
            <a:off x="468360" y="5950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MR – Nukleární Magnetická Rezonance – Web o chemii, elektronice a programování (z-moravec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78760" cy="936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4757760" y="1341360"/>
            <a:ext cx="3645000" cy="2374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3"/>
          <a:stretch/>
        </p:blipFill>
        <p:spPr>
          <a:xfrm>
            <a:off x="395280" y="1503360"/>
            <a:ext cx="3441600" cy="34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3403440" cy="360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5"/>
          <a:stretch/>
        </p:blipFill>
        <p:spPr>
          <a:xfrm>
            <a:off x="395280" y="3840120"/>
            <a:ext cx="8107200" cy="812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6"/>
          <a:stretch/>
        </p:blipFill>
        <p:spPr>
          <a:xfrm>
            <a:off x="1692360" y="4676760"/>
            <a:ext cx="6035760" cy="48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7"/>
          <a:stretch/>
        </p:blipFill>
        <p:spPr>
          <a:xfrm>
            <a:off x="306360" y="5300640"/>
            <a:ext cx="8196120" cy="1120680"/>
          </a:xfrm>
          <a:prstGeom prst="rect">
            <a:avLst/>
          </a:prstGeom>
          <a:ln w="0">
            <a:noFill/>
          </a:ln>
        </p:spPr>
      </p:pic>
      <p:cxnSp>
        <p:nvCxnSpPr>
          <p:cNvPr id="288" name="Přímá spojnice se šipkou 2"/>
          <p:cNvCxnSpPr/>
          <p:nvPr/>
        </p:nvCxnSpPr>
        <p:spPr>
          <a:xfrm flipH="1">
            <a:off x="4363560" y="3212640"/>
            <a:ext cx="17215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2BCA-07E7-4F12-A32F-88B2503EF61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4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21E4-5C64-4CC4-AD8B-89F047CF49F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ovéPole 1"/>
          <p:cNvSpPr/>
          <p:nvPr/>
        </p:nvSpPr>
        <p:spPr>
          <a:xfrm>
            <a:off x="706320" y="170028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obně zpracovaná teorie reaktor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EMICKÉ REAKTORY - PDF Free Download (docplayer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emická kinetika (N403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c. Lidmila Bartovská a prof. Petr Slaví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příklady reaktorů v průmys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ol-termreak02_78725.pdf (upce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chnická řešení a mikroreakt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0 (upol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58B-E896-4A56-AAA4-93DF055E9FA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489720" y="646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DB3-165F-4E0C-9DB6-68D632EB7FF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08000" y="509760"/>
            <a:ext cx="8753400" cy="239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0360" y="3157560"/>
            <a:ext cx="882828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388800" y="554976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ovéPole 1"/>
          <p:cNvSpPr/>
          <p:nvPr/>
        </p:nvSpPr>
        <p:spPr>
          <a:xfrm>
            <a:off x="356400" y="2440080"/>
            <a:ext cx="25290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7"/>
          <p:cNvSpPr/>
          <p:nvPr/>
        </p:nvSpPr>
        <p:spPr>
          <a:xfrm>
            <a:off x="389160" y="4924440"/>
            <a:ext cx="26312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ý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ovéPole 8"/>
          <p:cNvSpPr/>
          <p:nvPr/>
        </p:nvSpPr>
        <p:spPr>
          <a:xfrm>
            <a:off x="5046840" y="5264280"/>
            <a:ext cx="316152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měna konc. Chemickopu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1BDB-9204-4D69-876F-9BA9AF84B41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4"/>
          <p:cNvSpPr/>
          <p:nvPr/>
        </p:nvSpPr>
        <p:spPr>
          <a:xfrm>
            <a:off x="495720" y="1773360"/>
            <a:ext cx="2751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ná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ovéPole 5"/>
          <p:cNvSpPr/>
          <p:nvPr/>
        </p:nvSpPr>
        <p:spPr>
          <a:xfrm>
            <a:off x="898920" y="2776680"/>
            <a:ext cx="2913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 elementu 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086E-40B4-48D0-859C-5BCBE5C29A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5"/>
          <p:cNvSpPr/>
          <p:nvPr/>
        </p:nvSpPr>
        <p:spPr>
          <a:xfrm>
            <a:off x="6390720" y="3357720"/>
            <a:ext cx="20534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prostor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6E5C-96AF-429E-97BC-C5F13635220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735-422A-4B0D-88EC-C42F8D78AD9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  <p:sp>
        <p:nvSpPr>
          <p:cNvPr id="170" name="Přímá spojnice 3"/>
          <p:cNvSpPr/>
          <p:nvPr/>
        </p:nvSpPr>
        <p:spPr>
          <a:xfrm>
            <a:off x="1979640" y="5877000"/>
            <a:ext cx="6775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římá spojnice 5"/>
          <p:cNvSpPr/>
          <p:nvPr/>
        </p:nvSpPr>
        <p:spPr>
          <a:xfrm>
            <a:off x="369720" y="6165720"/>
            <a:ext cx="2257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Jiří Sopoušek</cp:lastModifiedBy>
  <dcterms:modified xsi:type="dcterms:W3CDTF">2023-03-27T13:39:56Z</dcterms:modified>
  <cp:revision>56</cp:revision>
  <dc:subject/>
  <dc:title>Prezentace aplikace PowerPoint</dc:title>
</cp:coreProperties>
</file>