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159-2F92-407C-8005-AAC1F36F1C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D480-2F90-44AC-876A-DD4BA8D2F6E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819-206C-4DBE-A607-4E5307D8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F23-4D40-497E-B463-9BE6ABD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B4C-A15B-4D48-9F52-33E43160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DDB-4AF3-417B-8AD6-0AF2BFBD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F300-1BF0-48AB-925F-F35D448C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B31-4B02-4DE7-8ED3-237494E2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A84F-8A67-4628-A30F-DACF641A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70A6-DC51-441F-B11C-002B23D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90B-84AD-40F6-8BD3-7EF4B81A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B42B-1731-4833-AD63-1E922BA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E481-169F-4480-BABD-20ECC52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FA5-B878-4C74-8E0A-6DFA89C7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5419-1190-4C42-8AE1-C4480F8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8CB3-8940-456C-8059-DB2785BC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C82F-C778-4F14-B723-321391AC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8EB0-B571-4C08-AB12-2B675104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303F-3698-4583-A8D6-DD67DE3B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ED0-2C26-40A5-9944-FDA2BFA1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84F-18A2-45A4-A5AE-529FF78F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C26-1C37-4AC2-ACF4-183EC23B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B61-58DE-4333-A452-A206AFF8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DCD-D9F6-44B1-A7B2-9BC7E9D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562-A5F8-4DD4-A3A7-EDE04EF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53C-5E7C-4B6E-BC96-707C12F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DD97-4F8F-45AE-AEED-2F20103555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4BA-F743-43A6-9B9D-76C4F9DF02B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Vyuka\C6320_Kinetika\Texty k p&#345;edn&#225;&#353;ce C6320\L09_Enzymy a adsorpce\Nukleove_kyseliny.pp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of. J. Sopou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755640" y="3860640"/>
            <a:ext cx="746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250920" y="2602080"/>
            <a:ext cx="3916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1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2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4686480" y="4005360"/>
            <a:ext cx="3557520" cy="155700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pevnost „zámku“ je příčinou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tikompetitivní katalýz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164520"/>
            <a:ext cx="3454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e-stady-stat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2" descr="http://3.bp.blogspot.com/-VjAGqHqBK7g/TzSuMtCy7kI/AAAAAAAAAT4/f-SwQTWJBf0/s1600/Untitled8.jpg"/>
          <p:cNvPicPr/>
          <p:nvPr/>
        </p:nvPicPr>
        <p:blipFill>
          <a:blip r:embed="rId1"/>
          <a:stretch/>
        </p:blipFill>
        <p:spPr>
          <a:xfrm>
            <a:off x="4788000" y="115920"/>
            <a:ext cx="3333600" cy="687708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3"/>
          <p:cNvCxnSpPr/>
          <p:nvPr/>
        </p:nvCxnSpPr>
        <p:spPr>
          <a:xfrm>
            <a:off x="5580000" y="155700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Přímá spojnice se šipkou 5"/>
          <p:cNvCxnSpPr/>
          <p:nvPr/>
        </p:nvCxnSpPr>
        <p:spPr>
          <a:xfrm>
            <a:off x="5076720" y="1341000"/>
            <a:ext cx="504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Přímá spojnice se šipkou 7"/>
          <p:cNvCxnSpPr/>
          <p:nvPr/>
        </p:nvCxnSpPr>
        <p:spPr>
          <a:xfrm>
            <a:off x="7524720" y="549000"/>
            <a:ext cx="5976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TextovéPole 8"/>
          <p:cNvSpPr/>
          <p:nvPr/>
        </p:nvSpPr>
        <p:spPr>
          <a:xfrm>
            <a:off x="5211000" y="87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5950080" y="10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7631640" y="3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11"/>
          <p:cNvSpPr/>
          <p:nvPr/>
        </p:nvSpPr>
        <p:spPr>
          <a:xfrm>
            <a:off x="717480" y="1844640"/>
            <a:ext cx="3024360" cy="11912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…pre-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…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….Equilibrium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5" name="Picture 12" descr="Výsledek obrázku pro steady state enzyme kinetics"/>
          <p:cNvPicPr/>
          <p:nvPr/>
        </p:nvPicPr>
        <p:blipFill>
          <a:blip r:embed="rId2"/>
          <a:stretch/>
        </p:blipFill>
        <p:spPr>
          <a:xfrm>
            <a:off x="324000" y="3141720"/>
            <a:ext cx="3543120" cy="3362400"/>
          </a:xfrm>
          <a:prstGeom prst="rect">
            <a:avLst/>
          </a:prstGeom>
          <a:ln w="0">
            <a:noFill/>
          </a:ln>
        </p:spPr>
      </p:pic>
      <p:sp>
        <p:nvSpPr>
          <p:cNvPr id="176" name="Obdélník 1"/>
          <p:cNvSpPr/>
          <p:nvPr/>
        </p:nvSpPr>
        <p:spPr>
          <a:xfrm>
            <a:off x="81000" y="6402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cbc.chem.arizona.edu/classes/bioc462/462a/NOTES/ENZYMES/enzyme_kinetics2.htm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6600" y="26028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10T11:42:08Z</dcterms:modified>
  <cp:revision>153</cp:revision>
  <dc:subject/>
  <dc:title>C6730 Fázové rovnováhy</dc:title>
</cp:coreProperties>
</file>