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9.jpeg" ContentType="image/jpeg"/>
  <Override PartName="/ppt/media/image11.jpeg" ContentType="image/jpeg"/>
  <Override PartName="/ppt/media/image13.wmf" ContentType="image/x-wmf"/>
  <Override PartName="/ppt/media/image5.png" ContentType="image/png"/>
  <Override PartName="/ppt/media/image2.gif" ContentType="image/gif"/>
  <Override PartName="/ppt/media/image8.wmf" ContentType="image/x-wmf"/>
  <Override PartName="/ppt/media/image6.jpeg" ContentType="image/jpeg"/>
  <Override PartName="/ppt/media/image4.jpeg" ContentType="image/jpeg"/>
  <Override PartName="/ppt/media/image10.wmf" ContentType="image/x-wmf"/>
  <Override PartName="/ppt/media/image3.jpeg" ContentType="image/jpeg"/>
  <Override PartName="/ppt/media/image15.png" ContentType="image/png"/>
  <Override PartName="/ppt/media/image1.png" ContentType="image/png"/>
  <Override PartName="/ppt/media/image27.png" ContentType="image/png"/>
  <Override PartName="/ppt/media/image26.wmf" ContentType="image/x-wmf"/>
  <Override PartName="/ppt/media/image25.wmf" ContentType="image/x-wmf"/>
  <Override PartName="/ppt/media/image17.jpeg" ContentType="image/jpeg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png" ContentType="image/png"/>
  <Override PartName="/ppt/media/image18.wmf" ContentType="image/x-wmf"/>
  <Override PartName="/ppt/media/image20.wmf" ContentType="image/x-wmf"/>
  <Override PartName="/ppt/media/image16.wmf" ContentType="image/x-wmf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23CE1-199B-42A2-B552-30ED0C8FF0A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C3F84-1E98-47BB-80AE-D3838AE5607A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99B9-ECE5-444F-97EA-EE1D3C249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B6A8-1BAC-4B2F-9EC2-A0F62D36C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43CF-95FC-4911-BD8D-BCBE90A65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F737-F0FD-4C26-9491-7F1202532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6EA5E-3A6D-45F1-907F-01CF5B6D0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37367-5BAB-4833-B9E9-CEE1CB02A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59841-9E94-480C-9C7D-9B52A9426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B34D0-7F7F-4675-BA56-29BA825C0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07014-805D-46FA-B1C3-D07DA0AC9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68D15-D9C1-4D00-8CE9-0CB845915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7EC77-014C-48CC-87EF-9EF519A8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CD9B-C00D-45CE-A2D3-C156FEEA7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93B3F-6FA9-4D52-94E2-2D70E1F06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8FA1B-403F-4565-9732-AC6BE1A6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B8505-93DE-41BB-A481-4FA3A2F79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FC55B-7317-4233-8253-5D8AEAF58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ACDBD-97D0-455E-84BE-3F0E85683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988F-D259-41D4-A0F8-954BBEFC3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CB44-1465-4DEE-82E7-620361328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12A3-03AE-4BEC-A0EF-6AE7C315E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C799-ECA0-459E-8C09-1EAC158B3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F000-E52A-4693-AAC4-EC76AB25F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3A38-6084-40DA-B9C7-401B3A6D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7F1F-3F3F-4415-8B9D-FFA70057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35275-5F15-47F0-822F-37122B99D4E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026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1027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1028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1029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1030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103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103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103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3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03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03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03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03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039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040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041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042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043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1044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1045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1046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1047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1048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1049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1050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1051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1052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1053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1054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1055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1056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9023D-F5B3-4538-A25C-CF0226CCB522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D:\Vyuka\C6320_Kinetika\Texty k p&#345;edn&#225;&#353;ce C6320\L09_Enzymy a adsorpce\Nukleove_kyseliny.ppt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Enzymový katalýza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5998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Prof. J. Sopoušek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0" name="Picture 7" descr="C:\Documents and Settings\Sopoušek\Dokumenty\Obrázky\Enzymová katalýza\apoenzym+kofaktor.jpg"/>
          <p:cNvPicPr/>
          <p:nvPr/>
        </p:nvPicPr>
        <p:blipFill>
          <a:blip r:embed="rId1"/>
          <a:stretch/>
        </p:blipFill>
        <p:spPr>
          <a:xfrm>
            <a:off x="755640" y="3860640"/>
            <a:ext cx="7464600" cy="23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534520" cy="37702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C:\Documents and Settings\Sopoušek\Dokumenty\Obrázky\Enzymová katalýza\kinetika enzym katalýzy numericky.jpg"/>
          <p:cNvPicPr/>
          <p:nvPr/>
        </p:nvPicPr>
        <p:blipFill>
          <a:blip r:embed="rId2"/>
          <a:stretch/>
        </p:blipFill>
        <p:spPr>
          <a:xfrm>
            <a:off x="1828800" y="4122720"/>
            <a:ext cx="601992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077320" cy="46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40989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"/>
          <p:cNvPicPr/>
          <p:nvPr/>
        </p:nvPicPr>
        <p:blipFill>
          <a:blip r:embed="rId2"/>
          <a:stretch/>
        </p:blipFill>
        <p:spPr>
          <a:xfrm>
            <a:off x="533520" y="685800"/>
            <a:ext cx="8312040" cy="127332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ze k rovnici: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Linearizovaný tvar Lineweaver - Burk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0" y="685800"/>
            <a:ext cx="8915400" cy="26686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"/>
          <p:cNvPicPr/>
          <p:nvPr/>
        </p:nvPicPr>
        <p:blipFill>
          <a:blip r:embed="rId2"/>
          <a:stretch/>
        </p:blipFill>
        <p:spPr>
          <a:xfrm>
            <a:off x="609480" y="3505320"/>
            <a:ext cx="525780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Linearizovaný tvar Eadie -Hofste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4" name="Picture 3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077320" cy="20397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" descr=""/>
          <p:cNvPicPr/>
          <p:nvPr/>
        </p:nvPicPr>
        <p:blipFill>
          <a:blip r:embed="rId2"/>
          <a:stretch/>
        </p:blipFill>
        <p:spPr>
          <a:xfrm>
            <a:off x="1447920" y="3533760"/>
            <a:ext cx="5029200" cy="31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7" name="Picture 4" descr="C:\Documents and Settings\Sopoušek\Dokumenty\Obrázky\Enzymová katalýza\biodiesel.gif"/>
          <p:cNvPicPr/>
          <p:nvPr/>
        </p:nvPicPr>
        <p:blipFill>
          <a:blip r:embed="rId1"/>
          <a:stretch/>
        </p:blipFill>
        <p:spPr>
          <a:xfrm>
            <a:off x="250920" y="2602080"/>
            <a:ext cx="3916440" cy="35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Enzym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2" name="Text Box 1029"/>
          <p:cNvSpPr/>
          <p:nvPr/>
        </p:nvSpPr>
        <p:spPr>
          <a:xfrm>
            <a:off x="380880" y="152388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Vznik v buňce viz prezentace: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Text Box 1030"/>
          <p:cNvSpPr/>
          <p:nvPr/>
        </p:nvSpPr>
        <p:spPr>
          <a:xfrm>
            <a:off x="609480" y="3048120"/>
            <a:ext cx="2895840" cy="19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Databáze enzymů: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66"/>
                </a:solidFill>
                <a:uFillTx/>
                <a:latin typeface="Times New Roman"/>
              </a:rPr>
              <a:t>http://www.ebi.ac.uk/thornton-srv/databases/enzymes/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 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AutoShape 1031">
            <a:hlinkClick r:id="rId1"/>
          </p:cNvPr>
          <p:cNvSpPr/>
          <p:nvPr/>
        </p:nvSpPr>
        <p:spPr>
          <a:xfrm>
            <a:off x="2031840" y="2514600"/>
            <a:ext cx="1676520" cy="609480"/>
          </a:xfrm>
          <a:custGeom>
            <a:avLst/>
            <a:gdLst>
              <a:gd name="textAreaLeft" fmla="*/ 39240 w 1676520"/>
              <a:gd name="textAreaRight" fmla="*/ 1637280 w 16765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94" h="21600">
                <a:moveTo>
                  <a:pt x="0" y="0"/>
                </a:moveTo>
                <a:lnTo>
                  <a:pt x="59394" y="0"/>
                </a:lnTo>
                <a:lnTo>
                  <a:pt x="59394" y="21600"/>
                </a:lnTo>
                <a:lnTo>
                  <a:pt x="0" y="21600"/>
                </a:lnTo>
                <a:close/>
              </a:path>
              <a:path fill="lightenLess" w="59394" h="21600">
                <a:moveTo>
                  <a:pt x="0" y="0"/>
                </a:moveTo>
                <a:lnTo>
                  <a:pt x="59394" y="0"/>
                </a:lnTo>
                <a:lnTo>
                  <a:pt x="57994" y="1400"/>
                </a:lnTo>
                <a:lnTo>
                  <a:pt x="1400" y="1400"/>
                </a:lnTo>
                <a:close/>
              </a:path>
              <a:path fill="darken" w="59394" h="21600">
                <a:moveTo>
                  <a:pt x="59394" y="0"/>
                </a:moveTo>
                <a:lnTo>
                  <a:pt x="59394" y="21600"/>
                </a:lnTo>
                <a:lnTo>
                  <a:pt x="57994" y="20200"/>
                </a:lnTo>
                <a:lnTo>
                  <a:pt x="57994" y="1400"/>
                </a:lnTo>
                <a:close/>
              </a:path>
              <a:path fill="darkenLess" w="59394" h="21600">
                <a:moveTo>
                  <a:pt x="59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94" y="20200"/>
                </a:lnTo>
                <a:close/>
              </a:path>
              <a:path fill="lighten" w="59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59394" h="21600">
                <a:moveTo>
                  <a:pt x="24170" y="3985"/>
                </a:moveTo>
                <a:lnTo>
                  <a:pt x="31168" y="3985"/>
                </a:lnTo>
                <a:lnTo>
                  <a:pt x="35224" y="7484"/>
                </a:lnTo>
                <a:lnTo>
                  <a:pt x="35224" y="17615"/>
                </a:lnTo>
                <a:lnTo>
                  <a:pt x="24170" y="17615"/>
                </a:lnTo>
                <a:close/>
              </a:path>
              <a:path fill="darken" w="59394" h="21600">
                <a:moveTo>
                  <a:pt x="31168" y="3985"/>
                </a:moveTo>
                <a:lnTo>
                  <a:pt x="35224" y="7484"/>
                </a:lnTo>
                <a:lnTo>
                  <a:pt x="31168" y="748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5" name="Picture 1033" descr="C:\Documents and Settings\Sopoušek\Dokumenty\Obrázky\Enzymová katalýza\isomeraza.jpg"/>
          <p:cNvPicPr/>
          <p:nvPr/>
        </p:nvPicPr>
        <p:blipFill>
          <a:blip r:embed="rId2"/>
          <a:stretch/>
        </p:blipFill>
        <p:spPr>
          <a:xfrm>
            <a:off x="4191120" y="2362320"/>
            <a:ext cx="456084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Katalýza enzym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7" name="Picture 6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3106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C:\Documents and Settings\Sopoušek\Dokumenty\Obrázky\Enzymová katalýza\zámek a klíč.jpg"/>
          <p:cNvPicPr/>
          <p:nvPr/>
        </p:nvPicPr>
        <p:blipFill>
          <a:blip r:embed="rId2"/>
          <a:stretch/>
        </p:blipFill>
        <p:spPr>
          <a:xfrm>
            <a:off x="1066680" y="4952880"/>
            <a:ext cx="45720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915400" cy="11379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"/>
          <p:cNvPicPr/>
          <p:nvPr/>
        </p:nvPicPr>
        <p:blipFill>
          <a:blip r:embed="rId2"/>
          <a:stretch/>
        </p:blipFill>
        <p:spPr>
          <a:xfrm>
            <a:off x="228600" y="2403360"/>
            <a:ext cx="8610480" cy="11289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C:\Documents and Settings\Sopoušek\Dokumenty\Obrázky\Enzymová katalýza\how-enzymes-work- sucrose.jpg"/>
          <p:cNvPicPr/>
          <p:nvPr/>
        </p:nvPicPr>
        <p:blipFill>
          <a:blip r:embed="rId3"/>
          <a:stretch/>
        </p:blipFill>
        <p:spPr>
          <a:xfrm>
            <a:off x="304920" y="3809880"/>
            <a:ext cx="3200400" cy="304812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6"/>
          <p:cNvSpPr/>
          <p:nvPr/>
        </p:nvSpPr>
        <p:spPr>
          <a:xfrm>
            <a:off x="3657600" y="6172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sucrosa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TextovéPole 1"/>
          <p:cNvSpPr/>
          <p:nvPr/>
        </p:nvSpPr>
        <p:spPr>
          <a:xfrm>
            <a:off x="4686480" y="4005360"/>
            <a:ext cx="3557520" cy="1557000"/>
          </a:xfrm>
          <a:prstGeom prst="rect">
            <a:avLst/>
          </a:prstGeom>
          <a:solidFill>
            <a:srgbClr val="ebf3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Nepevnost „zámku“ je příčinou 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Antikompetitivní katalýzy 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0" y="533520"/>
            <a:ext cx="891540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164520"/>
            <a:ext cx="345456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Pre-stady-stat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7" name="Picture 2" descr="http://3.bp.blogspot.com/-VjAGqHqBK7g/TzSuMtCy7kI/AAAAAAAAAT4/f-SwQTWJBf0/s1600/Untitled8.jpg"/>
          <p:cNvPicPr/>
          <p:nvPr/>
        </p:nvPicPr>
        <p:blipFill>
          <a:blip r:embed="rId1"/>
          <a:stretch/>
        </p:blipFill>
        <p:spPr>
          <a:xfrm>
            <a:off x="4788000" y="115920"/>
            <a:ext cx="3333600" cy="6877080"/>
          </a:xfrm>
          <a:prstGeom prst="rect">
            <a:avLst/>
          </a:prstGeom>
          <a:ln w="0">
            <a:noFill/>
          </a:ln>
        </p:spPr>
      </p:pic>
      <p:cxnSp>
        <p:nvCxnSpPr>
          <p:cNvPr id="168" name="Přímá spojnice se šipkou 3"/>
          <p:cNvCxnSpPr/>
          <p:nvPr/>
        </p:nvCxnSpPr>
        <p:spPr>
          <a:xfrm>
            <a:off x="5580000" y="1557000"/>
            <a:ext cx="194544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69" name="Přímá spojnice se šipkou 5"/>
          <p:cNvCxnSpPr/>
          <p:nvPr/>
        </p:nvCxnSpPr>
        <p:spPr>
          <a:xfrm>
            <a:off x="5076720" y="1341000"/>
            <a:ext cx="50400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0" name="Přímá spojnice se šipkou 7"/>
          <p:cNvCxnSpPr/>
          <p:nvPr/>
        </p:nvCxnSpPr>
        <p:spPr>
          <a:xfrm>
            <a:off x="7524720" y="549000"/>
            <a:ext cx="59760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  <a:headEnd len="med" type="arrow" w="med"/>
            <a:tailEnd len="med" type="arrow" w="med"/>
          </a:ln>
        </p:spPr>
      </p:cxnSp>
      <p:sp>
        <p:nvSpPr>
          <p:cNvPr id="171" name="TextovéPole 8"/>
          <p:cNvSpPr/>
          <p:nvPr/>
        </p:nvSpPr>
        <p:spPr>
          <a:xfrm>
            <a:off x="5211000" y="8794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P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TextovéPole 9"/>
          <p:cNvSpPr/>
          <p:nvPr/>
        </p:nvSpPr>
        <p:spPr>
          <a:xfrm>
            <a:off x="5950080" y="10954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St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TextovéPole 10"/>
          <p:cNvSpPr/>
          <p:nvPr/>
        </p:nvSpPr>
        <p:spPr>
          <a:xfrm>
            <a:off x="7631640" y="316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E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TextovéPole 11"/>
          <p:cNvSpPr/>
          <p:nvPr/>
        </p:nvSpPr>
        <p:spPr>
          <a:xfrm>
            <a:off x="717480" y="1844640"/>
            <a:ext cx="3024360" cy="1191240"/>
          </a:xfrm>
          <a:prstGeom prst="rect">
            <a:avLst/>
          </a:prstGeom>
          <a:solidFill>
            <a:srgbClr val="ebf3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P…pre-stady-state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St…stady-state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E….Equilibrium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5" name="Picture 12" descr="Výsledek obrázku pro steady state enzyme kinetics"/>
          <p:cNvPicPr/>
          <p:nvPr/>
        </p:nvPicPr>
        <p:blipFill>
          <a:blip r:embed="rId2"/>
          <a:stretch/>
        </p:blipFill>
        <p:spPr>
          <a:xfrm>
            <a:off x="324000" y="3141720"/>
            <a:ext cx="3543120" cy="3362400"/>
          </a:xfrm>
          <a:prstGeom prst="rect">
            <a:avLst/>
          </a:prstGeom>
          <a:ln w="0">
            <a:noFill/>
          </a:ln>
        </p:spPr>
      </p:pic>
      <p:sp>
        <p:nvSpPr>
          <p:cNvPr id="176" name="Obdélník 1"/>
          <p:cNvSpPr/>
          <p:nvPr/>
        </p:nvSpPr>
        <p:spPr>
          <a:xfrm>
            <a:off x="81000" y="640224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66"/>
                </a:solidFill>
                <a:latin typeface="Times New Roman"/>
              </a:rPr>
              <a:t>http://cbc.chem.arizona.edu/classes/bioc462/462a/NOTES/ENZYMES/enzyme_kinetics2.html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8229600" cy="1476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C:\Documents and Settings\Sopoušek\Dokumenty\Obrázky\Enzymová katalýza\pH optimum.jpg"/>
          <p:cNvPicPr/>
          <p:nvPr/>
        </p:nvPicPr>
        <p:blipFill>
          <a:blip r:embed="rId2"/>
          <a:stretch/>
        </p:blipFill>
        <p:spPr>
          <a:xfrm>
            <a:off x="533520" y="2590920"/>
            <a:ext cx="4114800" cy="28242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C:\Documents and Settings\Sopoušek\Dokumenty\Obrázky\Enzymová katalýza\teplotní optimum.bmp"/>
          <p:cNvPicPr/>
          <p:nvPr/>
        </p:nvPicPr>
        <p:blipFill>
          <a:blip r:embed="rId3"/>
          <a:stretch/>
        </p:blipFill>
        <p:spPr>
          <a:xfrm>
            <a:off x="4724280" y="2590920"/>
            <a:ext cx="411480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Základní kinetika enzymových reakcí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1" name="Picture 3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8763120" cy="41515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" descr="C:\Documents and Settings\Sopoušek\Dokumenty\Obrázky\Enzymová katalýza\kinetika enzym katalýzy numericky.jpg"/>
          <p:cNvPicPr/>
          <p:nvPr/>
        </p:nvPicPr>
        <p:blipFill>
          <a:blip r:embed="rId2"/>
          <a:stretch/>
        </p:blipFill>
        <p:spPr>
          <a:xfrm>
            <a:off x="4267080" y="4876920"/>
            <a:ext cx="3657600" cy="16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66600" y="260280"/>
            <a:ext cx="90774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Jiří Sopoušek</cp:lastModifiedBy>
  <dcterms:modified xsi:type="dcterms:W3CDTF">2021-05-10T11:42:08Z</dcterms:modified>
  <cp:revision>153</cp:revision>
  <dc:subject/>
  <dc:title>C6730 Fázové rovnováhy</dc:title>
</cp:coreProperties>
</file>