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25.png" ContentType="image/png"/>
  <Override PartName="/ppt/media/image2.gif" ContentType="image/gif"/>
  <Override PartName="/ppt/media/image37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4.png" ContentType="image/png"/>
  <Override PartName="/ppt/media/image45.wmf" ContentType="image/x-wmf"/>
  <Override PartName="/ppt/media/image46.png" ContentType="image/png"/>
  <Override PartName="/ppt/media/image47.wmf" ContentType="image/x-wmf"/>
  <Override PartName="/ppt/media/image12.wmf" ContentType="image/x-wmf"/>
  <Override PartName="/ppt/media/image36.wmf" ContentType="image/x-wmf"/>
  <Override PartName="/ppt/media/image49.png" ContentType="image/png"/>
  <Override PartName="/ppt/media/image9.wmf" ContentType="image/x-wmf"/>
  <Override PartName="/ppt/media/image41.png" ContentType="image/png"/>
  <Override PartName="/ppt/media/image39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7.png" ContentType="image/png"/>
  <Override PartName="/ppt/media/image4.jpeg" ContentType="image/jpeg"/>
  <Override PartName="/ppt/media/image40.png" ContentType="image/png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DDEC-5E33-43C0-9127-20A2AB78E7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A3A9-1A18-48CC-9FB3-E6AF9F755C5A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98D-C6AD-422B-8C99-A08FE8A8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239-10D5-4AFF-A222-09D8994D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D56-7E40-4C06-B9AB-697D25AC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F40-FADE-4951-AF28-8D4A5128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32C9-31E0-4B3B-B9B8-274EF4E6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865F-0B10-4FDE-AE98-3BE77CFB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B661-F981-4CE2-83D6-EE8CB25B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C759-A8F4-4633-948B-BA537B85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4217-91C5-4110-945D-ED479B5D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8BF5-0FC2-4F6D-B2F9-7C4D66D7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3F28-38A6-49C1-B6B2-5CBC8EC2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AE3-E5A6-449F-8979-EB605B17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CA12-4203-49C9-990C-75A617B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DBCB-AA66-4328-B09D-8F8FA2E2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A7DB-2E02-45FE-B848-66990E69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32C9-EB80-44C1-8CC5-902EC86E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8B5B-678B-4EAC-B680-D5913195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186-4912-41EB-A8AD-E333AD2F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C9F-1732-499D-87F8-9FA74307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032-93FF-45DA-9D0F-41AF3373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E5F-2A86-4470-BA08-8F301B76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56B-B442-4FD7-A54B-81D6A166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5A7-FD89-4084-910B-AB0A975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AB0-9E66-4E8C-86C6-D07BB64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2ECC-2505-4E7A-B988-FFCBE1676C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EAC1-95B7-416B-AA7C-9B5862D0361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01600" y="549360"/>
            <a:ext cx="8744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81000" y="189000"/>
            <a:ext cx="8943840" cy="5143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81000" y="5308560"/>
            <a:ext cx="8935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88675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602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98440" y="364500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339840" y="5365800"/>
            <a:ext cx="8153280" cy="58428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749160" y="62881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wikiwand.com/en/Non-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724280" y="3284640"/>
            <a:ext cx="37339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losterické ne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2" descr="https://upload.wikimedia.org/wikipedia/commons/thumb/0/0f/Allosteric_comp_inhib_1.svg/800px-Allosteric_comp_inhib_1.svg.png?1524635043482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440" y="25200"/>
            <a:ext cx="4608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98280" y="907920"/>
            <a:ext cx="3633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3524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686800" cy="27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what-when-how.com/wp-content/uploads/2012/08/tmp9db750_thumb.png"/>
          <p:cNvPicPr/>
          <p:nvPr/>
        </p:nvPicPr>
        <p:blipFill>
          <a:blip r:embed="rId2"/>
          <a:stretch/>
        </p:blipFill>
        <p:spPr>
          <a:xfrm>
            <a:off x="407880" y="3506760"/>
            <a:ext cx="4392720" cy="3351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Sopoušek\Dokumenty\Obrázky\Katalýza\350px-Ne Comp_inhib_svg.png"/>
          <p:cNvPicPr/>
          <p:nvPr/>
        </p:nvPicPr>
        <p:blipFill>
          <a:blip r:embed="rId3"/>
          <a:stretch/>
        </p:blipFill>
        <p:spPr>
          <a:xfrm>
            <a:off x="4800600" y="3670200"/>
            <a:ext cx="44164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  <p:pic>
        <p:nvPicPr>
          <p:cNvPr id="160" name="TextovéPole 1" descr=""/>
          <p:cNvPicPr/>
          <p:nvPr/>
        </p:nvPicPr>
        <p:blipFill>
          <a:blip r:embed="rId3"/>
          <a:stretch/>
        </p:blipFill>
        <p:spPr>
          <a:xfrm>
            <a:off x="1036800" y="5010120"/>
            <a:ext cx="1206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867440" cy="53323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5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6" name="Přímá spojnice se šipkou 5"/>
          <p:cNvCxnSpPr/>
          <p:nvPr/>
        </p:nvCxnSpPr>
        <p:spPr>
          <a:xfrm flipH="1" flipV="1">
            <a:off x="4932000" y="4365000"/>
            <a:ext cx="1728000" cy="1656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1"/>
          <p:cNvSpPr/>
          <p:nvPr/>
        </p:nvSpPr>
        <p:spPr>
          <a:xfrm>
            <a:off x="802440" y="5873760"/>
            <a:ext cx="69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odvození také v: http://www.wikiwand.com/en/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0960" y="3240"/>
            <a:ext cx="8537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řehlednější odvození vztahů pro kompetitivní inhibici pro anglicky mluvící studenty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2" descr="https://upload.wikimedia.org/wikipedia/commons/thumb/f/fb/Comp_inhib.svg/800px-Comp_inhib.svg.png?1524636860221"/>
          <p:cNvPicPr/>
          <p:nvPr/>
        </p:nvPicPr>
        <p:blipFill>
          <a:blip r:embed="rId1"/>
          <a:stretch/>
        </p:blipFill>
        <p:spPr>
          <a:xfrm>
            <a:off x="210960" y="3716280"/>
            <a:ext cx="4191120" cy="289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78136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s://upload.wikimedia.org/wikipedia/commons/thumb/f/f6/Michaelis-Menten_plot_competitive_inhibition.svg/640px-Michaelis-Menten_plot_competitive_inhibition.svg.png?1524637078488"/>
          <p:cNvPicPr/>
          <p:nvPr/>
        </p:nvPicPr>
        <p:blipFill>
          <a:blip r:embed="rId3"/>
          <a:stretch/>
        </p:blipFill>
        <p:spPr>
          <a:xfrm>
            <a:off x="3995640" y="1015920"/>
            <a:ext cx="432144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4"/>
          <a:stretch/>
        </p:blipFill>
        <p:spPr>
          <a:xfrm>
            <a:off x="4572000" y="3836880"/>
            <a:ext cx="4400640" cy="158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5"/>
          <a:stretch/>
        </p:blipFill>
        <p:spPr>
          <a:xfrm>
            <a:off x="4572000" y="5423040"/>
            <a:ext cx="440064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6"/>
          <a:stretch/>
        </p:blipFill>
        <p:spPr>
          <a:xfrm>
            <a:off x="4568760" y="5715000"/>
            <a:ext cx="37720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7"/>
          <a:stretch/>
        </p:blipFill>
        <p:spPr>
          <a:xfrm>
            <a:off x="4572000" y="5946840"/>
            <a:ext cx="13431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98640"/>
            <a:ext cx="8856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Matematické odvození 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37960" y="1268280"/>
            <a:ext cx="8724960" cy="515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781360" cy="18716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5"/>
          <p:cNvSpPr/>
          <p:nvPr/>
        </p:nvSpPr>
        <p:spPr>
          <a:xfrm>
            <a:off x="3143880" y="36417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oto můžeme si napsat i jako 3 dílčí samostatné rovni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2920" y="762120"/>
            <a:ext cx="885816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2"/>
          <p:cNvSpPr/>
          <p:nvPr/>
        </p:nvSpPr>
        <p:spPr>
          <a:xfrm>
            <a:off x="3514680" y="2565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uma rychlostí vzniku = suma rychlostí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7" name="Přímá spojnice se šipkou 4"/>
          <p:cNvCxnSpPr/>
          <p:nvPr/>
        </p:nvCxnSpPr>
        <p:spPr>
          <a:xfrm flipH="1">
            <a:off x="3131640" y="2933280"/>
            <a:ext cx="145440" cy="135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8" name="Přímá spojnice se šipkou 6"/>
          <p:cNvCxnSpPr/>
          <p:nvPr/>
        </p:nvCxnSpPr>
        <p:spPr>
          <a:xfrm flipH="1">
            <a:off x="4982400" y="4087440"/>
            <a:ext cx="1656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9" name="Přímá spojnice se šipkou 8"/>
          <p:cNvCxnSpPr/>
          <p:nvPr/>
        </p:nvCxnSpPr>
        <p:spPr>
          <a:xfrm flipH="1">
            <a:off x="3542760" y="4868640"/>
            <a:ext cx="41979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0" name="Přímá spojnice 13"/>
          <p:cNvSpPr/>
          <p:nvPr/>
        </p:nvSpPr>
        <p:spPr>
          <a:xfrm flipV="1">
            <a:off x="6638760" y="3068280"/>
            <a:ext cx="0" cy="10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římá spojnice 16"/>
          <p:cNvSpPr/>
          <p:nvPr/>
        </p:nvSpPr>
        <p:spPr>
          <a:xfrm flipV="1">
            <a:off x="7740720" y="3068280"/>
            <a:ext cx="0" cy="180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7:42:49Z</dcterms:modified>
  <cp:revision>158</cp:revision>
  <dc:subject/>
  <dc:title>C6730 Fázové rovnováhy</dc:title>
</cp:coreProperties>
</file>