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C87-D900-408E-AB0D-5250640E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5DF-C221-4218-B693-3CD16FF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4C6-0717-4477-948D-49D86EFB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517-1784-4095-BB4E-609C2BAF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239-C37D-4E57-8978-3FE54774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AA8-AAB3-4003-8696-2B8B4815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7B1-94C7-4C5C-85D7-124784A1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F6C-324E-4AB5-AF6F-CD5E7E14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04C-9A2C-4EBB-A3AA-0A710E18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503-99CD-4179-8D2F-F60789B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D4C-E849-432B-8A16-C453C6BC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6E2-875E-443C-8FC9-8E9B8F57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B30B-F07A-4412-AE3F-F8F866F7C3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a4pre1MXZAhXMD8AKHRW6DB4QjRx6BAgAEAY&amp;url=https%3A%2F%2Fchem.libretexts.org%2FLibreTexts%2FUniversity_of_Missouri%2FMU%253A__1330H_(Keller)%2F14%253A_Chemical_Kinetics%2F14.2%253A_Reaction_Rates&amp;psig=AOvVaw0ytH4LthZmVRIjFKWOAiBa&amp;ust=151980599776627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6" descr="Výsledek obrázku pro conversion of reaction chemical ki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7632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9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ovéPole 2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85816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380960" y="765000"/>
            <a:ext cx="50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Obecná rychlostní rovn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3"/>
          <p:cNvSpPr/>
          <p:nvPr/>
        </p:nvSpPr>
        <p:spPr>
          <a:xfrm>
            <a:off x="779400" y="278136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…..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..objem reaktoru ve kterém probíhá obecná rea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xtovéPole 4" descr=""/>
          <p:cNvPicPr/>
          <p:nvPr/>
        </p:nvPicPr>
        <p:blipFill>
          <a:blip r:embed="rId2"/>
          <a:stretch/>
        </p:blipFill>
        <p:spPr>
          <a:xfrm>
            <a:off x="785880" y="370044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TextovéPole 5" descr=""/>
          <p:cNvPicPr/>
          <p:nvPr/>
        </p:nvPicPr>
        <p:blipFill>
          <a:blip r:embed="rId3"/>
          <a:stretch/>
        </p:blipFill>
        <p:spPr>
          <a:xfrm>
            <a:off x="208080" y="4206960"/>
            <a:ext cx="81975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TextovéPole 6" descr=""/>
          <p:cNvPicPr/>
          <p:nvPr/>
        </p:nvPicPr>
        <p:blipFill>
          <a:blip r:embed="rId4"/>
          <a:stretch/>
        </p:blipFill>
        <p:spPr>
          <a:xfrm>
            <a:off x="182520" y="4743360"/>
            <a:ext cx="892512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481320" y="5357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řád reakce vzhledem k A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římá spojnice 2"/>
          <p:cNvSpPr/>
          <p:nvPr/>
        </p:nvSpPr>
        <p:spPr>
          <a:xfrm>
            <a:off x="6875640" y="1916280"/>
            <a:ext cx="194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římá spojnice 5"/>
          <p:cNvSpPr/>
          <p:nvPr/>
        </p:nvSpPr>
        <p:spPr>
          <a:xfrm>
            <a:off x="108000" y="2160720"/>
            <a:ext cx="122400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8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římá spojnice 3"/>
          <p:cNvSpPr/>
          <p:nvPr/>
        </p:nvSpPr>
        <p:spPr>
          <a:xfrm>
            <a:off x="611280" y="2565360"/>
            <a:ext cx="5689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římá spojnice 5"/>
          <p:cNvSpPr/>
          <p:nvPr/>
        </p:nvSpPr>
        <p:spPr>
          <a:xfrm>
            <a:off x="611280" y="3141720"/>
            <a:ext cx="597672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Přímá spojnice se šipkou 7"/>
          <p:cNvCxnSpPr/>
          <p:nvPr/>
        </p:nvCxnSpPr>
        <p:spPr>
          <a:xfrm flipH="1">
            <a:off x="7019640" y="2565000"/>
            <a:ext cx="1800720" cy="18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62" name="Přímá spojnice se šipkou 9"/>
          <p:cNvCxnSpPr/>
          <p:nvPr/>
        </p:nvCxnSpPr>
        <p:spPr>
          <a:xfrm>
            <a:off x="1547280" y="3465000"/>
            <a:ext cx="1585080" cy="9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  <p:sp>
        <p:nvSpPr>
          <p:cNvPr id="65" name="Přímá spojnice 2"/>
          <p:cNvSpPr/>
          <p:nvPr/>
        </p:nvSpPr>
        <p:spPr>
          <a:xfrm flipV="1">
            <a:off x="3708360" y="5660640"/>
            <a:ext cx="2808360" cy="7164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"/>
          <p:cNvSpPr/>
          <p:nvPr/>
        </p:nvSpPr>
        <p:spPr>
          <a:xfrm>
            <a:off x="68436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aily dá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324000" y="3141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er:  Pb, O, Mn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73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8-03-13T11:51:12Z</dcterms:modified>
  <cp:revision>104</cp:revision>
  <dc:subject/>
  <dc:title>Soustava</dc:title>
</cp:coreProperties>
</file>