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E88-132C-4CA9-902B-E617354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EF8-C4CF-48CD-9C73-EDE3E233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8E2-F2F9-4B2A-A6C8-019ADD7C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334-E63F-468B-B862-E77FEF50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4DD5-7394-41A5-AC41-28B736D4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4338-9783-462E-9EB3-7C95B42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C3CA-4548-43E6-8280-E5F6E523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C1DA-D777-4772-81D3-61FC1B3D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ED03-FADE-4779-AA08-8BF45CA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3AE-2FEA-4349-AD83-C3C3ACBB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DD4-9970-4551-814E-193B2401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3BF-6403-41B8-86A1-2AFB7012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AA5-691D-4CFE-8E5B-1D7B0E0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D85-C66D-4DAA-B0BD-3AC6C93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C0ED-F639-40B3-83A5-1A7DB292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297-2070-4612-A4A3-C81BC945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0E5B-53BE-4A90-831E-E4D48B87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834-3E98-4BE3-A2AC-A8E2485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C19-24C7-469B-AF37-C9005FEC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C27-BFFB-4223-B898-FF408B3F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1BC-A016-40DB-9BB7-687AC89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4ED-640D-4796-9DD5-8962015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EFB-E798-48F3-92D8-B47C4A8C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849-F804-4BA4-96A7-6E3D510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AC91-59B3-4CE2-82B8-51846DE0EA4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CE9-ABC0-4F9E-8830-9199EFF4CC4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Experimentální metody chemické kine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B36D-47FD-4DBD-B552-8B6106F2164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http://www.scielo.br/img/revistas/bjce/v25n4/a15fig03.gif"/>
          <p:cNvPicPr/>
          <p:nvPr/>
        </p:nvPicPr>
        <p:blipFill>
          <a:blip r:embed="rId1"/>
          <a:stretch/>
        </p:blipFill>
        <p:spPr>
          <a:xfrm>
            <a:off x="1538280" y="2637000"/>
            <a:ext cx="44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7124-87CE-4C67-9026-F9F8AD9B364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11280" y="7920"/>
            <a:ext cx="795024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65C-C8B6-4E86-AA37-1916941EBA3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486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ferenciální met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151B-C551-4233-BF7B-79B2951914A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308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3"/>
          <p:cNvSpPr/>
          <p:nvPr/>
        </p:nvSpPr>
        <p:spPr>
          <a:xfrm>
            <a:off x="6241680" y="2708280"/>
            <a:ext cx="2019960" cy="510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z:  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k*A</a:t>
            </a:r>
            <a:r>
              <a:rPr b="0" lang="cs-CZ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8699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vyhodnoc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1213-E8A1-49E9-AE8F-EF4C05B437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5280" y="1076400"/>
            <a:ext cx="857412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ánování kinetických experimen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6211-C14F-4AD0-A08C-633A32199A7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55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96C2-1F51-4F3B-AC40-876FE761D31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4800" y="260280"/>
            <a:ext cx="7927920" cy="6332760"/>
          </a:xfrm>
          <a:prstGeom prst="rect">
            <a:avLst/>
          </a:prstGeom>
          <a:ln w="0">
            <a:noFill/>
          </a:ln>
        </p:spPr>
      </p:pic>
      <p:sp>
        <p:nvSpPr>
          <p:cNvPr id="143" name="Přímá spojnice 3"/>
          <p:cNvSpPr/>
          <p:nvPr/>
        </p:nvSpPr>
        <p:spPr>
          <a:xfrm>
            <a:off x="1403280" y="2852640"/>
            <a:ext cx="691380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římá spojnice 5"/>
          <p:cNvSpPr/>
          <p:nvPr/>
        </p:nvSpPr>
        <p:spPr>
          <a:xfrm>
            <a:off x="900000" y="3068640"/>
            <a:ext cx="7272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B85A-ED8D-4CD7-92DE-0DA0A5D47D9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78800" cy="1728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98600" y="3933720"/>
            <a:ext cx="8083440" cy="2427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1058760" y="2271600"/>
            <a:ext cx="696276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4"/>
          <a:stretch/>
        </p:blipFill>
        <p:spPr>
          <a:xfrm>
            <a:off x="1200240" y="3057480"/>
            <a:ext cx="6743520" cy="743040"/>
          </a:xfrm>
          <a:prstGeom prst="rect">
            <a:avLst/>
          </a:prstGeom>
          <a:ln w="0">
            <a:noFill/>
          </a:ln>
        </p:spPr>
      </p:pic>
      <p:sp>
        <p:nvSpPr>
          <p:cNvPr id="151" name="TextovéPole 1"/>
          <p:cNvSpPr/>
          <p:nvPr/>
        </p:nvSpPr>
        <p:spPr>
          <a:xfrm>
            <a:off x="5648400" y="1844640"/>
            <a:ext cx="316872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z průtokový reaktor nebo metoda zastaveného 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bdélník 3"/>
          <p:cNvSpPr/>
          <p:nvPr/>
        </p:nvSpPr>
        <p:spPr>
          <a:xfrm>
            <a:off x="498600" y="6364440"/>
            <a:ext cx="60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tailed video eng: </a:t>
            </a:r>
            <a:r>
              <a:rPr b="0" lang="cs-CZ" sz="1600" spc="-1" strike="noStrike">
                <a:solidFill>
                  <a:srgbClr val="1f497d"/>
                </a:solidFill>
                <a:latin typeface="Times New Roman"/>
              </a:rPr>
              <a:t>https://www.youtube.com/watch?v=thNq_AhtEr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1CE-DA81-403C-BFD7-E9D5DB65D7E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228600" y="1628640"/>
            <a:ext cx="8686800" cy="4888080"/>
          </a:xfrm>
          <a:prstGeom prst="rect">
            <a:avLst/>
          </a:prstGeom>
          <a:ln w="0">
            <a:noFill/>
          </a:ln>
        </p:spPr>
      </p:pic>
      <p:sp>
        <p:nvSpPr>
          <p:cNvPr id="156" name="Obdélník 4"/>
          <p:cNvSpPr/>
          <p:nvPr/>
        </p:nvSpPr>
        <p:spPr>
          <a:xfrm>
            <a:off x="228600" y="10936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demonstrations.wolfram.com/topic.html?topic=Chemical+Kinetics&amp;limit=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o-kinetické experimen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7866-6252-45F1-9DD0-97A854FFA01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611280" y="1700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verzních křive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ech detekovatelných reaktantů, meziproduktů a produkt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ávislostí reakčních rych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definovaných podmínek (teplota, tlak, podmínky experimen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ovéPole 5"/>
          <p:cNvSpPr/>
          <p:nvPr/>
        </p:nvSpPr>
        <p:spPr>
          <a:xfrm>
            <a:off x="306360" y="378936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Základní typy experim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ovéPole 6"/>
          <p:cNvSpPr/>
          <p:nvPr/>
        </p:nvSpPr>
        <p:spPr>
          <a:xfrm>
            <a:off x="395280" y="4251240"/>
            <a:ext cx="6769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vsádkový (uzavřený)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trubkový reaktor s pístovým tokem reakční smě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průtokový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upload.wikimedia.org/wikipedia/commons/5/5c/Batch_reactor.2.jpg"/>
          <p:cNvPicPr/>
          <p:nvPr/>
        </p:nvPicPr>
        <p:blipFill>
          <a:blip r:embed="rId1"/>
          <a:stretch/>
        </p:blipFill>
        <p:spPr>
          <a:xfrm>
            <a:off x="6732720" y="3213000"/>
            <a:ext cx="2363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C2AC-9650-4D09-925D-FE00BF6061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79520" y="189000"/>
            <a:ext cx="812160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2600" y="3008160"/>
            <a:ext cx="7975440" cy="7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479520" y="3763800"/>
            <a:ext cx="7969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onale promíchávaný reaktor a konverzní kři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E99B-B3E8-4C82-B50E-99720041DD6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24000" y="1239840"/>
            <a:ext cx="8605800" cy="434016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3"/>
          <p:cNvSpPr/>
          <p:nvPr/>
        </p:nvSpPr>
        <p:spPr>
          <a:xfrm>
            <a:off x="1187280" y="5950080"/>
            <a:ext cx="633744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tno měřit až do vysokých konverzí (tj 0,9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EB7-7C67-42E2-B748-F7867937C84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9040" y="476280"/>
            <a:ext cx="82422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A73-570B-49AE-A703-B943BAF3C4B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58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21240" y="3981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zor na dosažený stupeň konverz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F4F-F767-4782-8D4D-B434C6ADC0D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05120" cy="532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284720" y="2313000"/>
            <a:ext cx="475776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1280" y="5425920"/>
            <a:ext cx="8096040" cy="1338480"/>
          </a:xfrm>
          <a:prstGeom prst="rect">
            <a:avLst/>
          </a:prstGeom>
          <a:ln w="0">
            <a:noFill/>
          </a:ln>
        </p:spPr>
      </p:pic>
      <p:cxnSp>
        <p:nvCxnSpPr>
          <p:cNvPr id="111" name="Přímá spojnice se šipkou 4"/>
          <p:cNvCxnSpPr/>
          <p:nvPr/>
        </p:nvCxnSpPr>
        <p:spPr>
          <a:xfrm flipH="1">
            <a:off x="3850920" y="3537000"/>
            <a:ext cx="1658160" cy="90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zlomkových ča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2733-7F5F-4024-A714-530CA48ADBD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97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C404-AF60-4DCF-943F-6220B89B23D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20840" y="74520"/>
            <a:ext cx="7391160" cy="543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20840" y="5603760"/>
            <a:ext cx="7808760" cy="1228680"/>
          </a:xfrm>
          <a:prstGeom prst="rect">
            <a:avLst/>
          </a:prstGeom>
          <a:ln w="0">
            <a:noFill/>
          </a:ln>
        </p:spPr>
      </p:pic>
      <p:cxnSp>
        <p:nvCxnSpPr>
          <p:cNvPr id="119" name="Přímá spojnice se šipkou 3"/>
          <p:cNvCxnSpPr/>
          <p:nvPr/>
        </p:nvCxnSpPr>
        <p:spPr>
          <a:xfrm>
            <a:off x="3492360" y="476280"/>
            <a:ext cx="504000" cy="151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Přímá spojnice se šipkou 5"/>
          <p:cNvCxnSpPr/>
          <p:nvPr/>
        </p:nvCxnSpPr>
        <p:spPr>
          <a:xfrm flipH="1">
            <a:off x="3276360" y="476280"/>
            <a:ext cx="180072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Přímá spojnice se šipkou 7"/>
          <p:cNvCxnSpPr/>
          <p:nvPr/>
        </p:nvCxnSpPr>
        <p:spPr>
          <a:xfrm flipV="1">
            <a:off x="1763280" y="5511240"/>
            <a:ext cx="4033080" cy="22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TextovéPole 1"/>
          <p:cNvSpPr/>
          <p:nvPr/>
        </p:nvSpPr>
        <p:spPr>
          <a:xfrm>
            <a:off x="6132600" y="5235480"/>
            <a:ext cx="75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v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21-04-13T10:26:42Z</dcterms:modified>
  <cp:revision>44</cp:revision>
  <dc:subject/>
  <dc:title>Prezentace aplikace PowerPoint</dc:title>
</cp:coreProperties>
</file>