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4C1D-EE0F-4167-9567-3685141F43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AF83-CBAC-439F-B3AA-DB895C8487C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353-3FA4-4ECC-933D-DB2CEBAA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F1C-28B9-4AAC-9454-C7C92594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ED0-B15E-4EA0-918F-899C1E01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434-270B-4B59-8992-781409AA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9228-20D3-4E82-941E-0CB6C21E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86FD-B301-497A-A052-3FC85F90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6E68-25BB-4121-9513-C4AAB8DD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AE4E-51A9-427C-9D5E-770C04C4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784C-9085-4959-ABBB-B3A0A2B8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2194-9623-4BC2-9B83-A92C8353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A925-BC9B-4F3A-9FAE-7A3D18ED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AFF-8446-4607-AE8A-55121B85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FBB5-598D-4FEF-8AEF-86F2DDA5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B31D-7331-4E5A-B6A3-E6781F57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CCDD-6BFA-4B7F-AC34-DB5A64D3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E460-EA5C-4C42-BD3B-719D91E7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9329-C249-403A-A7A7-652F4E69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767-5021-471C-B109-B682F8E2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BFC-2115-401B-AD4B-DE93F6FC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777-A37A-4149-BAFB-C1FB93C8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39F-6876-444C-9E79-0D2631D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366-4285-4AEA-AB3E-BF65417B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839-2665-412A-A534-2FE33A94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A84-E474-4E8D-823A-74F58270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DD25-EFC4-48E2-8E28-4C2E3B9C445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2989-7F17-4581-9D7F-2E034FBCC60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f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0760" y="0"/>
            <a:ext cx="8228160" cy="206064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87812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Jiří Sopoušek</cp:lastModifiedBy>
  <dcterms:modified xsi:type="dcterms:W3CDTF">2021-05-03T10:04:29Z</dcterms:modified>
  <cp:revision>151</cp:revision>
  <dc:subject/>
  <dc:title>C6730 Fázové rovnováhy</dc:title>
</cp:coreProperties>
</file>