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26E9E-A830-44B6-AFDC-9BDA59912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D234F-74B5-4418-A514-FE14F348B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E5B2D1-2EFA-4F12-98E9-439EC433E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94D3EE-CCD1-4D79-9B19-5B61DA6C0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FBCBAC-1850-4BE7-95CC-C77D321744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00B86-EA5E-49E3-A86E-E61F4C8028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EFE0C8-48DF-44B1-89E1-A5B62A9109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46D137-074E-4F8F-9858-AD0F98974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BECA28-2C6A-4142-8B17-20EBF2E07C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B87D63-4759-47B5-9609-349BC8C44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BB3EE-9E4E-492B-AEDC-F20838712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3D090-7302-467F-9980-570FC9568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CF7CA-F5E3-48CB-BEDE-29D1F43A9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13CF7-4E2C-44A3-96A6-77A66A598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84C2B0-5D77-4F3D-861E-25137BC3F4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60162F-EBDB-46F0-957A-9921AE1511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37492A-C44B-4CA2-814B-F46F036F44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325D9-9F4A-46CD-BE84-092F16458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529F0-9972-4754-8AD1-0091BCF22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D1F07-F6EB-4888-8895-EF4EBCCD1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7B7C1-2F08-4011-912E-4ED6FE8A7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7CD49-6630-43A9-99FB-5D63EF77B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7A66E-C12E-4FBB-B94B-161649D39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BD83C-483C-4D3F-8C4B-55F4B90618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C6172-8CBB-4D30-8827-52CEFF6628E4}"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107B4-81C8-4910-BA02-4295B968114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3375E-3C70-460D-AD0C-F5596D4E312E}"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5B77A-E2DB-4762-897B-9E9628679C0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AE32E-79F7-4445-A3CE-F6B1CBC7875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F15CB-469F-453C-A08F-F47056758E4A}"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D051D-6C18-45B6-9527-DC762F7517D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2D505-5A8B-4B81-AFDE-E0D31C0D6FB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72CE4-7D8A-433A-91F8-DC574D98249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27647-9B30-4DCC-B46E-62A709810C1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88EE5-0D3B-44E5-BD93-A066C558B38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7ED66-57CD-4506-8275-EB64DB6051D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555EC-E902-45BE-B158-7CD218095FE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BCC63-A958-4200-A704-AF335574A842}"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2ABBB-BB43-449E-86CC-EF21EC3A50C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568F9-471C-431E-A436-641BDB3088D0}"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A2A25-854C-4254-BB2C-F372FB41626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9EA51-5983-4466-81BC-8E327A01171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A5A6D-91E1-4DA9-955A-724DBDCF879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85A39-25C6-4898-8C98-9267D6B7A63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2D9F4-5B88-476C-834C-FB8F6C46134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8A76A-3364-4FF8-B6D9-DFD44B425D4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3D87C-AC25-4434-8CFE-85EB01F8563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03C70-CAC3-4238-8EEE-4AA92333F7C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4EF3F-09E3-4DC0-B0F0-33467DE625A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203C2-F4FD-465F-BD8A-6CF2136A152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86650-CB75-4976-85CA-11F8553D2CD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EB494-2E56-448A-A575-6A1F94FDCDD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C1044-1780-46A2-AA3A-F831D1454F6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8FBC4-646A-4009-AFEA-82C1590768E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FECD9-1018-4ED7-9F91-E5589A9FAA0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E4AA4-9218-418E-B722-31E181728EF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C7588-64A9-45E3-944A-D057CD5FD91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C91B4-41D3-45CE-837D-34B8A84D708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18393-CC69-4D4C-B335-CC1988786FD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B4FFB-9492-4A22-9A5B-3080A153F9A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F1711-1304-4CB4-AD7B-47D7D12A152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17BFF-CEF9-4D28-A236-30324C3E47A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29D4A-B114-4612-AF2C-6AE27979F92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BBB5B-93C9-4B0F-87FB-4CDE9B036F3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E8AE5-982D-40AF-99AA-8F2872B1D34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A4711-C4E0-4E0C-B3F5-3A5E654B659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D9ABA-5F97-4D55-8E56-DAA42DE02A5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8C50A-A73E-45E9-A83D-EA746383EDC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833B3-E195-48BF-8189-47B60E24CE1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AB958-2A5C-47FD-8F76-91758C53AA8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383FE-C62F-4C16-93BC-9725AFEE4F0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91370-1200-47CF-9C51-BA417B7AF97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8DAF4-6AB7-441B-8265-C65E6DDAA4B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FEF3E-EF85-4A04-B838-EE25FA58E4B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4F295-D6F1-49AA-97D9-1F55E431033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52F8E-08E7-4DC7-A297-30F9F59FF11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10-31T07:45:48Z</dcterms:modified>
  <cp:revision>304</cp:revision>
  <dc:subject/>
  <dc:title>NMR a energiové hladiny</dc:title>
</cp:coreProperties>
</file>