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9FB8-FAD1-4147-BA2E-A1A871F19FB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B035-1024-43FC-A369-06ED2E7FCAC4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6E55-A23B-4AD2-BED9-C222495A2364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F793-5818-4DF2-8ECB-C9013D6746E1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8771-A22F-41D8-9996-D7C79A89EDE4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EF34-AA48-4268-8A1E-EBC7A94AA69C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5359-73D6-42DE-AB98-57C70DC2B569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465-1730-4147-BBB2-7FD92A57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B84A-DF08-4ACB-B0D9-23346C99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7B3-8F97-40C8-B83B-988F7BC2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FD8-D945-451B-9C72-F31CB9BD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A702-47F9-48B2-B98C-7C5D2E28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FA21-200F-4630-811C-F369DB5D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54FD-4EA3-4874-9B48-0627E591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4D78-C8D7-40AD-A922-F8E65826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E667-AF23-40A9-BA54-D539AF55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A329-5826-4AC1-A227-097C394A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21AB-08A5-4848-B944-4A47A62C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E34-2086-40A1-9679-91D8EEEB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2335-34E4-4F60-B5E8-F9BF363D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467F-0D0A-4BF3-A9DB-A7F201A2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9C94-989A-467E-B7EE-0CCD3B03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30C4-40AA-433B-A31A-AD0F7B9B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69D3-DAE7-4462-AEDB-A2A2A27D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C727-1195-463D-8218-2A3AD057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1CA-5145-4C0A-8077-6230D1BB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B44-D232-4920-8888-3DFDC739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8928-CB77-47BC-BB6D-131476F8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9462-610F-4097-BB2B-091E051E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C0A9-0AF1-4FDC-9A6C-734D3E28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0BD-AC43-472D-AC07-DBA5AE95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028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029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030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031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032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033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055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056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057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058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059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060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061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062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063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064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065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066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067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068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069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070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071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072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073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074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075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076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077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078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079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080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081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082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083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084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085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086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087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088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089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090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091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092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093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094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095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096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097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098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099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100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101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102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103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104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105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1106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1107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1108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1109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1110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1111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1112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1113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1114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1115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1116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1117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1118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1119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1120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1121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1122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1123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124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125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126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27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8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29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0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5E18-9AD1-40ED-8950-E6E87EA69925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026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102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1028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1029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1030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1031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1032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1033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34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035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036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037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038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039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040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041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042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043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1044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1045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1046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1047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1048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1049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1050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1051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1052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1053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1054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1055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1056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1057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1058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1059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1060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1061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1062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1063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1064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1065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1066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1067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1068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1069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1070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1071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1072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1073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1074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1075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1076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1077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1078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1079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1080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1081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1082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1083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1084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1085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1086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1087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1088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1089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1090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1091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1092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1093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1094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1095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1096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1097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1098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1099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1100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1101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1102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1103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1104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1105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1106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1107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1108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1109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1110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1111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1112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1113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1114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1115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1116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1117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1118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1119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1120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1121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1122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1123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124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125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126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132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133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EB3E-17F5-47BC-92C2-318B72C6BA15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chemed.chem.wisc.edu/JCEWWW/Features/eChemists/Bios/Menten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C6320 Chemical kinetics: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Narrow"/>
              </a:rPr>
              <a:t>Ref: "The World of Physical Chemistry," by K. J. Laidler, Oxford Univ. Press, 1993)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850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50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Wilhelmy (German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tudied the rate of inversion of sucrose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hydrolysis into D-(+)-glucose and D-(-)-fructose in the presence of an acid) and found it to be proportional to the concentrations of both the sugar and the acid. (viz experimentální úloha v praktiku fyzikální chemie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Guldberg and Waage (Norwa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formulated their "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law of mass acti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," according to which the reaction "forces" are proportional to the product of the concentrations of the reactants: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=[R]r [S]s/([A]a [B]b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where a, b, r and s are the stoichiometric coefficients in the chemical equation A+B=R+S. So the rate of the forward reaction is proportional to [A]a [B]b and that of the reverse reaction is proportional to {R]r [S]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5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 (UK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alyzed the reactions between H2O2 and HI and between KMnO4 and (COOH)2.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They wrote the corresponding differential equations, integrated them and determined the concentration vs. time relationships.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They also proposed an equation for the temperature dependence of the reaction rate, k = A 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van't Hoff (The Netherlands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published his "Studies of Chemical Dynamics" (Études de dynamique chimique), in which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he generalized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d further developed the work of Wilhelmy (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acharoza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In particular, he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introduced the differential method of analysis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He also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analyzed the temperature dependence of the equilibrium constant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now called the "van't Hoff equation") and of forward and reverse reaction rat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7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Ostwald (Germany; Latvia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introduces the terms "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reaction order" and "half-life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" in his "Lehrbuch der allgemeinen Chemie.„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9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Arrhenius (Sweden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further analyzed the temperature dependence of reaction rate,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 = A exp(-B/T),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d gave it an "energy barrier" interpretation; this is now called the "Arrhenius equation."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iss Menten (Maude Lenora Menten, *1879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ichaelis-Menten equation (1912),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nzyme kinetics (Professor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a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79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years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age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Picture 8" descr="http://employees.csbsju.edu/hjakubowski/classes/ch331/transkinetics/Menten.GIF"/>
          <p:cNvPicPr/>
          <p:nvPr/>
        </p:nvPicPr>
        <p:blipFill>
          <a:blip r:embed="rId1"/>
          <a:stretch/>
        </p:blipFill>
        <p:spPr>
          <a:xfrm>
            <a:off x="4572000" y="2133720"/>
            <a:ext cx="3429000" cy="4022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Termodynamik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mmary of findings from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mmary of findings from history. Many concepts and ideas encountered in chemical kinetics has long been know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etting some kinetic information is very demanding (reaction mechanisms, reaction coordinate, ...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dern kinetics is interdisciplinary (biochemical kinetics, molecular dynamics, quantum chemistry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609480" y="182880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table women and men of science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jchemed.chem.wisc.edu/JCEWWW/Features/eChemists/Bios/Menten.html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opousek</cp:lastModifiedBy>
  <dcterms:modified xsi:type="dcterms:W3CDTF">2014-02-19T16:42:42Z</dcterms:modified>
  <cp:revision>24</cp:revision>
  <dc:subject/>
  <dc:title>Prezentace aplikace PowerPoint</dc:title>
</cp:coreProperties>
</file>