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06A6-3603-41A7-874A-1F3CAC685DF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BFC5-11F6-43B1-BE02-54F0F0A86880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B4B6-1BD0-42BB-9955-2BA0D917E797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06F5-9019-4FDC-B55F-4496C63EF204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4C70F-0F45-4699-A595-596E92B75B88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1B03-F429-44BF-969E-BB94A1F712D2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9617-2387-47B5-9D92-16ED3E7F0148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212B-0A13-4BFE-BF01-AAFB2C3E0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22E9-1037-467F-9ED6-4AA947A2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D144-EE31-46D6-834F-A62F17E4B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F8E3-DBDF-4BEE-9D17-EED2B7B06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14E3-1BB9-4BB2-9C42-D01FE4D79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D72D-1A8B-4FB6-9D60-1AB1844D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4729-C075-4515-B316-BC9F5179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625B-5FA2-42A5-B532-AB3C3469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609F-32D7-4D10-9104-722F054B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0E47-73EC-4438-9AA0-9A793510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E7410-B287-44BD-A39A-682DA91A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846F-0877-4E39-B046-304C4351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9ECB-028C-4518-95DE-3A10C0CC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D05C-74F9-4F7A-84D7-FAB3FB47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C5662-13AA-4635-8757-24AFE0D2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A764-4695-4732-BCD8-ED27D6476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ECC4-F195-462D-A2D9-DBB9C9933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0D0A-655A-465A-B57B-82D77EF9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3292-50BC-4A09-93AA-CF6611C6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6FA1-F483-455A-BC56-42CF277E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2321-0EA3-46B0-B382-61EF004D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6B2E-85B3-425F-BA64-85D3A948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E421-2B87-43C1-A63C-E5B4C3C1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F5D2-34C2-4E03-8D11-CE901400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1027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1028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Line 1029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Line 1030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Line 1031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Line 1032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Line 1033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Line 1034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Line 1035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Line 1036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Line 1037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Line 1038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Line 1039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Line 1040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Line 1041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Line 1042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Line 1043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Line 1044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Line 1045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Line 1046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Line 1047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Line 1048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Line 1049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Line 1050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Line 1051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Line 1052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Line 1053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Line 1054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Line 1055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Line 1056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Line 1057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Line 1058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Line 1059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Line 1060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Line 1061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Line 1062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Line 1063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Line 1064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Line 1065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Line 1066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Line 1067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Line 1068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Line 1069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Line 1070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Line 1071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Line 1072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Line 1073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Line 1074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Line 1075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Line 1076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Line 1077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Line 1078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Line 1079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Line 1080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Line 1081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Line 1082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Line 1083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Line 1084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Line 1085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Line 1086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Line 1087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Line 1088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Line 1089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Line 1090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Line 1091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Line 1092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Line 1093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Line 1094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Line 1095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Line 1096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Line 1097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Line 1098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Line 1099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Line 1100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Line 1101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Line 1102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Line 1103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Line 1104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Line 1105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Line 1106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Line 1107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Line 1108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Line 1109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Line 1110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Line 1111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Line 1112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Line 1113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Line 1114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Line 1115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Line 1116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Line 1117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Line 1118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Line 1119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Line 1120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Line 1121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Line 1122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Line 1123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Line 1124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Line 1125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1126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Rectangle 1127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Rectangle 1128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Rectangle 1129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Rectangle 1130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9B3D-125D-459F-911F-4349FE87E2D9}" type="slidenum">
              <a:rPr b="0" lang="cs-CZ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1026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Rectangle 1027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Group 1028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Line 1029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Line 1030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Line 1031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Line 1032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Line 1033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Line 1034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Line 1035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Line 1036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Line 1037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Line 1038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Line 1039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Line 1040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Line 1041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Line 1042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Line 1043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Line 1044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Line 1045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Line 1046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Line 1047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Line 1048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Line 1049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Line 1050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Line 1051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Line 1052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Line 1053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Line 1054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Line 1055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Line 1056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Line 1057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Line 1058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Line 1059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Line 1060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Line 1061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Line 1062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Line 1063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Line 1064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Line 1065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Line 1066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Line 1067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Line 1068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Line 1069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Line 1070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Line 1071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Line 1072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Line 1073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Line 1074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Line 1075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Line 1076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Line 1077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Line 1078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Line 1079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Line 1080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Line 1081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Line 1082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Line 1083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Line 1084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Line 1085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Line 1086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Line 1087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Line 1088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Line 1089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Line 1090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Line 1091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Line 1092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Line 1093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Line 1094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Line 1095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Line 1096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Line 1097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Line 1098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Line 1099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Line 1100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Line 1101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Line 1102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Line 1103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Line 1104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Line 1105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Line 1106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Line 1107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Line 1108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Line 1109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Line 1110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Line 1111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Line 1112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Line 1113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Line 1114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Line 1115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Line 1116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Line 1117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Line 1118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Line 1119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Line 1120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Line 1121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Line 1122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Line 1123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Line 1124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Line 1125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Line 1126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Rectangle 1132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Rectangle 1133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2F7C-6345-453B-B932-C2F2238E030E}" type="slidenum">
              <a:rPr b="0" lang="cs-CZ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jchemed.chem.wisc.edu/JCEWWW/Features/eChemists/Bios/Menten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C6320 Chemical kinetics: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History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ArialNarrow"/>
              </a:rPr>
              <a:t>Ref: "The World of Physical Chemistry," by K. J. Laidler, Oxford Univ. Press, 1993)</a:t>
            </a:r>
            <a:br>
              <a:rPr sz="1600"/>
            </a:b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850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50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Wilhelmy (Germany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studied the rate of inversion of sucrose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(hydrolysis into D-(+)-glucose and D-(-)-fructose in the presence of an acid) and found it to be proportional to the concentrations of both the sugar and the acid. (viz experimentální úloha v praktiku fyzikální chemie)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64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Guldberg and Waage (Norway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formulated their "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law of mass action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," according to which the reaction "forces" are proportional to the product of the concentrations of the reactants: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K=[R]r [S]s/([A]a [B]b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where a, b, r and s are the stoichiometric coefficients in the chemical equation A+B=R+S. So the rate of the forward reaction is proportional to [A]a [B]b and that of the reverse reaction is proportional to {R]r [S]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65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Harcourt and Esson (UK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analyzed the reactions between H2O2 and HI and between KMnO4 and (COOH)2.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They wrote the corresponding differential equations, integrated them and determined the concentration vs. time relationships.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They also proposed an equation for the temperature dependence of the reaction rate, k = A TC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84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van't Hoff (The Netherlands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published his "Studies of Chemical Dynamics" (Études de dynamique chimique), in which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he generalized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and further developed the work of Wilhelmy (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sacharoza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),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Harcourt and Esson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. In particular, he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introduced the differential method of analysis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. He also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analyzed the temperature dependence of the equilibrium constant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(now called the "van't Hoff equation") and of forward and reverse reaction rate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87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Ostwald (Germany; Latvia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introduces the terms "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reaction order" and "half-life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" in his "Lehrbuch der allgemeinen Chemie.„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89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Arrhenius (Sweden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further analyzed the temperature dependence of reaction rate,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k = A exp(-B/T),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and gave it an "energy barrier" interpretation; this is now called the "Arrhenius equation."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Miss Menten (Maude Lenora Menten, *1879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Michaelis-Menten equation (1912),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nzyme kinetics (Professor 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at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79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years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 age</a:t>
            </a: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3" name="Picture 8" descr="http://employees.csbsju.edu/hjakubowski/classes/ch331/transkinetics/Menten.GIF"/>
          <p:cNvPicPr/>
          <p:nvPr/>
        </p:nvPicPr>
        <p:blipFill>
          <a:blip r:embed="rId1"/>
          <a:stretch/>
        </p:blipFill>
        <p:spPr>
          <a:xfrm>
            <a:off x="4572000" y="2133720"/>
            <a:ext cx="3429000" cy="4022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Termodynamik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5" name="Picture 3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53452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280" y="60912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ummary of findings from histo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37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ummary of findings from history. Many concepts and ideas encountered in chemical kinetics has long been known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Getting some kinetic information is very demanding (reaction mechanisms, reaction coordinate, ...)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odern kinetics is interdisciplinary (biochemical kinetics, molecular dynamics, quantum chemistry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Literatu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609480" y="1828800"/>
            <a:ext cx="7620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Notable women and men of science 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http://jchemed.chem.wisc.edu/JCEWWW/Features/eChemists/Bios/Menten.html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opousek</dc:creator>
  <dc:description/>
  <dc:language>en-US</dc:language>
  <cp:lastModifiedBy>sopousek</cp:lastModifiedBy>
  <dcterms:modified xsi:type="dcterms:W3CDTF">2014-02-19T16:42:42Z</dcterms:modified>
  <cp:revision>24</cp:revision>
  <dc:subject/>
  <dc:title>Prezentace aplikace PowerPoint</dc:title>
</cp:coreProperties>
</file>