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B2BD-7BF7-4B94-B267-3AAA08D23B9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A7AC-9E85-4CFB-9ABB-8431D5EEC39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843E-377D-4070-A39E-A7CDBAFB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4D3C-1BAD-4ECB-B51F-0A0DFEAC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88083-032E-40C1-9ABB-B0A348B7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6C955-77BA-44CD-A03F-8E914F55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99BE8-1AD8-4EF3-9C76-9401EDDE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E8CA0-F7C0-4118-822C-2B3240E2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D456F-219B-4122-B297-CBA97160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8F0E0-4487-4865-A63D-AF005B93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FA07F-3183-4C2E-A36C-FBE459AD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95D5C-A97D-465F-A297-A621EFD8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A3259-97DA-4E3C-8DE0-79C4F9C8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81CC6-AE82-4203-99C8-CCA6B5D8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D941-5081-4F36-836E-9686A7701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486C4-F306-40E3-88DA-240732A2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89E7E-D795-4797-A609-2F269310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49CCD-0EA9-4624-A27F-E5EC149C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1AA52-E614-4099-981D-83DE0B8A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54300-5BDB-41CB-AE9D-96DD2AAE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BD59D-C37F-4E6F-AF5E-258E0D6E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8A970-E9BB-483D-A684-219B9CC0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9095B-9D82-47BC-9E08-205E6786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3E19C-3B9E-4548-8051-90C1E49C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286F0-B39B-49D2-A0E8-33A733C0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A56-FE67-4D94-9A15-C0DC2ECB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EF5EA-96F7-4886-9714-A5D886F3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532CE-7CBB-4ED8-BB92-37671983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39C79-4DCE-4100-A5E7-6F631C41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50CC6-F28D-46D8-BCD4-257454F1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915CE-0C50-43DF-8F46-1504F792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B52A6-B971-4495-AA8D-0520E0BF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01FC3-F759-4075-9EA9-02D1BC2A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8AC1D-5E9A-4945-A074-0BDE6080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3ECB5-5D50-4C77-BBE7-4E7A4CF6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27607-4D1F-4ADE-8375-CCF12A71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5AF9-336E-4508-8153-19775A84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4E039-2739-4F54-901F-03FED26C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6C35A-A082-44BC-B334-73FD8104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7427A-4560-4A47-96FA-3F55245A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B79CA-41EC-47A5-A471-14ED428C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B343B-F376-49BC-A90D-7F8CA645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8CDA6-1628-4F83-AAE2-AF7FCC54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6BE7B-FA07-4086-91FF-113135D9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79B06-E401-44B9-B333-FDB6DA09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3D1C7-95B4-40EA-987A-9E82793C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F579A-6D07-4593-9E49-FB7E6F77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855C-1EF2-4396-9944-BBB2D078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42B38-DD37-4BE5-B4A0-19BC6504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D7579-E308-4C75-BF9A-9DEB308A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C7F38-5E9F-444A-A22A-6565C1F1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7EFE0-4AEE-4A99-BA48-EF042F76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8C8BF-6C66-4CFE-855B-765FC8DF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1036FF-497A-46B5-954E-1B05E145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AF51E4-9935-4197-93C4-21B1393D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6C916F-E623-4C35-BBC7-C17D66BB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041B90-CFFD-4170-82D7-94C343F3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525F7-3685-4001-8080-A0885E1D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01C9-AA9B-4891-8352-B4690782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4FBD3-5B85-4033-BCA9-51652B17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5AFEC-4233-4A5F-8B6D-71D2BF4A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E86AA5-4B9C-4F74-B65E-C5552833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F04126-4BAD-4B7E-9C34-C008879D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D9A280-EBF0-4C3F-AC81-F8B9F2F1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41E2D6-A6E1-425C-B33B-2630711E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CF675E-918A-438A-B978-4402DEAC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8CB0-5FB4-4E99-9DFE-73922BF6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3A67-DB06-42A0-A642-0A89EBBA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2182-7283-4F8A-96B1-0D1185AF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202D-886D-4840-8E06-AB125332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2B67-3532-482A-9ED6-8431DA30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69B0-3F04-461B-ABAF-4522A928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92ED-6574-49C1-A7D1-D73479B5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47E3-BA74-437C-BD8E-AE91DEC3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7AAC-6245-4342-99A4-E64DC015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EE77-6692-4A3C-8F37-4CB9E6C7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25C53-7356-48E8-8ACE-1CAE5AFE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1EF47-0882-4205-A1E0-1D045644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BB039-7A54-4053-A21C-DB264D9B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EAB71-BAE4-41D7-87E3-FE423F72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9F9F2-AE0E-4A7C-AF8D-58A5CF30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4EF5-DFEE-476B-ABB7-D25E6408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30A68-7931-43C4-AAD0-45B500B0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DF23D-FD7A-4DBA-A4EB-F1EECCF9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CF58D-7666-46E0-90AD-93569DEF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41957-F022-4289-AE21-B0955DA0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A5122-10A5-4D43-914A-D1FDE08F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AB529-DA42-4122-A22D-4878C867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938DF-F8DD-4705-BF61-A9E90C88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B999C-D5C4-46F4-A206-22BBDEC8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F818D-06C1-402F-9897-34F5423E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314A5-8B75-43F9-8E2B-B3361F3F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A37-9D96-4DE0-924B-5ECEF77C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6435A-830B-4774-BCAF-8B64ED70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6BB95-7663-44C0-94A5-35C87AC1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C948D-FFD4-48FD-8054-4265CA31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ED0BF-262A-4535-B885-88BAF61F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F2F78-11EA-49A1-973B-3D1D6BF9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B744C-63CD-43E9-8B19-E617FCAA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233B2-98F7-4AB8-8C98-E96ECF83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0C02E-7D72-46DF-AF5D-E8C5A904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EFED9-9E25-4BE5-84EA-BB1996A3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387F5-AC41-4A85-90DB-9B1B6772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8F49-E299-43C4-91BC-FC8F5A5A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DE190-C308-4339-AFE0-15331AE0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7BDAB-76C6-40DE-A474-568CF49E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69617-397E-4B7E-9496-03033129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545EF-48F2-4704-A0D2-0FFEC123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20317-5092-44C2-80AC-3043F849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6C886-86DB-456B-8BC5-A3A4C1D8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C6C54-5086-42A4-9AC1-3FBDC181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1F474-B464-4453-B435-E243B782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DB3B1-5D02-4B0C-AEE8-E86B7866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A4319-35BE-4485-90D7-5169FB72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6D3F-512C-40AA-B065-35B88943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CDE20-C553-4201-993D-D8C49A84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C1393-F5F8-409D-B1DC-51B7D9F6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6D92A-12B4-419F-9BD2-6D7118FF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C9ABC-4729-4AD3-A51B-2997823F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B9C46-6CA1-4916-A118-9DBD0973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4FD33-D80A-47B5-A853-605C4A53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36103-ED9D-41C0-AD1D-4744444E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DDABB-C20D-4458-9DA0-1D480870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284AC-A290-492E-96E8-64275CD0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DC5B8-AAD8-4ACE-B900-9D49C98F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7494-99D2-4C5C-9E74-219FAF55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2D819-D310-4487-BF9F-E8A2CB2F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E5F65-7D9D-4BDE-8539-3CECA0F3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B0C0C-843F-4D7A-9AE4-04ACCE7F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FBAD7-534B-4DC8-BF38-4A724EE6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9C1F3-A10F-4F39-BBE2-5A19A1D5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E5BCC-AEAE-4055-8848-9FB1C8AB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B81E1-CF76-4DD8-81DA-F9BADA1E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7B5F6-9805-4733-8F8B-465B22B7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E5A4C-5B0B-4691-B544-8AD125C9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FE4B7-0724-4C57-9477-D3F7A48D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75CD-DC9C-437D-8782-023F661C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A2B36-920C-45CC-9BA2-9AF80E0C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3AB76-CBD1-456A-B64F-A27BC44A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5B0EE-7294-432B-8A0C-C1CBEB77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6CE25-85E5-477D-8740-FEDC11BA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8FB22-DF89-406C-B771-2D714BAA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12394-56E0-4FC8-B62A-4B88B2EB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6CBEF-8F23-429B-BE44-D95A91E2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3A291-8E45-4C18-B67D-8681EEDB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C8B83-683A-4DDA-A51C-2F049268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721C8-36C9-420A-82BB-DA942CEB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34D5-485F-4D10-9963-61400AD1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EB35A-69BB-4758-BFBF-4F8E64FB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DFFA5-406F-4B5C-B51C-A90738F8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82EF1-A6CB-4486-A925-73E7F27E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B4C8B-355B-41C2-B1BD-2D82016D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61EC5-8B20-482D-90EC-151D1695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C634C-C45D-4EC6-9405-7980749F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6E6B1-D2B3-4080-BED9-9FA0F057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33220-75EA-40D3-BEAD-423FBF9B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A3803-E655-49BC-8EF1-558C8499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46127-09B8-4480-A5B0-474BCDFD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nice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Přímá spojnice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C8CA-9B60-4435-A4CE-1E62433FB69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nice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Přímá spojnice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Přímá spojnice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Přímá spojnice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1029-EC1B-456F-8E76-F79A72D0DDF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1807-24C8-41A4-8FF5-85887876193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7B75-D9DA-45AB-AA6F-1B3B4BAB987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E538-D6BF-4096-BB16-182B064640A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nice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91B7-122C-48D6-8DCF-B10080B50C1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5016-2847-4FE4-8B93-9E390146B22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Přímá spojnice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36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4C8B-AD28-49D4-9BA5-BADF82D766E4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6A02-801C-4A58-9585-3609340430F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Přímá spojnice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2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CADD-087A-40FD-BEAC-1DCBE31CF18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8434-D183-4CDF-B7BE-2DFB043147F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EEDC-9084-4011-89AF-EAC63172FFA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Přímá spojnice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347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5C6B-5433-49C7-94A3-3ADB7CA2A2D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Rectangle 4" descr=""/>
          <p:cNvPicPr/>
          <p:nvPr/>
        </p:nvPicPr>
        <p:blipFill>
          <a:blip r:embed="rId1"/>
          <a:stretch/>
        </p:blipFill>
        <p:spPr>
          <a:xfrm>
            <a:off x="493560" y="669960"/>
            <a:ext cx="8028000" cy="27622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Sopousek, L01_02 Chemická kinet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1" marL="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E6D3-5DFD-46FF-93FC-F97F9417239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Obdélník 1"/>
          <p:cNvSpPr/>
          <p:nvPr/>
        </p:nvSpPr>
        <p:spPr>
          <a:xfrm>
            <a:off x="2286000" y="2828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7"/>
          <p:cNvSpPr/>
          <p:nvPr/>
        </p:nvSpPr>
        <p:spPr>
          <a:xfrm>
            <a:off x="76320" y="-192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9"/>
          <p:cNvSpPr/>
          <p:nvPr/>
        </p:nvSpPr>
        <p:spPr>
          <a:xfrm>
            <a:off x="228600" y="-396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1"/>
          <p:cNvSpPr/>
          <p:nvPr/>
        </p:nvSpPr>
        <p:spPr>
          <a:xfrm>
            <a:off x="380880" y="112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13" descr="http://4.bp.blogspot.com/-UtjRz5BKRBE/TliAGdz3tEI/AAAAAAAAAgI/m_ZIAoTzqfQ/s1600/wolfram+alpha.jpg"/>
          <p:cNvPicPr/>
          <p:nvPr/>
        </p:nvPicPr>
        <p:blipFill>
          <a:blip r:embed="rId2"/>
          <a:stretch/>
        </p:blipFill>
        <p:spPr>
          <a:xfrm>
            <a:off x="1332000" y="3774960"/>
            <a:ext cx="256356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Rectangle 2" descr=""/>
          <p:cNvPicPr/>
          <p:nvPr/>
        </p:nvPicPr>
        <p:blipFill>
          <a:blip r:embed="rId1"/>
          <a:stretch/>
        </p:blipFill>
        <p:spPr>
          <a:xfrm>
            <a:off x="493560" y="609480"/>
            <a:ext cx="8272440" cy="12747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tegrate 1/x dx from 1 to 10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Zástupný symbol pro číslo snímku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1" marL="35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E8B4-B5B2-4657-B415-726AAECC736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6" descr="http://www.wolframalpha.com/input/subpodaction/?c=5a&amp;u=%2Finput%2Fsubpodimage.jsp%3Fpodtitle%3DVisual%2520representation%2520of%2520the%2520integral%26cdtf%3DMSP113201gh8627505579700004afd518f82bh1350%26i%3Dintegrate%25201%252Fx%2520dx%2520from%25201%2520to%252010%26theme%3D1%26plottype%3DDefault%26incframe%3Dfalse%26inctitle%3Dfalse%26incinput%3Dfalse%26mck%3D%26spidx%3D1%26s%3D59%26id%3DMSP112201gh8627505579700003h799a8c67d5cacg%26podidentifier%3DVisualRepresentationOfTheIntegral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530280" y="2781360"/>
            <a:ext cx="51940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integrate -1/a d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Zástupný symbol pro číslo snímku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lvl="1" marL="19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33B2-2CAB-4F59-A48A-1A1C3752A46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6" descr="http://www.wolframalpha.com/input/subpodaction/?c=5a&amp;u=%2Finput%2Fsubpodimage.jsp%3Fpodtitle%3DPlots%2520of%2520the%2520integral%26cdtf%3DMSP17331h47d00hi5e09bg3000050717fi59679bi5g%26i%3Dintegrate%2520-1%252Fa%2520da%26theme%3D1%26plottype%3D2DMathPlot%26incframe%3Dfalse%26inctitle%3Dfalse%26incinput%3Dfalse%26mck%3D%26spidx%3D1%26s%3D63%26id%3DMSP17311h47d00hi5e09bg300002ed5067866bg4fb5%26podidentifier%3DPlot%26subtitle%3D%26%26%26view%3Dpreview%26zoom%3Ds%26subselection%3Dundefined"/>
          <p:cNvPicPr/>
          <p:nvPr/>
        </p:nvPicPr>
        <p:blipFill>
          <a:blip r:embed="rId2"/>
          <a:stretch/>
        </p:blipFill>
        <p:spPr>
          <a:xfrm>
            <a:off x="826920" y="2565360"/>
            <a:ext cx="69138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Rectangl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75800" cy="1122480"/>
          </a:xfrm>
          <a:prstGeom prst="rect">
            <a:avLst/>
          </a:prstGeom>
          <a:ln w="0">
            <a:noFill/>
          </a:ln>
        </p:spPr>
      </p:pic>
      <p:sp>
        <p:nvSpPr>
          <p:cNvPr id="578" name="Zástupný symbol pro číslo snímku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1"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9844-0182-4A5E-92D3-F96866415DD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4" descr="d1592"/>
          <p:cNvPicPr/>
          <p:nvPr/>
        </p:nvPicPr>
        <p:blipFill>
          <a:blip r:embed="rId2"/>
          <a:stretch/>
        </p:blipFill>
        <p:spPr>
          <a:xfrm>
            <a:off x="1042920" y="2421000"/>
            <a:ext cx="6461280" cy="326880"/>
          </a:xfrm>
          <a:prstGeom prst="rect">
            <a:avLst/>
          </a:prstGeom>
          <a:ln w="0">
            <a:noFill/>
          </a:ln>
        </p:spPr>
      </p:pic>
      <p:sp>
        <p:nvSpPr>
          <p:cNvPr id="580" name="TextovéPole 1"/>
          <p:cNvSpPr/>
          <p:nvPr/>
        </p:nvSpPr>
        <p:spPr>
          <a:xfrm>
            <a:off x="395280" y="162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akce n-teho řá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95280" y="2852640"/>
          <a:ext cx="7445520" cy="3795840"/>
        </p:xfrm>
        <a:graphic>
          <a:graphicData uri="http://schemas.openxmlformats.org/drawingml/2006/table">
            <a:tbl>
              <a:tblPr/>
              <a:tblGrid>
                <a:gridCol w="403200"/>
                <a:gridCol w="7042320"/>
              </a:tblGrid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3000"/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0.řádu (n = 0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. řádu (n = 1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. řádu (n = 2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4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III. řádu (n = 3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4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Reakce n.řád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pic>
        <p:nvPicPr>
          <p:cNvPr id="582" name="Picture 10" descr="http://www.vscht.cz/fch/frvs/html/math/d1594.gif"/>
          <p:cNvPicPr/>
          <p:nvPr/>
        </p:nvPicPr>
        <p:blipFill>
          <a:blip r:embed="rId3"/>
          <a:stretch/>
        </p:blipFill>
        <p:spPr>
          <a:xfrm>
            <a:off x="2151000" y="3276720"/>
            <a:ext cx="5699160" cy="152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9" descr="http://www.vscht.cz/fch/frvs/html/math/d1595.gif"/>
          <p:cNvPicPr/>
          <p:nvPr/>
        </p:nvPicPr>
        <p:blipFill>
          <a:blip r:embed="rId4"/>
          <a:stretch/>
        </p:blipFill>
        <p:spPr>
          <a:xfrm>
            <a:off x="2050920" y="3860640"/>
            <a:ext cx="5707080" cy="304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http://www.vscht.cz/fch/frvs/html/math/d1596.gif"/>
          <p:cNvPicPr/>
          <p:nvPr/>
        </p:nvPicPr>
        <p:blipFill>
          <a:blip r:embed="rId5"/>
          <a:stretch/>
        </p:blipFill>
        <p:spPr>
          <a:xfrm>
            <a:off x="2062080" y="4653000"/>
            <a:ext cx="5684760" cy="3348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7" descr="http://www.vscht.cz/fch/frvs/html/math/d1597.gif"/>
          <p:cNvPicPr/>
          <p:nvPr/>
        </p:nvPicPr>
        <p:blipFill>
          <a:blip r:embed="rId6"/>
          <a:stretch/>
        </p:blipFill>
        <p:spPr>
          <a:xfrm>
            <a:off x="2200320" y="5373720"/>
            <a:ext cx="5684760" cy="419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http://www.vscht.cz/fch/frvs/html/math/d1598.gif"/>
          <p:cNvPicPr/>
          <p:nvPr/>
        </p:nvPicPr>
        <p:blipFill>
          <a:blip r:embed="rId7"/>
          <a:stretch/>
        </p:blipFill>
        <p:spPr>
          <a:xfrm>
            <a:off x="2200320" y="6237360"/>
            <a:ext cx="56847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tegrate -1/2 dt from t=0 to 10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2.0611536224385578279659403801558209763758072755991036929... × 10^-7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20 levá i pravá stran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Arial"/>
              </a:rPr>
              <a:t>-dA/dt=k*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ří Sopoušek</cp:lastModifiedBy>
  <dcterms:modified xsi:type="dcterms:W3CDTF">2020-03-10T08:27:18Z</dcterms:modified>
  <cp:revision>21</cp:revision>
  <dc:subject/>
  <dc:title>Prezentace aplikace PowerPoint</dc:title>
</cp:coreProperties>
</file>