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50D5-BFAF-40CC-9D26-3F4F7F7664E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BC33-A2BA-4C12-8F7B-2B084D86A15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1D2A-52C6-4860-959E-B4E610220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962C-3820-4455-B9B3-6F1BE986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28160-A344-46E5-8E45-38454484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CC874-DBDD-427B-9D73-22FE98FD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399C4-BF52-46B9-9105-782BA5E9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DB227-E294-4844-9886-49FDDE48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44B38-912C-4418-8A11-E6E521C6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19355-2A7C-4EEB-9BD5-62CF8882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EAFA7-8572-4C7A-9070-13E20D6C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7F7CC-E1B2-4599-B3D9-5791F165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A15DB-F824-4DBE-91BE-1633CAC64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19C706-0395-4927-A1C4-3297704E5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69DB-F7F5-43E8-9CB1-76394EAD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0AABC-72FE-4C81-9923-DAF51DF1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121A8-B642-4B73-A768-A6F61D4D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FDA70-4185-421A-9158-536B9B22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A5FCF-98BA-4C43-B928-B3DD8FDE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DA7CC-05ED-41F5-8E91-7FA23272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5DC25-D564-44C5-B4D1-60F1649C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F0F054-4FF9-4F66-AA8F-F32547B4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9A076-D8BD-4FC2-8A6C-8DC080CE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AE221-B776-4449-AE62-EF82E40F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1C8F7-8646-4C9A-AA47-7B0F284E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B082-59E7-434D-8A66-58DF99768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8BA62-F2EA-47B3-8721-D719BA396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9F1EC-F0B5-4DAC-BECF-B4829AD1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31783-8E7C-46CB-A8D8-82C77D2D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E4666-C851-4FD0-890A-82418A95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92A65-5A8F-4092-9E7C-988C4E18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9D7BD-478C-4663-B4A7-C9450D11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F2DCC-4B6B-46D4-ADFC-8E0CAB98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F0571-F4CD-4D4A-8E48-3F849D94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23DE2-DA64-4535-818B-F2137687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20DF0-E13E-4CBF-BE49-176DCEC6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DD93-567F-4653-BED3-786D2C2D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C8450-8EE6-4E01-8BFC-67AA8EF3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7F755-D801-4622-8F7C-E9039CB83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A3289-62CD-4C0A-8928-49DFBC07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1AFEEE-0A8E-415D-9664-D2C3C29A2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C29D5E-BB99-4BFB-A6DE-5B4CB374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C9BC5-7C16-4E18-97EB-6D6EC18A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AD46F-C72E-43AF-B138-EEF2E256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108FF3-B6C9-44D7-BA8B-ED786F5C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5CA40-175D-44ED-A128-D0707C9E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7D2476-91ED-442C-9EAA-57B850DA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DA7A-7BE8-426D-B9AC-82675F76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91933-1763-4550-BAD9-64EA6492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100EB8-51D8-4C09-AF94-DB6AD02E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9CE28-1302-4995-B9C0-BD3C7F04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41FC38-471A-4A29-B600-2668AD116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B98817-401E-4119-B01D-697268FB6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FEBF86-AD20-4655-9625-23AB4CFE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A5B8A0-A4A6-4F6F-8C22-01A2D681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FAC755-179A-4BE6-BD1D-6D2F9896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810172-7C62-4FF6-88BD-7E8E0EC4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3340BF-E91A-4457-810E-18DE1727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C43A-1F59-4CDD-AC47-BFDED31E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77C958-E0A8-4680-AAB0-5E10F8EB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D93719-EE32-44C1-BB55-AC112D49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B5C0F7-6BA9-4E2D-9D24-48A8296C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3599EA-25CC-47E8-8525-28F0D067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882FD0-FE05-4CE1-9416-C93E756F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30F96A-457D-4F98-B369-A639F422C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353D74-BB9A-49DB-BAB6-F142615E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34F7-89BC-426F-94CE-0C5C879B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BD31-9757-4268-A94A-2F9F2456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E608-502E-4977-8E88-76726914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9EC3-A6D5-4F4D-897F-DDC23FB5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3DC8-F7B8-4653-9D83-97CB0342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F045-489A-41BC-9EA1-CDF78A46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736F-FBD0-490D-ADBB-4AF569C9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F457-8532-4B21-B4BC-4E5400D7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5B78-88A4-448F-8C98-57C95626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AC8A-7852-4383-87D9-1428C311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AE32A-7C6C-450F-93E2-C5E7CE69B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E6972-8D14-4D43-B880-FFE59608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6ADB7-8691-47B0-B2B6-CEBD85D8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FEB07-A0FB-47A8-A12F-494F95BB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B34A1-C2FA-4128-B1BB-23133830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450E-34EB-4B92-9D77-94AEEAE8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3EE1F-1E09-4C2D-B751-75D680C1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1EDB8-DAB5-4C31-951A-28A20C1F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7D13A-2D8B-43B3-9AD9-7A69516B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EC020-EB5A-43B9-BFAE-B91FD766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E2DB2-7192-4BF4-B468-0A371A13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7A1BA-5BDD-45BF-B9E4-59F646245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322D8-BD5B-42F9-8AAE-78BBA1AF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69828-1712-49F6-B3E0-2346BE46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78E8F-D48E-4474-A318-A85A07B3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4AD21-8E22-4FEF-8FF5-E3925761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AF08-A8E0-4AE1-83AF-355131AC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0AC5D-20E4-45F3-8622-6B6B7AC9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1B201-2737-4D64-BE58-FCD1A5A5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71EA0-8605-4DCD-90A6-585B3B93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FAA26-9856-44EE-A76B-E2A3ACDE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1634C-D782-49F6-A776-57F2E827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081ED-77FB-408C-BB71-202E7A5C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BDD89-CEC2-47FB-99CF-69D2E1B2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5CE89-C391-462C-A6F6-0B7EBBE6C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AB033-E1E9-4EAA-A670-600CDA9D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A76F8-74BD-4DB5-A755-5188E364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6AAB-E8AD-41B0-8282-5C3A63AC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9EDFF-3569-45E2-940D-1975FE52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5E6CF-2766-4E6D-817B-39994F3F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733D5-9C5C-4EB1-8072-5AFFEDDE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27D44-994A-4A6F-BF5A-9A8224D1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8FE0F-CE7D-40F5-91DD-63A88ACD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33985-FE72-413A-82E3-97D0BC84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17279-FE8E-46D6-94E1-AF1B8457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45CD0-6ED3-446D-B146-FB10E860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E84EA-9434-4C44-98E0-A10657FE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75D12-17F1-455E-8A69-49C80FB1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11FD-A013-44F8-9902-88E824B2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99D04-75BE-4466-BAAE-F5ECD7BDF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CF15E-2F37-4A77-A61A-E27195C9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D7842-1638-422A-8736-31C89307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0D5F0-80E8-4D34-8BCA-BEF4F15B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F07FB-5084-4643-A894-379C40F0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E743B-F87D-406E-B79A-EB1FFD2B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38CE4-4E83-40E3-9272-CBC92119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EE00B-742E-4916-9AFE-C3A6EB9B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C90FE-C023-45AF-828C-CE7DDCB3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B048D-0565-47A7-B550-EA9D9617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14F2-A00B-4E53-9F75-9BCF8EF1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F7768-390C-4FD1-97F4-01F16F50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62E41-4277-4EC1-ACB0-064495474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F94D3-776A-4F26-9FB7-A1D0FDFB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D57E1-37F6-4E00-A51B-263FCE7B6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09448-25EC-4CDB-AF48-86469BDC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4CD31-C2A8-48CB-BBBD-3B0CDE0D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47F05-A0E6-4F12-824B-94B90627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CF84F-942E-42D2-8114-9DF68C24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CBE2C-C61A-4E83-9011-E2469160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6506A-09BB-467A-BFE9-7C22003F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2884-CFDD-4F1A-97ED-0D757897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50858-F200-4C67-92FA-2DD807C5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6B311-6B28-4ED5-8736-CADEA681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561F8-A0CF-452F-9530-B140120C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D21C4-868A-42BE-B4DD-9665B686D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69263-66B5-4837-96A8-FBA623AF1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3911C-5C50-4364-9A87-3BC9642BB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CE635-7EF1-4D7F-8E90-D4D510A3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1E194-43C2-4609-A1EE-280220FB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3C16F-2EB2-43B9-A765-FBCC3E26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03009-91C5-4FF0-ABC8-E9D2E51A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3EA0-31CA-4496-A283-F32A7482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4A05B-9DB7-4F79-BC31-50555AFF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5B019-20DC-4926-97AE-9492E1DB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7C81D-0327-44E5-A843-CF2D6F28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C1904-7AD7-4360-9565-B7D41FB6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67491-AA5D-4A84-A450-44C19A64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DAB8C-B24D-4118-9512-0EF8C75E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9966A-0A27-4268-8B14-8C38D0C4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48211-40EB-4E7C-AAC4-E5CA70854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39B5F-1E2E-42F7-BF33-1139543A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77D08-4C1A-48F7-A847-495E254A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římá spojnice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Přímá spojnice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2FA9-0F68-4B99-A874-59AC5049389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Přímá spojnice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Přímá spojnice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Přímá spojnice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Přímá spojnice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7A4C-25CD-45BD-9BB8-0FAE83779513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2CEE-81E0-40B8-9134-A94F92B6475A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614E-E04C-42A1-A0EE-F5370291D4B4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8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8624-5E0C-4C1A-9250-A625D5B00043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Přímá spojnice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5239-FE69-408A-AA28-A5D4AF6F518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A947-2442-48D1-9A99-00D052D69154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3b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Přímá spojnice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36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60CC-2F4C-40FD-9163-CDF45C45E949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6B75-9F87-4317-AB67-7C33EE042FDF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Přímá spojnice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221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867C-1CA0-41D6-9BDA-13B98014B87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9F8A-2A4E-47BD-A30F-98D48C1AEDC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F72D-D173-4EAA-B6C4-C54FD7C5C48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Přímá spojnice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347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5F12-6807-4BB2-9EF9-D8C086B53FE4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Rectangle 4" descr=""/>
          <p:cNvPicPr/>
          <p:nvPr/>
        </p:nvPicPr>
        <p:blipFill>
          <a:blip r:embed="rId1"/>
          <a:stretch/>
        </p:blipFill>
        <p:spPr>
          <a:xfrm>
            <a:off x="493560" y="669960"/>
            <a:ext cx="8028000" cy="276228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Sopousek, L01_02 Chemická kinet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9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lvl="1" marL="191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B460-938E-4FB0-ABF6-99C6D9CF058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bdélník 1"/>
          <p:cNvSpPr/>
          <p:nvPr/>
        </p:nvSpPr>
        <p:spPr>
          <a:xfrm>
            <a:off x="2286000" y="2828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wolframalpha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7"/>
          <p:cNvSpPr/>
          <p:nvPr/>
        </p:nvSpPr>
        <p:spPr>
          <a:xfrm>
            <a:off x="76320" y="-192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9"/>
          <p:cNvSpPr/>
          <p:nvPr/>
        </p:nvSpPr>
        <p:spPr>
          <a:xfrm>
            <a:off x="228600" y="-396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11"/>
          <p:cNvSpPr/>
          <p:nvPr/>
        </p:nvSpPr>
        <p:spPr>
          <a:xfrm>
            <a:off x="380880" y="112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13" descr="http://4.bp.blogspot.com/-UtjRz5BKRBE/TliAGdz3tEI/AAAAAAAAAgI/m_ZIAoTzqfQ/s1600/wolfram+alpha.jpg"/>
          <p:cNvPicPr/>
          <p:nvPr/>
        </p:nvPicPr>
        <p:blipFill>
          <a:blip r:embed="rId2"/>
          <a:stretch/>
        </p:blipFill>
        <p:spPr>
          <a:xfrm>
            <a:off x="1332000" y="3774960"/>
            <a:ext cx="256356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Rectangle 2" descr=""/>
          <p:cNvPicPr/>
          <p:nvPr/>
        </p:nvPicPr>
        <p:blipFill>
          <a:blip r:embed="rId1"/>
          <a:stretch/>
        </p:blipFill>
        <p:spPr>
          <a:xfrm>
            <a:off x="493560" y="609480"/>
            <a:ext cx="8272440" cy="127476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tegrate 1/x dx from 1 to 10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1" name="Zástupný symbol pro číslo snímku 6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lvl="1" marL="35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F8D4-2678-4E6F-A20F-959F0600BE23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6" descr="http://www.wolframalpha.com/input/subpodaction/?c=5a&amp;u=%2Finput%2Fsubpodimage.jsp%3Fpodtitle%3DVisual%2520representation%2520of%2520the%2520integral%26cdtf%3DMSP113201gh8627505579700004afd518f82bh1350%26i%3Dintegrate%25201%252Fx%2520dx%2520from%25201%2520to%252010%26theme%3D1%26plottype%3DDefault%26incframe%3Dfalse%26inctitle%3Dfalse%26incinput%3Dfalse%26mck%3D%26spidx%3D1%26s%3D59%26id%3DMSP112201gh8627505579700003h799a8c67d5cacg%26podidentifier%3DVisualRepresentationOfTheIntegral%26subtitle%3D%26%26%26view%3Dpreview%26zoom%3Ds%26subselection%3Dundefined"/>
          <p:cNvPicPr/>
          <p:nvPr/>
        </p:nvPicPr>
        <p:blipFill>
          <a:blip r:embed="rId2"/>
          <a:stretch/>
        </p:blipFill>
        <p:spPr>
          <a:xfrm>
            <a:off x="530280" y="2781360"/>
            <a:ext cx="51940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12248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integrate -1/a d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Zástupný symbol pro číslo snímku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lvl="1" marL="191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CF94-C125-4A26-A681-9710FEAA26C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6" descr="http://www.wolframalpha.com/input/subpodaction/?c=5a&amp;u=%2Finput%2Fsubpodimage.jsp%3Fpodtitle%3DPlots%2520of%2520the%2520integral%26cdtf%3DMSP17331h47d00hi5e09bg3000050717fi59679bi5g%26i%3Dintegrate%2520-1%252Fa%2520da%26theme%3D1%26plottype%3D2DMathPlot%26incframe%3Dfalse%26inctitle%3Dfalse%26incinput%3Dfalse%26mck%3D%26spidx%3D1%26s%3D63%26id%3DMSP17311h47d00hi5e09bg300002ed5067866bg4fb5%26podidentifier%3DPlot%26subtitle%3D%26%26%26view%3Dpreview%26zoom%3Ds%26subselection%3Dundefined"/>
          <p:cNvPicPr/>
          <p:nvPr/>
        </p:nvPicPr>
        <p:blipFill>
          <a:blip r:embed="rId2"/>
          <a:stretch/>
        </p:blipFill>
        <p:spPr>
          <a:xfrm>
            <a:off x="826920" y="2565360"/>
            <a:ext cx="691380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75800" cy="1122480"/>
          </a:xfrm>
          <a:prstGeom prst="rect">
            <a:avLst/>
          </a:prstGeom>
          <a:ln w="0">
            <a:noFill/>
          </a:ln>
        </p:spPr>
      </p:pic>
      <p:sp>
        <p:nvSpPr>
          <p:cNvPr id="578" name="Zástupný symbol pro číslo snímku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lvl="1"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2377-6BB7-4356-93A5-D03C5DC2590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Picture 4" descr="d1592"/>
          <p:cNvPicPr/>
          <p:nvPr/>
        </p:nvPicPr>
        <p:blipFill>
          <a:blip r:embed="rId2"/>
          <a:stretch/>
        </p:blipFill>
        <p:spPr>
          <a:xfrm>
            <a:off x="1042920" y="2421000"/>
            <a:ext cx="6461280" cy="326880"/>
          </a:xfrm>
          <a:prstGeom prst="rect">
            <a:avLst/>
          </a:prstGeom>
          <a:ln w="0">
            <a:noFill/>
          </a:ln>
        </p:spPr>
      </p:pic>
      <p:sp>
        <p:nvSpPr>
          <p:cNvPr id="580" name="TextovéPole 1"/>
          <p:cNvSpPr/>
          <p:nvPr/>
        </p:nvSpPr>
        <p:spPr>
          <a:xfrm>
            <a:off x="395280" y="1628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akce n-teho řá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395280" y="2852640"/>
          <a:ext cx="7445520" cy="3795840"/>
        </p:xfrm>
        <a:graphic>
          <a:graphicData uri="http://schemas.openxmlformats.org/drawingml/2006/table">
            <a:tbl>
              <a:tblPr/>
              <a:tblGrid>
                <a:gridCol w="403200"/>
                <a:gridCol w="7042320"/>
              </a:tblGrid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0.řádu (n = 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. řádu (n = 1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I. řádu (n = 2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4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II. řádu (n = 3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n.řád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  <p:pic>
        <p:nvPicPr>
          <p:cNvPr id="582" name="Picture 10" descr="http://www.vscht.cz/fch/frvs/html/math/d1594.gif"/>
          <p:cNvPicPr/>
          <p:nvPr/>
        </p:nvPicPr>
        <p:blipFill>
          <a:blip r:embed="rId3"/>
          <a:stretch/>
        </p:blipFill>
        <p:spPr>
          <a:xfrm>
            <a:off x="2151000" y="3276720"/>
            <a:ext cx="5699160" cy="1522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9" descr="http://www.vscht.cz/fch/frvs/html/math/d1595.gif"/>
          <p:cNvPicPr/>
          <p:nvPr/>
        </p:nvPicPr>
        <p:blipFill>
          <a:blip r:embed="rId4"/>
          <a:stretch/>
        </p:blipFill>
        <p:spPr>
          <a:xfrm>
            <a:off x="2050920" y="3860640"/>
            <a:ext cx="5707080" cy="3049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8" descr="http://www.vscht.cz/fch/frvs/html/math/d1596.gif"/>
          <p:cNvPicPr/>
          <p:nvPr/>
        </p:nvPicPr>
        <p:blipFill>
          <a:blip r:embed="rId5"/>
          <a:stretch/>
        </p:blipFill>
        <p:spPr>
          <a:xfrm>
            <a:off x="2062080" y="4653000"/>
            <a:ext cx="5684760" cy="3348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7" descr="http://www.vscht.cz/fch/frvs/html/math/d1597.gif"/>
          <p:cNvPicPr/>
          <p:nvPr/>
        </p:nvPicPr>
        <p:blipFill>
          <a:blip r:embed="rId6"/>
          <a:stretch/>
        </p:blipFill>
        <p:spPr>
          <a:xfrm>
            <a:off x="2200320" y="5373720"/>
            <a:ext cx="5684760" cy="4190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http://www.vscht.cz/fch/frvs/html/math/d1598.gif"/>
          <p:cNvPicPr/>
          <p:nvPr/>
        </p:nvPicPr>
        <p:blipFill>
          <a:blip r:embed="rId7"/>
          <a:stretch/>
        </p:blipFill>
        <p:spPr>
          <a:xfrm>
            <a:off x="2200320" y="6237360"/>
            <a:ext cx="568476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tegrate -1/2 dt from t=0 to 10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2.0611536224385578279659403801558209763758072755991036929... × 10^-7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-20 levá i pravá stran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-dA/dt=k*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iří Sopoušek</cp:lastModifiedBy>
  <dcterms:modified xsi:type="dcterms:W3CDTF">2020-03-10T08:27:18Z</dcterms:modified>
  <cp:revision>21</cp:revision>
  <dc:subject/>
  <dc:title>Prezentace aplikace PowerPoint</dc:title>
</cp:coreProperties>
</file>