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5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3A4-76F2-4E26-AA03-56755F03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CB0-552A-4B9F-94C7-D1F4B9FC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610-9F8E-4C29-B6EB-08C0ACAA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52A-C973-42E1-B7AF-5C845B18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D24-E795-4937-9BD8-858F2ED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784-72ED-4D91-B3A7-628A3E91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9A2-D712-4BF5-84EF-D5A27131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E52-BEE3-4851-BB72-A2A9382A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E12-386C-4514-9257-014E8872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D6C-CC04-4B3A-9AD4-8ABB45A1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2A6-8E21-402F-8F4B-2B2A9A39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59F-E7EF-4B2F-93AA-6A5E1D3F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A7ED-CB81-4AFD-93D3-F0BDF1BFFD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278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979560" y="6093000"/>
            <a:ext cx="7048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rozsah reakce (konverze) v jednotkovém objemu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5148360" y="3786120"/>
            <a:ext cx="33098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 na substituce proměnné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extovéPole 1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Obdélník 2"/>
          <p:cNvSpPr/>
          <p:nvPr/>
        </p:nvSpPr>
        <p:spPr>
          <a:xfrm>
            <a:off x="4293000" y="981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3"/>
          <p:cNvSpPr/>
          <p:nvPr/>
        </p:nvSpPr>
        <p:spPr>
          <a:xfrm>
            <a:off x="395280" y="5243400"/>
            <a:ext cx="35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ovéPole 1" descr=""/>
          <p:cNvPicPr/>
          <p:nvPr/>
        </p:nvPicPr>
        <p:blipFill>
          <a:blip r:embed="rId4"/>
          <a:stretch/>
        </p:blipFill>
        <p:spPr>
          <a:xfrm>
            <a:off x="4309920" y="3524400"/>
            <a:ext cx="493920" cy="16570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ovéPole 2" descr=""/>
          <p:cNvPicPr/>
          <p:nvPr/>
        </p:nvPicPr>
        <p:blipFill>
          <a:blip r:embed="rId5"/>
          <a:stretch/>
        </p:blipFill>
        <p:spPr>
          <a:xfrm>
            <a:off x="5711760" y="150012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369720" y="2222640"/>
            <a:ext cx="3834000" cy="110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1258920" y="3956040"/>
            <a:ext cx="1562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1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"/>
          <p:cNvSpPr/>
          <p:nvPr/>
        </p:nvSpPr>
        <p:spPr>
          <a:xfrm>
            <a:off x="1941480" y="4911840"/>
            <a:ext cx="5464440" cy="398880"/>
          </a:xfrm>
          <a:prstGeom prst="rect">
            <a:avLst/>
          </a:pr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ěřte zda je to v souladu s předchozím výraz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extovéPole 6" descr=""/>
          <p:cNvPicPr/>
          <p:nvPr/>
        </p:nvPicPr>
        <p:blipFill>
          <a:blip r:embed="rId2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5921640" y="6234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výjimkou 1.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2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7" name="TextovéPole 1" descr=""/>
          <p:cNvPicPr/>
          <p:nvPr/>
        </p:nvPicPr>
        <p:blipFill>
          <a:blip r:embed="rId1"/>
          <a:stretch/>
        </p:blipFill>
        <p:spPr>
          <a:xfrm>
            <a:off x="4114800" y="2975040"/>
            <a:ext cx="186516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TextovéPole 3" descr=""/>
          <p:cNvPicPr/>
          <p:nvPr/>
        </p:nvPicPr>
        <p:blipFill>
          <a:blip r:embed="rId2"/>
          <a:stretch/>
        </p:blipFill>
        <p:spPr>
          <a:xfrm>
            <a:off x="2554200" y="1914480"/>
            <a:ext cx="4340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3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468360" y="1125360"/>
            <a:ext cx="8064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akční řád n určuje, jak rychlost reakce závisí na koncentraci reakta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466560" y="2108160"/>
            <a:ext cx="388008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ychlostní rovnice může být napsána s použitím řádu n=0,1,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332000" y="332424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1332000" y="377208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1316160" y="414972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755640" y="5467320"/>
            <a:ext cx="43164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bdélník 12"/>
          <p:cNvSpPr/>
          <p:nvPr/>
        </p:nvSpPr>
        <p:spPr>
          <a:xfrm>
            <a:off x="2916360" y="5467320"/>
            <a:ext cx="206532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Řešení diferenciální rovn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3400" y="765000"/>
            <a:ext cx="4303800" cy="630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386280" y="1992240"/>
            <a:ext cx="21924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pis dif. rovn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xtovéPole 6" descr=""/>
          <p:cNvPicPr/>
          <p:nvPr/>
        </p:nvPicPr>
        <p:blipFill>
          <a:blip r:embed="rId2"/>
          <a:stretch/>
        </p:blipFill>
        <p:spPr>
          <a:xfrm>
            <a:off x="3681360" y="1994040"/>
            <a:ext cx="21099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TextovéPole 7" descr=""/>
          <p:cNvPicPr/>
          <p:nvPr/>
        </p:nvPicPr>
        <p:blipFill>
          <a:blip r:embed="rId3"/>
          <a:stretch/>
        </p:blipFill>
        <p:spPr>
          <a:xfrm>
            <a:off x="3700440" y="1427040"/>
            <a:ext cx="719280" cy="40176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8"/>
          <p:cNvSpPr/>
          <p:nvPr/>
        </p:nvSpPr>
        <p:spPr>
          <a:xfrm>
            <a:off x="327600" y="1503360"/>
            <a:ext cx="31068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stituce (není vždy nut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extovéPole 9" descr=""/>
          <p:cNvPicPr/>
          <p:nvPr/>
        </p:nvPicPr>
        <p:blipFill>
          <a:blip r:embed="rId4"/>
          <a:stretch/>
        </p:blipFill>
        <p:spPr>
          <a:xfrm>
            <a:off x="4657680" y="1450800"/>
            <a:ext cx="118908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TextovéPole 10" descr=""/>
          <p:cNvPicPr/>
          <p:nvPr/>
        </p:nvPicPr>
        <p:blipFill>
          <a:blip r:embed="rId5"/>
          <a:stretch/>
        </p:blipFill>
        <p:spPr>
          <a:xfrm>
            <a:off x="6308640" y="1481040"/>
            <a:ext cx="95724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2"/>
          <p:cNvSpPr/>
          <p:nvPr/>
        </p:nvSpPr>
        <p:spPr>
          <a:xfrm>
            <a:off x="419760" y="2781360"/>
            <a:ext cx="257508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parace proměnný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xtovéPole 13" descr=""/>
          <p:cNvPicPr/>
          <p:nvPr/>
        </p:nvPicPr>
        <p:blipFill>
          <a:blip r:embed="rId6"/>
          <a:stretch/>
        </p:blipFill>
        <p:spPr>
          <a:xfrm>
            <a:off x="3700440" y="2779560"/>
            <a:ext cx="20779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14"/>
          <p:cNvSpPr/>
          <p:nvPr/>
        </p:nvSpPr>
        <p:spPr>
          <a:xfrm>
            <a:off x="458280" y="3564000"/>
            <a:ext cx="1977480" cy="70380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rčitý integrá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určení mezí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extovéPole 15" descr=""/>
          <p:cNvPicPr/>
          <p:nvPr/>
        </p:nvPicPr>
        <p:blipFill>
          <a:blip r:embed="rId7"/>
          <a:stretch/>
        </p:blipFill>
        <p:spPr>
          <a:xfrm>
            <a:off x="2530440" y="3511440"/>
            <a:ext cx="2859120" cy="70668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7" descr=""/>
          <p:cNvPicPr/>
          <p:nvPr/>
        </p:nvPicPr>
        <p:blipFill>
          <a:blip r:embed="rId8"/>
          <a:stretch/>
        </p:blipFill>
        <p:spPr>
          <a:xfrm>
            <a:off x="5705640" y="3456000"/>
            <a:ext cx="828360" cy="396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9"/>
          <p:cNvSpPr/>
          <p:nvPr/>
        </p:nvSpPr>
        <p:spPr>
          <a:xfrm>
            <a:off x="6554520" y="3438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xtovéPole 20" descr=""/>
          <p:cNvPicPr/>
          <p:nvPr/>
        </p:nvPicPr>
        <p:blipFill>
          <a:blip r:embed="rId9"/>
          <a:stretch/>
        </p:blipFill>
        <p:spPr>
          <a:xfrm>
            <a:off x="8156520" y="3444840"/>
            <a:ext cx="858960" cy="4017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1" descr=""/>
          <p:cNvPicPr/>
          <p:nvPr/>
        </p:nvPicPr>
        <p:blipFill>
          <a:blip r:embed="rId10"/>
          <a:stretch/>
        </p:blipFill>
        <p:spPr>
          <a:xfrm>
            <a:off x="5724360" y="385272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22"/>
          <p:cNvSpPr/>
          <p:nvPr/>
        </p:nvSpPr>
        <p:spPr>
          <a:xfrm>
            <a:off x="6605280" y="3863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xtovéPole 23" descr=""/>
          <p:cNvPicPr/>
          <p:nvPr/>
        </p:nvPicPr>
        <p:blipFill>
          <a:blip r:embed="rId11"/>
          <a:stretch/>
        </p:blipFill>
        <p:spPr>
          <a:xfrm>
            <a:off x="8150400" y="386568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24"/>
          <p:cNvSpPr/>
          <p:nvPr/>
        </p:nvSpPr>
        <p:spPr>
          <a:xfrm>
            <a:off x="444960" y="4327560"/>
            <a:ext cx="743796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integrálu (analytické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bo numerick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extovéPole 18" descr=""/>
          <p:cNvPicPr/>
          <p:nvPr/>
        </p:nvPicPr>
        <p:blipFill>
          <a:blip r:embed="rId12"/>
          <a:stretch/>
        </p:blipFill>
        <p:spPr>
          <a:xfrm>
            <a:off x="450720" y="4919760"/>
            <a:ext cx="2932200" cy="3906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25"/>
          <p:cNvSpPr/>
          <p:nvPr/>
        </p:nvSpPr>
        <p:spPr>
          <a:xfrm>
            <a:off x="5898240" y="4871880"/>
            <a:ext cx="188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mbria Math"/>
              </a:rPr>
              <a:t>Wolfram 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7"/>
          <p:cNvSpPr/>
          <p:nvPr/>
        </p:nvSpPr>
        <p:spPr>
          <a:xfrm>
            <a:off x="603720" y="5403960"/>
            <a:ext cx="16866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 me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29"/>
          <p:cNvSpPr/>
          <p:nvPr/>
        </p:nvSpPr>
        <p:spPr>
          <a:xfrm>
            <a:off x="6207120" y="5797440"/>
            <a:ext cx="21330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30"/>
          <p:cNvSpPr/>
          <p:nvPr/>
        </p:nvSpPr>
        <p:spPr>
          <a:xfrm>
            <a:off x="591120" y="6059520"/>
            <a:ext cx="234792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extovéPole 28" descr=""/>
          <p:cNvPicPr/>
          <p:nvPr/>
        </p:nvPicPr>
        <p:blipFill>
          <a:blip r:embed="rId13"/>
          <a:stretch/>
        </p:blipFill>
        <p:spPr>
          <a:xfrm>
            <a:off x="3170160" y="6102360"/>
            <a:ext cx="152424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1" descr=""/>
          <p:cNvPicPr/>
          <p:nvPr/>
        </p:nvPicPr>
        <p:blipFill>
          <a:blip r:embed="rId14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Nástroj pro řešení diferenciálních rovnic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1890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ce 1. řádu </a:t>
            </a:r>
            <a:br>
              <a:rPr sz="4400"/>
            </a:b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(detaily viz příložený dokument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85880" y="102384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28268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539640" y="260820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246060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\ r = k[A]"/>
          <p:cNvPicPr/>
          <p:nvPr/>
        </p:nvPicPr>
        <p:blipFill>
          <a:blip r:embed="rId4"/>
          <a:stretch/>
        </p:blipFill>
        <p:spPr>
          <a:xfrm>
            <a:off x="7470720" y="129384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2"/>
          <p:cNvSpPr/>
          <p:nvPr/>
        </p:nvSpPr>
        <p:spPr>
          <a:xfrm>
            <a:off x="374760" y="6157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řeší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ovéPole 3" descr=""/>
          <p:cNvPicPr/>
          <p:nvPr/>
        </p:nvPicPr>
        <p:blipFill>
          <a:blip r:embed="rId6"/>
          <a:stretch/>
        </p:blipFill>
        <p:spPr>
          <a:xfrm>
            <a:off x="2554200" y="6156360"/>
            <a:ext cx="1925640" cy="6224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4"/>
          <p:cNvSpPr/>
          <p:nvPr/>
        </p:nvSpPr>
        <p:spPr>
          <a:xfrm>
            <a:off x="4761360" y="6183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xtovéPole 14" descr=""/>
          <p:cNvPicPr/>
          <p:nvPr/>
        </p:nvPicPr>
        <p:blipFill>
          <a:blip r:embed="rId7"/>
          <a:stretch/>
        </p:blipFill>
        <p:spPr>
          <a:xfrm>
            <a:off x="6138720" y="6156360"/>
            <a:ext cx="212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105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2"/>
          <p:cNvSpPr/>
          <p:nvPr/>
        </p:nvSpPr>
        <p:spPr>
          <a:xfrm>
            <a:off x="324000" y="1281240"/>
            <a:ext cx="849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(Tj. ze zvolené výchozí hodnoty A na hodnotu ½ A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  <p:pic>
        <p:nvPicPr>
          <p:cNvPr id="111" name="TextovéPole 1" descr=""/>
          <p:cNvPicPr/>
          <p:nvPr/>
        </p:nvPicPr>
        <p:blipFill>
          <a:blip r:embed="rId4"/>
          <a:stretch/>
        </p:blipFill>
        <p:spPr>
          <a:xfrm>
            <a:off x="6504120" y="3213000"/>
            <a:ext cx="22190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6"/>
          <p:cNvSpPr/>
          <p:nvPr/>
        </p:nvSpPr>
        <p:spPr>
          <a:xfrm>
            <a:off x="4375080" y="213984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, odbourávání léčiv v organism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57280" y="3068640"/>
            <a:ext cx="2933640" cy="9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1593720" y="4941720"/>
            <a:ext cx="1378080" cy="103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900000" y="4224240"/>
            <a:ext cx="1619280" cy="5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7"/>
          <a:stretch/>
        </p:blipFill>
        <p:spPr>
          <a:xfrm>
            <a:off x="395280" y="2460600"/>
            <a:ext cx="2371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29:50Z</dcterms:modified>
  <cp:revision>150</cp:revision>
  <dc:subject/>
  <dc:title>Soustava</dc:title>
</cp:coreProperties>
</file>