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F5A-0446-4415-8F9A-AFCD0288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B49-7211-4924-AD7F-77497B18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49B1-CCB0-4C40-8F65-42B721D8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5E9-2F83-4836-B6D5-C3BC5B70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EFA-DAE2-48AC-8A97-0FB04C2E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037-D92A-4F48-A3A9-BE6939F8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D6B-56A2-40AF-87CC-F0F106CD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81A1-043D-483B-9BDD-880C8F53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53D-44B3-4E48-AC48-BA754178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5F7-1F7B-4BA8-B147-4A02B6E5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4D2B-F114-4A7A-B76F-20681288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961-053D-451E-AF94-6A1186A3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263D-1416-415B-90C5-82D8F46D96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320" y="2602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(rate low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598320" y="1628640"/>
            <a:ext cx="6707520" cy="4896000"/>
          </a:xfrm>
          <a:prstGeom prst="rect">
            <a:avLst/>
          </a:prstGeom>
          <a:ln w="0">
            <a:noFill/>
          </a:ln>
        </p:spPr>
      </p:pic>
      <p:pic>
        <p:nvPicPr>
          <p:cNvPr id="43" name="TextovéPole 5" descr=""/>
          <p:cNvPicPr/>
          <p:nvPr/>
        </p:nvPicPr>
        <p:blipFill>
          <a:blip r:embed="rId2"/>
          <a:stretch/>
        </p:blipFill>
        <p:spPr>
          <a:xfrm>
            <a:off x="4065480" y="2981160"/>
            <a:ext cx="2487600" cy="46368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7029000" y="3025800"/>
            <a:ext cx="1867680" cy="91692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…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e…ligh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…biom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6" descr="http://img.youtube.com/vi/nZiOyVElo-s/0.jpg"/>
          <p:cNvPicPr/>
          <p:nvPr/>
        </p:nvPicPr>
        <p:blipFill>
          <a:blip r:embed="rId1"/>
          <a:stretch/>
        </p:blipFill>
        <p:spPr>
          <a:xfrm>
            <a:off x="4416480" y="1293840"/>
            <a:ext cx="4572000" cy="285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67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ate lo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7" name="Picture 34" descr="http://www.chemguide.co.uk/physical/basicrates/reqnab1.gif"/>
          <p:cNvPicPr/>
          <p:nvPr/>
        </p:nvPicPr>
        <p:blipFill>
          <a:blip r:embed="rId2"/>
          <a:stretch/>
        </p:blipFill>
        <p:spPr>
          <a:xfrm>
            <a:off x="352440" y="2852640"/>
            <a:ext cx="6154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52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5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60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  <p:cxnSp>
        <p:nvCxnSpPr>
          <p:cNvPr id="63" name="Přímá spojnice se šipkou 2"/>
          <p:cNvCxnSpPr/>
          <p:nvPr/>
        </p:nvCxnSpPr>
        <p:spPr>
          <a:xfrm>
            <a:off x="2615760" y="2754000"/>
            <a:ext cx="359640" cy="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sp>
        <p:nvSpPr>
          <p:cNvPr id="64" name="Přímá spojnice 4"/>
          <p:cNvSpPr/>
          <p:nvPr/>
        </p:nvSpPr>
        <p:spPr>
          <a:xfrm flipV="1">
            <a:off x="684360" y="4941360"/>
            <a:ext cx="8208720" cy="14292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římá spojnice 7"/>
          <p:cNvSpPr/>
          <p:nvPr/>
        </p:nvSpPr>
        <p:spPr>
          <a:xfrm flipV="1">
            <a:off x="0" y="5373720"/>
            <a:ext cx="3780000" cy="7128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30:08Z</dcterms:modified>
  <cp:revision>109</cp:revision>
  <dc:subject/>
  <dc:title>Soustava</dc:title>
</cp:coreProperties>
</file>