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230-4118-43CB-BF11-77F7BD95F9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A0C8-8EB9-4071-8D84-4B4C935CC2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C24-C09C-4E31-A42F-0B596577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6B9-19B7-4E56-B138-DE8E94F0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C59-BFB1-4033-8472-B2074911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F7E-AA37-49C3-A28F-AB260D2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924-6CEA-4006-9C41-2E795BB0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129A-6028-408A-85F0-18F3CFD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88A1-C419-4B56-A0E4-7FEDB546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D40F-8DE5-4040-9912-13E4E03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10A5-0799-40B9-BDEF-945E3C3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D37-5DB2-47B7-A03A-47553257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3C2-2A9A-4894-AABE-CF280F9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132-CB51-4BB7-AACA-EBEBDA07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9288-0BD5-4F32-8573-3B1F01E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C1D6-D0C3-4726-A663-BF20FC6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D3D0-8E8B-4F5F-8D88-A914CBB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CB3E-2ADD-4D31-B3A6-54DCC41B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7B4-979F-4DB1-BBAE-B852E2A7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D5C6-0513-4628-8D1A-0BB1CCA9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9191-D0C4-4C13-80CD-B4302BAF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DC70-7C28-473F-92F7-D50984AB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F181-4EAD-4D71-950F-D90A94B4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7B67-0F2F-4218-AC5F-111FC8ED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79D-52C1-4B89-BD1C-3C70B8FD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6CFD-6926-4295-83DD-38B9359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0DB6-F017-4C7E-BBA2-F33B033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8ACC-E083-4656-915C-7FCD633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4919-487E-451B-B06E-08C0C43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A4F7-95D5-4838-8050-F028DA7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0E6E-DBDE-48D2-9469-20E37382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EFB4-98D6-4FAA-8E29-8A34179E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875-3F0D-4A36-A2BB-3146FA0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BB5-1DB0-4913-B5A9-581E2CED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F7E-01FC-4299-903C-5880286B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507-87B3-4D85-A6F0-3EE1F1D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FF7-9F6D-4935-A679-57461E8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D39-4B8C-4D07-8EB9-D07D8A81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E5E4-C10F-4071-BF45-670B7600152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381-7DCE-4C3E-9D9E-D2B699BE73B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C3D-A4D7-4582-92AE-177D0A6C359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s://www.researchgate.net/publication/259169382_Hydrogel_Preparation_characterization_and_applications_A_review/figures?lo=1" TargetMode="External"/><Relationship Id="rId3" Type="http://schemas.openxmlformats.org/officeDocument/2006/relationships/hyperlink" Target="https://www.shutterstock.com/cs/search/chemical-reactors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s://www.sciencedirect.com/science/article/pii/S1385894720307774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s://old.vscht.cz/fch/cz/pomucky/bartovska/Kin-teorie/5-Reaktory.pdf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google.cz/url?sa=i&amp;rct=j&amp;q=&amp;esrc=s&amp;source=images&amp;cd=&amp;cad=rja&amp;uact=8&amp;ved=0ahUKEwjCjc3D9IzTAhXGVxoKHd9hDnIQjRwIBw&amp;url=http%3A%2F%2Fphotobiology.info%2FNonell_Viappiani.html&amp;bvm=bv.151426398,d.d2s&amp;psig=AFQjCNEPwj2frNU5aCN35aKaaIzrGljllQ&amp;ust=1491467736771369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s://www.google.cz/url?sa=i&amp;rct=j&amp;q=&amp;esrc=s&amp;source=images&amp;cd=&amp;cad=rja&amp;uact=8&amp;ved=0ahUKEwjr5rzq9YzTAhWP0RoKHVwaAHsQjRwIBw&amp;url=https%3A%2F%2Fphotochemistry.wordpress.com%2Ftag%2Fjablonski-diagram%2F&amp;bvm=bv.151426398,d.d2s&amp;psig=AFQjCNEORTja9wHzmQSwV-5h3FPHshTE_w&amp;ust=1491468058310657" TargetMode="External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7A9-C22B-4712-99BD-912DFC3B84C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39C-2085-4481-A9A8-8B31C21DD92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B543-B4B2-460F-853C-3683B7E79D7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Přímá spojnice 5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římá spojnice 9"/>
          <p:cNvSpPr/>
          <p:nvPr/>
        </p:nvSpPr>
        <p:spPr>
          <a:xfrm flipV="1">
            <a:off x="328680" y="1197000"/>
            <a:ext cx="83469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římá spojnice 11"/>
          <p:cNvSpPr/>
          <p:nvPr/>
        </p:nvSpPr>
        <p:spPr>
          <a:xfrm>
            <a:off x="468360" y="1557360"/>
            <a:ext cx="4200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811840" y="2276640"/>
            <a:ext cx="318132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18"/>
          <p:cNvSpPr/>
          <p:nvPr/>
        </p:nvSpPr>
        <p:spPr>
          <a:xfrm>
            <a:off x="6389280" y="4869000"/>
            <a:ext cx="19422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dotyk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9B3-34B9-4BDE-9698-7571C58E416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763120" cy="5991120"/>
          </a:xfrm>
          <a:prstGeom prst="rect">
            <a:avLst/>
          </a:prstGeom>
          <a:ln w="0">
            <a:noFill/>
          </a:ln>
        </p:spPr>
      </p:pic>
      <p:sp>
        <p:nvSpPr>
          <p:cNvPr id="187" name="Přímá spojnice 3"/>
          <p:cNvSpPr/>
          <p:nvPr/>
        </p:nvSpPr>
        <p:spPr>
          <a:xfrm>
            <a:off x="3851280" y="981000"/>
            <a:ext cx="4897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římá spojnice 5"/>
          <p:cNvSpPr/>
          <p:nvPr/>
        </p:nvSpPr>
        <p:spPr>
          <a:xfrm>
            <a:off x="225360" y="1197000"/>
            <a:ext cx="8523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800680" y="3133800"/>
            <a:ext cx="3191040" cy="428400"/>
          </a:xfrm>
          <a:prstGeom prst="rect">
            <a:avLst/>
          </a:prstGeom>
          <a:ln w="0">
            <a:noFill/>
          </a:ln>
        </p:spPr>
      </p:pic>
      <p:cxnSp>
        <p:nvCxnSpPr>
          <p:cNvPr id="190" name="Přímá spojnice se šipkou 7"/>
          <p:cNvCxnSpPr/>
          <p:nvPr/>
        </p:nvCxnSpPr>
        <p:spPr>
          <a:xfrm flipV="1">
            <a:off x="5579640" y="3561840"/>
            <a:ext cx="1080360" cy="58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0B5-A446-4613-A605-37683A32DEB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967680" y="152280"/>
            <a:ext cx="68864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ětná poznámka s problémem u trubkového reakto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chnology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67A-B106-4241-9522-FAA3E078E59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Obrázek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714840" cy="4368960"/>
          </a:xfrm>
          <a:prstGeom prst="rect">
            <a:avLst/>
          </a:prstGeom>
          <a:ln w="0">
            <a:noFill/>
          </a:ln>
        </p:spPr>
      </p:pic>
      <p:sp>
        <p:nvSpPr>
          <p:cNvPr id="198" name="Obdélník 5"/>
          <p:cNvSpPr/>
          <p:nvPr/>
        </p:nvSpPr>
        <p:spPr>
          <a:xfrm>
            <a:off x="404640" y="5892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(15) (PDF) Hydrogel: Preparation, characterization, and applications: A review (researchgate.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bdélník 6"/>
          <p:cNvSpPr/>
          <p:nvPr/>
        </p:nvSpPr>
        <p:spPr>
          <a:xfrm>
            <a:off x="4941720" y="138600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11 878 chemical reactors Snímků, stock fotografií a vektorů | Shutter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Obrázek 7" descr=""/>
          <p:cNvPicPr/>
          <p:nvPr/>
        </p:nvPicPr>
        <p:blipFill>
          <a:blip r:embed="rId4"/>
          <a:stretch/>
        </p:blipFill>
        <p:spPr>
          <a:xfrm>
            <a:off x="4572000" y="2490840"/>
            <a:ext cx="42102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D12D-08BA-4DC7-BD9B-01BE9D7AAD6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diabatic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https://ars.els-cdn.com/content/image/1-s2.0-S1385894720307774-gr1.jpg"/>
          <p:cNvPicPr/>
          <p:nvPr/>
        </p:nvPicPr>
        <p:blipFill>
          <a:blip r:embed="rId1"/>
          <a:stretch/>
        </p:blipFill>
        <p:spPr>
          <a:xfrm>
            <a:off x="193680" y="1557360"/>
            <a:ext cx="4670280" cy="285444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4"/>
          <p:cNvSpPr/>
          <p:nvPr/>
        </p:nvSpPr>
        <p:spPr>
          <a:xfrm>
            <a:off x="179280" y="5084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Adiabatic plasma-catalytic reactor configuration: Energy efficiency enhancement by plasma and thermal synergies on CO2 methanation - Scienc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rázek 5" descr=""/>
          <p:cNvPicPr/>
          <p:nvPr/>
        </p:nvPicPr>
        <p:blipFill>
          <a:blip r:embed="rId3"/>
          <a:stretch/>
        </p:blipFill>
        <p:spPr>
          <a:xfrm>
            <a:off x="907920" y="4549680"/>
            <a:ext cx="3114720" cy="409680"/>
          </a:xfrm>
          <a:prstGeom prst="rect">
            <a:avLst/>
          </a:prstGeom>
          <a:ln w="0">
            <a:noFill/>
          </a:ln>
        </p:spPr>
      </p:pic>
      <p:sp>
        <p:nvSpPr>
          <p:cNvPr id="206" name="TextovéPole 6"/>
          <p:cNvSpPr/>
          <p:nvPr/>
        </p:nvSpPr>
        <p:spPr>
          <a:xfrm>
            <a:off x="4919760" y="1417680"/>
            <a:ext cx="3539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s were carried out using 300 mg of Ni-C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catalyst, which was placed in the plasma region and immobilized with glass wool. Prior to reaction, catalyst was in-situ reduced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r mixture (Abelló Linde, 95% Ar and 5%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with a flow rate of 150 mL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at 450 °C for 3 h and a heating ramp of 7.5 °C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For the methanation reaction, a stoichiometric mixtur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= 4:1 (Abelló Linde) was introduced into the reactor with a constant gas flow rate, in the range of 0.2–1 L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esulting in a gas hour space velocities (GHSV) of 40,000–200,000 mL·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·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cade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E77-8EB2-4DA4-8A36-BAAC658DA8F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rázek 5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6095880" cy="303876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6"/>
          <p:cNvSpPr/>
          <p:nvPr/>
        </p:nvSpPr>
        <p:spPr>
          <a:xfrm>
            <a:off x="457200" y="471168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zřejmé, že z obou alternativ vyhovuje požadavku maximálního výkonu kaskáda dvou reakto_x0002_rů, jejíž celkový objem je pouze 181,82 dm3 , zatímco objem jediného reaktoru potřebný k dosažení stejného stupně přeměny by byl 1000 dm3 . Výkon kaskády je 5,5 krát vyšší než vý_x0002_kon samostatného reaktoru. Kaskáda má maximální výkon jsou-li oba reaktory stejně velk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7"/>
          <p:cNvSpPr/>
          <p:nvPr/>
        </p:nvSpPr>
        <p:spPr>
          <a:xfrm>
            <a:off x="6955200" y="50497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5 (vscht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 stanovení rychlostní konstanty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A48-14BF-44D5-B30A-F4C7DDE75AC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900000" y="2060640"/>
            <a:ext cx="5832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C6D0-D991-4D0A-8A22-A3AC2A6A89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  <p:sp>
        <p:nvSpPr>
          <p:cNvPr id="218" name="Obdélník 1"/>
          <p:cNvSpPr/>
          <p:nvPr/>
        </p:nvSpPr>
        <p:spPr>
          <a:xfrm>
            <a:off x="6213960" y="134136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1.3×10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1B9-CBE4-49E1-9191-D65C4AC74C1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87C-E4CD-4792-9B11-D073925DC4F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55AE-DD95-464F-823D-75A05B7DFC6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  <p:sp>
        <p:nvSpPr>
          <p:cNvPr id="226" name="Přímá spojnice 3"/>
          <p:cNvSpPr/>
          <p:nvPr/>
        </p:nvSpPr>
        <p:spPr>
          <a:xfrm>
            <a:off x="5796000" y="184464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římá spojnice 5"/>
          <p:cNvSpPr/>
          <p:nvPr/>
        </p:nvSpPr>
        <p:spPr>
          <a:xfrm>
            <a:off x="4591080" y="2133720"/>
            <a:ext cx="214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bdélník 6"/>
          <p:cNvSpPr/>
          <p:nvPr/>
        </p:nvSpPr>
        <p:spPr>
          <a:xfrm>
            <a:off x="3492360" y="2637000"/>
            <a:ext cx="230364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bdélník 8"/>
          <p:cNvSpPr/>
          <p:nvPr/>
        </p:nvSpPr>
        <p:spPr>
          <a:xfrm>
            <a:off x="2268360" y="4221000"/>
            <a:ext cx="4572000" cy="64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2922480" y="5373720"/>
            <a:ext cx="258444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9"/>
          <p:cNvSpPr/>
          <p:nvPr/>
        </p:nvSpPr>
        <p:spPr>
          <a:xfrm>
            <a:off x="404280" y="5780160"/>
            <a:ext cx="235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=f(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234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ovéPole 1"/>
          <p:cNvSpPr/>
          <p:nvPr/>
        </p:nvSpPr>
        <p:spPr>
          <a:xfrm>
            <a:off x="5910120" y="3933720"/>
            <a:ext cx="32403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2,71828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=0,367879   tj. relaxační doba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e čas za který poklesne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 cca 37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BDB-0C30-4CE1-BBA9-CBB07A1D899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  <p:sp>
        <p:nvSpPr>
          <p:cNvPr id="239" name="Přímá spojnice 3"/>
          <p:cNvSpPr/>
          <p:nvPr/>
        </p:nvSpPr>
        <p:spPr>
          <a:xfrm>
            <a:off x="6227640" y="3357720"/>
            <a:ext cx="25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římá spojnice 6"/>
          <p:cNvSpPr/>
          <p:nvPr/>
        </p:nvSpPr>
        <p:spPr>
          <a:xfrm>
            <a:off x="395280" y="3645000"/>
            <a:ext cx="792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bdélník 9"/>
          <p:cNvSpPr/>
          <p:nvPr/>
        </p:nvSpPr>
        <p:spPr>
          <a:xfrm>
            <a:off x="395280" y="4941720"/>
            <a:ext cx="8582040" cy="96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7AA-1788-4713-B365-CBCAA7C4079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  <p:sp>
        <p:nvSpPr>
          <p:cNvPr id="245" name="TextovéPole 1"/>
          <p:cNvSpPr/>
          <p:nvPr/>
        </p:nvSpPr>
        <p:spPr>
          <a:xfrm>
            <a:off x="8548920" y="297000"/>
            <a:ext cx="3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ovéPole 5"/>
          <p:cNvSpPr/>
          <p:nvPr/>
        </p:nvSpPr>
        <p:spPr>
          <a:xfrm>
            <a:off x="6815520" y="1792440"/>
            <a:ext cx="18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6778800" y="2496960"/>
            <a:ext cx="11523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A38-A2BD-43E4-9851-5062C85D841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16A-C561-4605-A733-37C2AD33271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  <p:sp>
        <p:nvSpPr>
          <p:cNvPr id="254" name="TextovéPole 1"/>
          <p:cNvSpPr/>
          <p:nvPr/>
        </p:nvSpPr>
        <p:spPr>
          <a:xfrm>
            <a:off x="6443640" y="2924280"/>
            <a:ext cx="2376360" cy="16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né rychlostní Konstanty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platné pro teplotu na kterou se soustava ohřá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600-568B-4C59-891C-4A9180985CA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1"/>
          <p:cNvSpPr/>
          <p:nvPr/>
        </p:nvSpPr>
        <p:spPr>
          <a:xfrm>
            <a:off x="6036120" y="1085760"/>
            <a:ext cx="221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ř.: HA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A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bdélník 3"/>
          <p:cNvSpPr/>
          <p:nvPr/>
        </p:nvSpPr>
        <p:spPr>
          <a:xfrm>
            <a:off x="6804000" y="4548240"/>
            <a:ext cx="205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chem.libretexts.org/Core/Physical_and_Theoretical_Chemistry/Kinetics/Experimental_Methods/Resolving_Kinetics%3A_Faster_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7" descr="https://chem.libretexts.org/@api/deki/files/17505/shocktube.png?revision=1&amp;size=bestfit&amp;width=439&amp;height=312"/>
          <p:cNvPicPr/>
          <p:nvPr/>
        </p:nvPicPr>
        <p:blipFill>
          <a:blip r:embed="rId2"/>
          <a:stretch/>
        </p:blipFill>
        <p:spPr>
          <a:xfrm>
            <a:off x="673200" y="2708280"/>
            <a:ext cx="56275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E65-F69B-48D0-8AD4-750976C8B5C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  <p:sp>
        <p:nvSpPr>
          <p:cNvPr id="264" name="Obdélník 1"/>
          <p:cNvSpPr/>
          <p:nvPr/>
        </p:nvSpPr>
        <p:spPr>
          <a:xfrm>
            <a:off x="250920" y="1268280"/>
            <a:ext cx="84978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římá spojnice 4"/>
          <p:cNvSpPr/>
          <p:nvPr/>
        </p:nvSpPr>
        <p:spPr>
          <a:xfrm>
            <a:off x="4140360" y="2276640"/>
            <a:ext cx="43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římá spojnice 6"/>
          <p:cNvSpPr/>
          <p:nvPr/>
        </p:nvSpPr>
        <p:spPr>
          <a:xfrm>
            <a:off x="250920" y="2492280"/>
            <a:ext cx="648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10840" cy="2838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Výsledek obrázku pro &quot;laser photolysis&quot; metho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508640"/>
            <a:ext cx="4464000" cy="191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Výsledek obrázku pro flash photolysis excitation absorp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251240"/>
            <a:ext cx="3755880" cy="233676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419640" y="6588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photochemistry.wordpress.com/tag/jablonski-diagra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96BB-286B-46DD-82F8-64441672BE3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3C3-E030-4BAB-939C-A84E4312643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388-DB5B-4645-93C5-E59324C60F1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24000" y="422280"/>
            <a:ext cx="8696160" cy="5562720"/>
          </a:xfrm>
          <a:prstGeom prst="rect">
            <a:avLst/>
          </a:prstGeom>
          <a:ln w="0">
            <a:noFill/>
          </a:ln>
        </p:spPr>
      </p:pic>
      <p:sp>
        <p:nvSpPr>
          <p:cNvPr id="278" name="Přímá spojnice 3"/>
          <p:cNvSpPr/>
          <p:nvPr/>
        </p:nvSpPr>
        <p:spPr>
          <a:xfrm>
            <a:off x="1116000" y="4437000"/>
            <a:ext cx="77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bdélník 1"/>
          <p:cNvSpPr/>
          <p:nvPr/>
        </p:nvSpPr>
        <p:spPr>
          <a:xfrm>
            <a:off x="468360" y="5950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MR – Nukleární Magnetická Rezonance – Web o chemii, elektronice a programování (z-moravec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78760" cy="936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4757760" y="1341360"/>
            <a:ext cx="3645000" cy="2374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3"/>
          <a:stretch/>
        </p:blipFill>
        <p:spPr>
          <a:xfrm>
            <a:off x="395280" y="1503360"/>
            <a:ext cx="3441600" cy="34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3403440" cy="360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5"/>
          <a:stretch/>
        </p:blipFill>
        <p:spPr>
          <a:xfrm>
            <a:off x="395280" y="3840120"/>
            <a:ext cx="8107200" cy="812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6"/>
          <a:stretch/>
        </p:blipFill>
        <p:spPr>
          <a:xfrm>
            <a:off x="1692360" y="4676760"/>
            <a:ext cx="6035760" cy="48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7"/>
          <a:stretch/>
        </p:blipFill>
        <p:spPr>
          <a:xfrm>
            <a:off x="306360" y="5300640"/>
            <a:ext cx="8196120" cy="1120680"/>
          </a:xfrm>
          <a:prstGeom prst="rect">
            <a:avLst/>
          </a:prstGeom>
          <a:ln w="0">
            <a:noFill/>
          </a:ln>
        </p:spPr>
      </p:pic>
      <p:cxnSp>
        <p:nvCxnSpPr>
          <p:cNvPr id="288" name="Přímá spojnice se šipkou 2"/>
          <p:cNvCxnSpPr/>
          <p:nvPr/>
        </p:nvCxnSpPr>
        <p:spPr>
          <a:xfrm flipH="1">
            <a:off x="4363560" y="3212640"/>
            <a:ext cx="17215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B87-098C-4866-9AC5-3AFB991C621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4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C7CB-1F32-4B0F-8830-23005456CAE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ovéPole 1"/>
          <p:cNvSpPr/>
          <p:nvPr/>
        </p:nvSpPr>
        <p:spPr>
          <a:xfrm>
            <a:off x="706320" y="170028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obně zpracovaná teorie reaktor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EMICKÉ REAKTORY - PDF Free Download (docplayer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emická kinetika (N403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c. Lidmila Bartovská a prof. Petr Slaví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příklady reaktorů v průmys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ol-termreak02_78725.pdf (upce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chnická řešení a mikroreakt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0 (upol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6031-57DF-43FB-A0A2-B8C5EE20D30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489720" y="646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6DA-6ADC-42C3-8D87-60A67D84EA8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08000" y="509760"/>
            <a:ext cx="8753400" cy="239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0360" y="3157560"/>
            <a:ext cx="882828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388800" y="554976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ovéPole 1"/>
          <p:cNvSpPr/>
          <p:nvPr/>
        </p:nvSpPr>
        <p:spPr>
          <a:xfrm>
            <a:off x="356400" y="2440080"/>
            <a:ext cx="25290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7"/>
          <p:cNvSpPr/>
          <p:nvPr/>
        </p:nvSpPr>
        <p:spPr>
          <a:xfrm>
            <a:off x="389160" y="4924440"/>
            <a:ext cx="26312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ý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ovéPole 8"/>
          <p:cNvSpPr/>
          <p:nvPr/>
        </p:nvSpPr>
        <p:spPr>
          <a:xfrm>
            <a:off x="5046840" y="5264280"/>
            <a:ext cx="316152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měna konc. Chemickopu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C016-E67F-4E72-BB4A-6229D79B639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4"/>
          <p:cNvSpPr/>
          <p:nvPr/>
        </p:nvSpPr>
        <p:spPr>
          <a:xfrm>
            <a:off x="495720" y="1773360"/>
            <a:ext cx="2751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ná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ovéPole 5"/>
          <p:cNvSpPr/>
          <p:nvPr/>
        </p:nvSpPr>
        <p:spPr>
          <a:xfrm>
            <a:off x="898920" y="2776680"/>
            <a:ext cx="2913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 elementu 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C0E-0B71-4E06-8FF4-11B3C08A3A6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5"/>
          <p:cNvSpPr/>
          <p:nvPr/>
        </p:nvSpPr>
        <p:spPr>
          <a:xfrm>
            <a:off x="6390720" y="3357720"/>
            <a:ext cx="20534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prostor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655-3DF6-4339-8328-2EC15528B3C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FCC-3B86-4DF9-B4DA-912EF2D32B2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  <p:sp>
        <p:nvSpPr>
          <p:cNvPr id="170" name="Přímá spojnice 3"/>
          <p:cNvSpPr/>
          <p:nvPr/>
        </p:nvSpPr>
        <p:spPr>
          <a:xfrm>
            <a:off x="1979640" y="5877000"/>
            <a:ext cx="6775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římá spojnice 5"/>
          <p:cNvSpPr/>
          <p:nvPr/>
        </p:nvSpPr>
        <p:spPr>
          <a:xfrm>
            <a:off x="369720" y="6165720"/>
            <a:ext cx="2257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Jiří Sopoušek</cp:lastModifiedBy>
  <dcterms:modified xsi:type="dcterms:W3CDTF">2023-03-27T13:39:56Z</dcterms:modified>
  <cp:revision>56</cp:revision>
  <dc:subject/>
  <dc:title>Prezentace aplikace PowerPoint</dc:title>
</cp:coreProperties>
</file>