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jpeg" ContentType="image/jpeg"/>
  <Override PartName="/ppt/media/image11.jpeg" ContentType="image/jpeg"/>
  <Override PartName="/ppt/media/image13.wmf" ContentType="image/x-wmf"/>
  <Override PartName="/ppt/media/image5.png" ContentType="image/png"/>
  <Override PartName="/ppt/media/image2.gif" ContentType="image/gif"/>
  <Override PartName="/ppt/media/image8.wmf" ContentType="image/x-wmf"/>
  <Override PartName="/ppt/media/image6.jpeg" ContentType="image/jpeg"/>
  <Override PartName="/ppt/media/image4.jpeg" ContentType="image/jpeg"/>
  <Override PartName="/ppt/media/image10.wmf" ContentType="image/x-wmf"/>
  <Override PartName="/ppt/media/image3.jpeg" ContentType="image/jpeg"/>
  <Override PartName="/ppt/media/image15.png" ContentType="image/png"/>
  <Override PartName="/ppt/media/image1.png" ContentType="image/png"/>
  <Override PartName="/ppt/media/image27.png" ContentType="image/png"/>
  <Override PartName="/ppt/media/image26.wmf" ContentType="image/x-wmf"/>
  <Override PartName="/ppt/media/image25.wmf" ContentType="image/x-wmf"/>
  <Override PartName="/ppt/media/image17.jpeg" ContentType="image/jpeg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6.wmf" ContentType="image/x-wmf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FB5B-4080-4749-8EAE-8D0395A5EA0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FA2A-6B1B-427F-9CD6-A9D702C57651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CDE1-1DC6-4252-AC57-2FE48034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02CF-C1C1-4DB9-8875-24C75954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6880-193C-4CFC-A200-21CC8DF7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6312-0DAF-4C4A-94F6-58F9E28B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7280-3EC9-4734-A2DC-3FE1DEDA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F3A3-6218-4510-91B6-4B806C18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CD2D-270C-4143-97C8-B9737652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B06B-9A22-4FC6-9771-AD88874C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2184-A433-4F71-B418-3AA6FDED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392D-CA69-4366-AB59-023E0F01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287A-8F8A-4F8E-A342-2009406E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5435-258D-479A-96FF-003268CB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45CC-0373-4FC9-BE58-6C9B6A82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A82E-96FF-4B3E-B935-95CA2F46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D818-9912-4C99-98F0-5D7220AB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AF13-C8F2-4107-986B-D5217B80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9157-7B81-4DFB-BA60-28EC3A36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0119-CC42-43C9-9372-4C994B6B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EBD9-A65C-4511-85DB-4E7657E8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CCFF-010D-4999-82DB-1345CC99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9CE1-8D9F-4FD4-806F-843EF692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7A94-8D3C-42D6-98AD-674D9E19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72D7-ED8B-4587-81F0-9A6A0873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F5E6-3117-49AA-BAFC-A7061F74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EF79-D4CA-4BE3-8B49-2A6B6001C74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1830-5C59-4A5C-B6A0-82863ECAF50B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D:\Vyuka\C6320_Kinetika\Texty k p&#345;edn&#225;&#353;ce C6320\L09_Enzymy a adsorpce\Nukleove_kyseliny.ppt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ový 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rof. J. Sopoušek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apoenzym+kofaktor.jpg"/>
          <p:cNvPicPr/>
          <p:nvPr/>
        </p:nvPicPr>
        <p:blipFill>
          <a:blip r:embed="rId1"/>
          <a:stretch/>
        </p:blipFill>
        <p:spPr>
          <a:xfrm>
            <a:off x="755640" y="3860640"/>
            <a:ext cx="74646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3770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1828800" y="4122720"/>
            <a:ext cx="60199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0773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098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8312040" cy="12733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ze k rovnici: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Lineweaver - Burk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0" y="685800"/>
            <a:ext cx="8915400" cy="2668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52578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Eadie -Hofste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077320" cy="2039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2"/>
          <a:stretch/>
        </p:blipFill>
        <p:spPr>
          <a:xfrm>
            <a:off x="1447920" y="3533760"/>
            <a:ext cx="50292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7" name="Picture 4" descr="C:\Documents and Settings\Sopoušek\Dokumenty\Obrázky\Enzymová katalýza\biodiesel.gif"/>
          <p:cNvPicPr/>
          <p:nvPr/>
        </p:nvPicPr>
        <p:blipFill>
          <a:blip r:embed="rId1"/>
          <a:stretch/>
        </p:blipFill>
        <p:spPr>
          <a:xfrm>
            <a:off x="250920" y="2602080"/>
            <a:ext cx="391644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2" name="Text Box 1029"/>
          <p:cNvSpPr/>
          <p:nvPr/>
        </p:nvSpPr>
        <p:spPr>
          <a:xfrm>
            <a:off x="380880" y="15238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znik v buňce viz prezentace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1030"/>
          <p:cNvSpPr/>
          <p:nvPr/>
        </p:nvSpPr>
        <p:spPr>
          <a:xfrm>
            <a:off x="609480" y="3048120"/>
            <a:ext cx="289584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atabáze enzymů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66"/>
                </a:solidFill>
                <a:uFillTx/>
                <a:latin typeface="Times New Roman"/>
              </a:rPr>
              <a:t>http://www.ebi.ac.uk/thornton-srv/databases/enzymes/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AutoShape 1031">
            <a:hlinkClick r:id="rId1"/>
          </p:cNvPr>
          <p:cNvSpPr/>
          <p:nvPr/>
        </p:nvSpPr>
        <p:spPr>
          <a:xfrm>
            <a:off x="2031840" y="25146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59394" h="21600">
                <a:moveTo>
                  <a:pt x="24170" y="3985"/>
                </a:moveTo>
                <a:lnTo>
                  <a:pt x="31168" y="3985"/>
                </a:lnTo>
                <a:lnTo>
                  <a:pt x="35224" y="7484"/>
                </a:lnTo>
                <a:lnTo>
                  <a:pt x="35224" y="17615"/>
                </a:lnTo>
                <a:lnTo>
                  <a:pt x="24170" y="17615"/>
                </a:lnTo>
                <a:close/>
              </a:path>
              <a:path fill="darken" w="59394" h="21600">
                <a:moveTo>
                  <a:pt x="31168" y="3985"/>
                </a:moveTo>
                <a:lnTo>
                  <a:pt x="35224" y="7484"/>
                </a:lnTo>
                <a:lnTo>
                  <a:pt x="31168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Picture 1033" descr="C:\Documents and Settings\Sopoušek\Dokumenty\Obrázky\Enzymová katalýza\isomeraza.jpg"/>
          <p:cNvPicPr/>
          <p:nvPr/>
        </p:nvPicPr>
        <p:blipFill>
          <a:blip r:embed="rId2"/>
          <a:stretch/>
        </p:blipFill>
        <p:spPr>
          <a:xfrm>
            <a:off x="4191120" y="2362320"/>
            <a:ext cx="45608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 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3106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C:\Documents and Settings\Sopoušek\Dokumenty\Obrázky\Enzymová katalýza\zámek a klíč.jpg"/>
          <p:cNvPicPr/>
          <p:nvPr/>
        </p:nvPicPr>
        <p:blipFill>
          <a:blip r:embed="rId2"/>
          <a:stretch/>
        </p:blipFill>
        <p:spPr>
          <a:xfrm>
            <a:off x="1066680" y="4952880"/>
            <a:ext cx="45720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1137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228600" y="2403360"/>
            <a:ext cx="8610480" cy="11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C:\Documents and Settings\Sopoušek\Dokumenty\Obrázky\Enzymová katalýza\how-enzymes-work- sucrose.jpg"/>
          <p:cNvPicPr/>
          <p:nvPr/>
        </p:nvPicPr>
        <p:blipFill>
          <a:blip r:embed="rId3"/>
          <a:stretch/>
        </p:blipFill>
        <p:spPr>
          <a:xfrm>
            <a:off x="304920" y="3809880"/>
            <a:ext cx="3200400" cy="3048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3657600" y="6172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ucros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TextovéPole 1"/>
          <p:cNvSpPr/>
          <p:nvPr/>
        </p:nvSpPr>
        <p:spPr>
          <a:xfrm>
            <a:off x="4686480" y="4005360"/>
            <a:ext cx="3557520" cy="155700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epevnost „zámku“ je příčinou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Antikompetitivní katalýzy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0" y="533520"/>
            <a:ext cx="89154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164520"/>
            <a:ext cx="345456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re-stady-stat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7" name="Picture 2" descr="http://3.bp.blogspot.com/-VjAGqHqBK7g/TzSuMtCy7kI/AAAAAAAAAT4/f-SwQTWJBf0/s1600/Untitled8.jpg"/>
          <p:cNvPicPr/>
          <p:nvPr/>
        </p:nvPicPr>
        <p:blipFill>
          <a:blip r:embed="rId1"/>
          <a:stretch/>
        </p:blipFill>
        <p:spPr>
          <a:xfrm>
            <a:off x="4788000" y="115920"/>
            <a:ext cx="3333600" cy="6877080"/>
          </a:xfrm>
          <a:prstGeom prst="rect">
            <a:avLst/>
          </a:prstGeom>
          <a:ln w="0">
            <a:noFill/>
          </a:ln>
        </p:spPr>
      </p:pic>
      <p:cxnSp>
        <p:nvCxnSpPr>
          <p:cNvPr id="168" name="Přímá spojnice se šipkou 3"/>
          <p:cNvCxnSpPr/>
          <p:nvPr/>
        </p:nvCxnSpPr>
        <p:spPr>
          <a:xfrm>
            <a:off x="5580000" y="1557000"/>
            <a:ext cx="19454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9" name="Přímá spojnice se šipkou 5"/>
          <p:cNvCxnSpPr/>
          <p:nvPr/>
        </p:nvCxnSpPr>
        <p:spPr>
          <a:xfrm>
            <a:off x="5076720" y="1341000"/>
            <a:ext cx="50400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0" name="Přímá spojnice se šipkou 7"/>
          <p:cNvCxnSpPr/>
          <p:nvPr/>
        </p:nvCxnSpPr>
        <p:spPr>
          <a:xfrm>
            <a:off x="7524720" y="549000"/>
            <a:ext cx="59760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arrow" w="med"/>
            <a:tailEnd len="med" type="arrow" w="med"/>
          </a:ln>
        </p:spPr>
      </p:cxnSp>
      <p:sp>
        <p:nvSpPr>
          <p:cNvPr id="171" name="TextovéPole 8"/>
          <p:cNvSpPr/>
          <p:nvPr/>
        </p:nvSpPr>
        <p:spPr>
          <a:xfrm>
            <a:off x="5211000" y="879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ovéPole 9"/>
          <p:cNvSpPr/>
          <p:nvPr/>
        </p:nvSpPr>
        <p:spPr>
          <a:xfrm>
            <a:off x="5950080" y="1095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t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ovéPole 10"/>
          <p:cNvSpPr/>
          <p:nvPr/>
        </p:nvSpPr>
        <p:spPr>
          <a:xfrm>
            <a:off x="7631640" y="31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TextovéPole 11"/>
          <p:cNvSpPr/>
          <p:nvPr/>
        </p:nvSpPr>
        <p:spPr>
          <a:xfrm>
            <a:off x="717480" y="1844640"/>
            <a:ext cx="3024360" cy="119124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…pre-stady-stat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t…stady-stat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E….Equilibrium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5" name="Picture 12" descr="Výsledek obrázku pro steady state enzyme kinetics"/>
          <p:cNvPicPr/>
          <p:nvPr/>
        </p:nvPicPr>
        <p:blipFill>
          <a:blip r:embed="rId2"/>
          <a:stretch/>
        </p:blipFill>
        <p:spPr>
          <a:xfrm>
            <a:off x="324000" y="3141720"/>
            <a:ext cx="3543120" cy="3362400"/>
          </a:xfrm>
          <a:prstGeom prst="rect">
            <a:avLst/>
          </a:prstGeom>
          <a:ln w="0">
            <a:noFill/>
          </a:ln>
        </p:spPr>
      </p:pic>
      <p:sp>
        <p:nvSpPr>
          <p:cNvPr id="176" name="Obdélník 1"/>
          <p:cNvSpPr/>
          <p:nvPr/>
        </p:nvSpPr>
        <p:spPr>
          <a:xfrm>
            <a:off x="81000" y="64022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cbc.chem.arizona.edu/classes/bioc462/462a/NOTES/ENZYMES/enzyme_kinetics2.html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1476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Documents and Settings\Sopoušek\Dokumenty\Obrázky\Enzymová katalýza\pH optimum.jpg"/>
          <p:cNvPicPr/>
          <p:nvPr/>
        </p:nvPicPr>
        <p:blipFill>
          <a:blip r:embed="rId2"/>
          <a:stretch/>
        </p:blipFill>
        <p:spPr>
          <a:xfrm>
            <a:off x="533520" y="2590920"/>
            <a:ext cx="4114800" cy="2824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Documents and Settings\Sopoušek\Dokumenty\Obrázky\Enzymová katalýza\teplotní optimum.bmp"/>
          <p:cNvPicPr/>
          <p:nvPr/>
        </p:nvPicPr>
        <p:blipFill>
          <a:blip r:embed="rId3"/>
          <a:stretch/>
        </p:blipFill>
        <p:spPr>
          <a:xfrm>
            <a:off x="4724280" y="2590920"/>
            <a:ext cx="41148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kladní kinetika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763120" cy="4151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4267080" y="4876920"/>
            <a:ext cx="36576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66600" y="260280"/>
            <a:ext cx="90774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Jiří Sopoušek</cp:lastModifiedBy>
  <dcterms:modified xsi:type="dcterms:W3CDTF">2021-05-10T11:42:08Z</dcterms:modified>
  <cp:revision>153</cp:revision>
  <dc:subject/>
  <dc:title>C6730 Fázové rovnováhy</dc:title>
</cp:coreProperties>
</file>