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29.png" ContentType="image/png"/>
  <Override PartName="/ppt/media/image32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48.png" ContentType="image/png"/>
  <Override PartName="/ppt/media/image33.png" ContentType="image/png"/>
  <Override PartName="/ppt/media/image8.png" ContentType="image/png"/>
  <Override PartName="/ppt/media/image16.wmf" ContentType="image/x-wmf"/>
  <Override PartName="/ppt/media/image13.wmf" ContentType="image/x-wmf"/>
  <Override PartName="/ppt/media/image35.png" ContentType="image/png"/>
  <Override PartName="/ppt/media/image5.png" ContentType="image/png"/>
  <Override PartName="/ppt/media/image28.png" ContentType="image/png"/>
  <Override PartName="/ppt/media/image25.png" ContentType="image/png"/>
  <Override PartName="/ppt/media/image2.gif" ContentType="image/gif"/>
  <Override PartName="/ppt/media/image37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34.png" ContentType="image/png"/>
  <Override PartName="/ppt/media/image45.wmf" ContentType="image/x-wmf"/>
  <Override PartName="/ppt/media/image46.png" ContentType="image/png"/>
  <Override PartName="/ppt/media/image47.wmf" ContentType="image/x-wmf"/>
  <Override PartName="/ppt/media/image12.wmf" ContentType="image/x-wmf"/>
  <Override PartName="/ppt/media/image36.wmf" ContentType="image/x-wmf"/>
  <Override PartName="/ppt/media/image49.png" ContentType="image/png"/>
  <Override PartName="/ppt/media/image9.wmf" ContentType="image/x-wmf"/>
  <Override PartName="/ppt/media/image41.png" ContentType="image/png"/>
  <Override PartName="/ppt/media/image39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7.png" ContentType="image/png"/>
  <Override PartName="/ppt/media/image4.jpeg" ContentType="image/jpeg"/>
  <Override PartName="/ppt/media/image40.png" ContentType="image/png"/>
  <Override PartName="/ppt/media/image3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B5F9-B4A2-4A93-BB77-F94580E9EAA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3729-BCEE-4267-A5F0-8743A26FA125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B30-5239-466C-B035-A814B407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1AF-82CD-4598-83C1-AB5BDC2E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D433-6687-4CE7-A4B7-1A850959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877-5B32-4CCB-B9B7-7C3D06FE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B469-6776-4866-A128-21C44AC4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820E-DD2B-4D9D-A66E-1D94ADE1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3455-7B8B-4327-827B-10D1657A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DFC1-05CA-4DBF-A7D8-2C46E004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4ED2-9432-4A7F-863F-7DCED9B0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FA57-1646-4506-AAE7-21C0E225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2722-95ED-44B9-BF45-FD979604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375F-1994-48EC-B31A-6FF48331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9A3F-C349-4ECF-88DD-8ABC2CC2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BF78-DB04-44DB-9A81-4EA081F9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B69C-A7C4-4657-AADD-708E7DC9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3CDB-A677-4664-8AFE-B5121979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4C27-07E9-43B7-A728-D399F14C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3F6-7B97-41C7-9D2B-C9DC92E7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402-5DB9-4583-A00C-F6F7D3B8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C2C-4EEB-41B8-8EE1-C9C60B72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F16-7177-48A6-98E3-0946CE80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F1A-DBAA-4435-AB1A-F583CE79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A55A-F88E-46B2-B4B3-05806D41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CF8D-24F7-4F83-A82D-F5189319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EE75-566B-4AC8-84B5-9AE49B8D4F6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FA44-8DDA-4FC2-B56F-41C1BDDE5D42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enzym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inhibitors.gif"/>
          <p:cNvPicPr/>
          <p:nvPr/>
        </p:nvPicPr>
        <p:blipFill>
          <a:blip r:embed="rId1"/>
          <a:stretch/>
        </p:blipFill>
        <p:spPr>
          <a:xfrm>
            <a:off x="685800" y="2209680"/>
            <a:ext cx="5486400" cy="385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Sopoušek\Dokumenty\Obrázky\Katalýza\kompetitive a nekompetitive reaction.jpg"/>
          <p:cNvPicPr/>
          <p:nvPr/>
        </p:nvPicPr>
        <p:blipFill>
          <a:blip r:embed="rId2"/>
          <a:stretch/>
        </p:blipFill>
        <p:spPr>
          <a:xfrm>
            <a:off x="6324480" y="3200400"/>
            <a:ext cx="2482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01600" y="549360"/>
            <a:ext cx="8744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81000" y="189000"/>
            <a:ext cx="8943840" cy="5143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81000" y="5308560"/>
            <a:ext cx="89359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38240" y="189000"/>
            <a:ext cx="88675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762120" y="279360"/>
            <a:ext cx="7696080" cy="65786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2286000" y="304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ovéPole 1"/>
          <p:cNvSpPr/>
          <p:nvPr/>
        </p:nvSpPr>
        <p:spPr>
          <a:xfrm>
            <a:off x="6588000" y="241200"/>
            <a:ext cx="208944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Vmax je ovlivněna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3657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Ne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50920" y="449280"/>
            <a:ext cx="7924680" cy="6221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6824520" y="1341360"/>
            <a:ext cx="2295720" cy="266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7885080" y="252360"/>
            <a:ext cx="1224000" cy="459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8697960" y="703440"/>
            <a:ext cx="411120" cy="2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228600" y="260280"/>
            <a:ext cx="8458200" cy="3256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298440" y="3645000"/>
            <a:ext cx="8458200" cy="1720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339840" y="5365800"/>
            <a:ext cx="8153280" cy="584280"/>
          </a:xfrm>
          <a:prstGeom prst="rect">
            <a:avLst/>
          </a:prstGeom>
          <a:ln w="0">
            <a:noFill/>
          </a:ln>
        </p:spPr>
      </p:pic>
      <p:sp>
        <p:nvSpPr>
          <p:cNvPr id="211" name="Obdélník 1"/>
          <p:cNvSpPr/>
          <p:nvPr/>
        </p:nvSpPr>
        <p:spPr>
          <a:xfrm>
            <a:off x="749160" y="6288120"/>
            <a:ext cx="74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ttp://www.wikiwand.com/en/Non-competitive_inhibition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91520" cy="6070680"/>
          </a:xfrm>
          <a:prstGeom prst="rect">
            <a:avLst/>
          </a:prstGeom>
          <a:ln w="0">
            <a:noFill/>
          </a:ln>
        </p:spPr>
      </p:pic>
      <p:sp>
        <p:nvSpPr>
          <p:cNvPr id="214" name="TextovéPole 3"/>
          <p:cNvSpPr/>
          <p:nvPr/>
        </p:nvSpPr>
        <p:spPr>
          <a:xfrm>
            <a:off x="6804000" y="266760"/>
            <a:ext cx="208908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Km je ovlivněna V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4724280" y="3284640"/>
            <a:ext cx="37339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77724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losterické nekompetitivní inhibi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7" name="Picture 2" descr="https://upload.wikimedia.org/wikipedia/commons/thumb/0/0f/Allosteric_comp_inhib_1.svg/800px-Allosteric_comp_inhib_1.svg.png?1524635043482"/>
          <p:cNvPicPr/>
          <p:nvPr/>
        </p:nvPicPr>
        <p:blipFill>
          <a:blip r:embed="rId1"/>
          <a:stretch/>
        </p:blipFill>
        <p:spPr>
          <a:xfrm>
            <a:off x="684360" y="12682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tikompetitivní inhibice enzymové re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7631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5440" y="25200"/>
            <a:ext cx="4608720" cy="10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ce -přehle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Obrázek 2" descr=""/>
          <p:cNvPicPr/>
          <p:nvPr/>
        </p:nvPicPr>
        <p:blipFill>
          <a:blip r:embed="rId1"/>
          <a:stretch/>
        </p:blipFill>
        <p:spPr>
          <a:xfrm>
            <a:off x="4500720" y="479520"/>
            <a:ext cx="446724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Obrázek 4" descr=""/>
          <p:cNvPicPr/>
          <p:nvPr/>
        </p:nvPicPr>
        <p:blipFill>
          <a:blip r:embed="rId2"/>
          <a:stretch/>
        </p:blipFill>
        <p:spPr>
          <a:xfrm>
            <a:off x="98280" y="3676680"/>
            <a:ext cx="4378320" cy="2894040"/>
          </a:xfrm>
          <a:prstGeom prst="rect">
            <a:avLst/>
          </a:prstGeom>
          <a:ln w="0">
            <a:noFill/>
          </a:ln>
        </p:spPr>
      </p:pic>
      <p:pic>
        <p:nvPicPr>
          <p:cNvPr id="155" name="Obrázek 5" descr=""/>
          <p:cNvPicPr/>
          <p:nvPr/>
        </p:nvPicPr>
        <p:blipFill>
          <a:blip r:embed="rId3"/>
          <a:stretch/>
        </p:blipFill>
        <p:spPr>
          <a:xfrm>
            <a:off x="4664160" y="3676680"/>
            <a:ext cx="4379760" cy="289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4"/>
          <a:stretch/>
        </p:blipFill>
        <p:spPr>
          <a:xfrm>
            <a:off x="98280" y="907920"/>
            <a:ext cx="363384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07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7404120" y="22860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8610480" y="318960"/>
            <a:ext cx="411120" cy="277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4"/>
          <a:stretch/>
        </p:blipFill>
        <p:spPr>
          <a:xfrm>
            <a:off x="6924600" y="1268280"/>
            <a:ext cx="19144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266160"/>
          </a:xfrm>
          <a:prstGeom prst="rect">
            <a:avLst/>
          </a:prstGeom>
          <a:ln w="0">
            <a:noFill/>
          </a:ln>
        </p:spPr>
      </p:pic>
      <p:sp>
        <p:nvSpPr>
          <p:cNvPr id="225" name="TextovéPole 2"/>
          <p:cNvSpPr/>
          <p:nvPr/>
        </p:nvSpPr>
        <p:spPr>
          <a:xfrm>
            <a:off x="5651640" y="360360"/>
            <a:ext cx="26654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Je ovlivněno Vmax i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4572000" y="3213000"/>
            <a:ext cx="35244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686800" cy="2712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http://what-when-how.com/wp-content/uploads/2012/08/tmp9db750_thumb.png"/>
          <p:cNvPicPr/>
          <p:nvPr/>
        </p:nvPicPr>
        <p:blipFill>
          <a:blip r:embed="rId2"/>
          <a:stretch/>
        </p:blipFill>
        <p:spPr>
          <a:xfrm>
            <a:off x="407880" y="3506760"/>
            <a:ext cx="4392720" cy="3351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Sopoušek\Dokumenty\Obrázky\Katalýza\350px-Ne Comp_inhib_svg.png"/>
          <p:cNvPicPr/>
          <p:nvPr/>
        </p:nvPicPr>
        <p:blipFill>
          <a:blip r:embed="rId3"/>
          <a:stretch/>
        </p:blipFill>
        <p:spPr>
          <a:xfrm>
            <a:off x="4800600" y="3670200"/>
            <a:ext cx="44164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43000"/>
            <a:ext cx="35816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1030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8458200" cy="383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32" descr="C:\Documents and Settings\Sopoušek\Dokumenty\Obrázky\Katalýza\350px-Comp_inhib_svg.png"/>
          <p:cNvPicPr/>
          <p:nvPr/>
        </p:nvPicPr>
        <p:blipFill>
          <a:blip r:embed="rId2"/>
          <a:stretch/>
        </p:blipFill>
        <p:spPr>
          <a:xfrm>
            <a:off x="4724280" y="228600"/>
            <a:ext cx="4000680" cy="2765520"/>
          </a:xfrm>
          <a:prstGeom prst="rect">
            <a:avLst/>
          </a:prstGeom>
          <a:ln w="0">
            <a:noFill/>
          </a:ln>
        </p:spPr>
      </p:pic>
      <p:pic>
        <p:nvPicPr>
          <p:cNvPr id="160" name="TextovéPole 1" descr=""/>
          <p:cNvPicPr/>
          <p:nvPr/>
        </p:nvPicPr>
        <p:blipFill>
          <a:blip r:embed="rId3"/>
          <a:stretch/>
        </p:blipFill>
        <p:spPr>
          <a:xfrm>
            <a:off x="1036800" y="5010120"/>
            <a:ext cx="12063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84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7867440" cy="53323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1"/>
          <p:cNvSpPr/>
          <p:nvPr/>
        </p:nvSpPr>
        <p:spPr>
          <a:xfrm>
            <a:off x="2224800" y="273384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osadit Ir z 6-32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5" name="Přímá spojnice se šipkou 3"/>
          <p:cNvCxnSpPr/>
          <p:nvPr/>
        </p:nvCxnSpPr>
        <p:spPr>
          <a:xfrm flipH="1">
            <a:off x="1258560" y="2901960"/>
            <a:ext cx="792720" cy="45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6" name="Přímá spojnice se šipkou 5"/>
          <p:cNvCxnSpPr/>
          <p:nvPr/>
        </p:nvCxnSpPr>
        <p:spPr>
          <a:xfrm flipH="1" flipV="1">
            <a:off x="4932000" y="4365000"/>
            <a:ext cx="1728000" cy="16563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33520" y="79200"/>
            <a:ext cx="7924680" cy="6778800"/>
          </a:xfrm>
          <a:prstGeom prst="rect">
            <a:avLst/>
          </a:prstGeom>
          <a:ln w="0">
            <a:noFill/>
          </a:ln>
        </p:spPr>
      </p:pic>
      <p:cxnSp>
        <p:nvCxnSpPr>
          <p:cNvPr id="168" name="Přímá spojnice se šipkou 2"/>
          <p:cNvCxnSpPr/>
          <p:nvPr/>
        </p:nvCxnSpPr>
        <p:spPr>
          <a:xfrm>
            <a:off x="2842920" y="2492280"/>
            <a:ext cx="108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7050240" y="3379680"/>
            <a:ext cx="209376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4121280"/>
          </a:xfrm>
          <a:prstGeom prst="rect">
            <a:avLst/>
          </a:prstGeom>
          <a:ln w="0">
            <a:noFill/>
          </a:ln>
        </p:spPr>
      </p:pic>
      <p:sp>
        <p:nvSpPr>
          <p:cNvPr id="171" name="TextovéPole 1"/>
          <p:cNvSpPr/>
          <p:nvPr/>
        </p:nvSpPr>
        <p:spPr>
          <a:xfrm>
            <a:off x="802440" y="5873760"/>
            <a:ext cx="69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etaily odvození také v: http://www.wikiwand.com/en/Competitive_inhibition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0960" y="3240"/>
            <a:ext cx="853776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řehlednější odvození vztahů pro kompetitivní inhibici pro anglicky mluvící studenty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Picture 2" descr="https://upload.wikimedia.org/wikipedia/commons/thumb/f/fb/Comp_inhib.svg/800px-Comp_inhib.svg.png?1524636860221"/>
          <p:cNvPicPr/>
          <p:nvPr/>
        </p:nvPicPr>
        <p:blipFill>
          <a:blip r:embed="rId1"/>
          <a:stretch/>
        </p:blipFill>
        <p:spPr>
          <a:xfrm>
            <a:off x="210960" y="3716280"/>
            <a:ext cx="4191120" cy="2892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2781360" cy="187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https://upload.wikimedia.org/wikipedia/commons/thumb/f/f6/Michaelis-Menten_plot_competitive_inhibition.svg/640px-Michaelis-Menten_plot_competitive_inhibition.svg.png?1524637078488"/>
          <p:cNvPicPr/>
          <p:nvPr/>
        </p:nvPicPr>
        <p:blipFill>
          <a:blip r:embed="rId3"/>
          <a:stretch/>
        </p:blipFill>
        <p:spPr>
          <a:xfrm>
            <a:off x="3995640" y="1015920"/>
            <a:ext cx="4321440" cy="237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4"/>
          <a:stretch/>
        </p:blipFill>
        <p:spPr>
          <a:xfrm>
            <a:off x="4572000" y="3836880"/>
            <a:ext cx="4400640" cy="158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5"/>
          <a:stretch/>
        </p:blipFill>
        <p:spPr>
          <a:xfrm>
            <a:off x="4572000" y="5423040"/>
            <a:ext cx="4400640" cy="34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6"/>
          <a:stretch/>
        </p:blipFill>
        <p:spPr>
          <a:xfrm>
            <a:off x="4568760" y="5715000"/>
            <a:ext cx="3772080" cy="371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7"/>
          <a:stretch/>
        </p:blipFill>
        <p:spPr>
          <a:xfrm>
            <a:off x="4572000" y="5946840"/>
            <a:ext cx="13431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98640"/>
            <a:ext cx="8856720" cy="10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Matematické odvození kompetitivní inhibi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37960" y="1268280"/>
            <a:ext cx="8724960" cy="5153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6084720" y="1773360"/>
            <a:ext cx="2781360" cy="1871640"/>
          </a:xfrm>
          <a:prstGeom prst="rect">
            <a:avLst/>
          </a:prstGeom>
          <a:ln w="0">
            <a:noFill/>
          </a:ln>
        </p:spPr>
      </p:pic>
      <p:sp>
        <p:nvSpPr>
          <p:cNvPr id="183" name="TextovéPole 5"/>
          <p:cNvSpPr/>
          <p:nvPr/>
        </p:nvSpPr>
        <p:spPr>
          <a:xfrm>
            <a:off x="3143880" y="3641760"/>
            <a:ext cx="56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Toto můžeme si napsat i jako 3 dílčí samostatné rovnic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42920" y="762120"/>
            <a:ext cx="8858160" cy="5333760"/>
          </a:xfrm>
          <a:prstGeom prst="rect">
            <a:avLst/>
          </a:prstGeom>
          <a:ln w="0">
            <a:noFill/>
          </a:ln>
        </p:spPr>
      </p:pic>
      <p:sp>
        <p:nvSpPr>
          <p:cNvPr id="186" name="TextovéPole 2"/>
          <p:cNvSpPr/>
          <p:nvPr/>
        </p:nvSpPr>
        <p:spPr>
          <a:xfrm>
            <a:off x="3514680" y="256536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Suma rychlostí vzniku = suma rychlostí zánik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87" name="Přímá spojnice se šipkou 4"/>
          <p:cNvCxnSpPr/>
          <p:nvPr/>
        </p:nvCxnSpPr>
        <p:spPr>
          <a:xfrm flipH="1">
            <a:off x="3131640" y="2933280"/>
            <a:ext cx="145440" cy="135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88" name="Přímá spojnice se šipkou 6"/>
          <p:cNvCxnSpPr/>
          <p:nvPr/>
        </p:nvCxnSpPr>
        <p:spPr>
          <a:xfrm flipH="1">
            <a:off x="4982400" y="4087440"/>
            <a:ext cx="1656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89" name="Přímá spojnice se šipkou 8"/>
          <p:cNvCxnSpPr/>
          <p:nvPr/>
        </p:nvCxnSpPr>
        <p:spPr>
          <a:xfrm flipH="1">
            <a:off x="3542760" y="4868640"/>
            <a:ext cx="41979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90" name="Přímá spojnice 13"/>
          <p:cNvSpPr/>
          <p:nvPr/>
        </p:nvSpPr>
        <p:spPr>
          <a:xfrm flipV="1">
            <a:off x="6638760" y="3068280"/>
            <a:ext cx="0" cy="1019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římá spojnice 16"/>
          <p:cNvSpPr/>
          <p:nvPr/>
        </p:nvSpPr>
        <p:spPr>
          <a:xfrm flipV="1">
            <a:off x="7740720" y="3068280"/>
            <a:ext cx="0" cy="18003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živatel systému Windows</cp:lastModifiedBy>
  <dcterms:modified xsi:type="dcterms:W3CDTF">2021-05-11T07:42:49Z</dcterms:modified>
  <cp:revision>158</cp:revision>
  <dc:subject/>
  <dc:title>C6730 Fázové rovnováhy</dc:title>
</cp:coreProperties>
</file>