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6.jpeg" ContentType="image/jpeg"/>
  <Override PartName="/ppt/media/image4.jpeg" ContentType="image/jpeg"/>
  <Override PartName="/ppt/media/image10.wmf" ContentType="image/x-wmf"/>
  <Override PartName="/ppt/media/image3.jpeg" ContentType="image/jpeg"/>
  <Override PartName="/ppt/media/image15.png" ContentType="image/png"/>
  <Override PartName="/ppt/media/image1.png" ContentType="image/png"/>
  <Override PartName="/ppt/media/image27.png" ContentType="image/png"/>
  <Override PartName="/ppt/media/image26.wmf" ContentType="image/x-wmf"/>
  <Override PartName="/ppt/media/image25.wmf" ContentType="image/x-wmf"/>
  <Override PartName="/ppt/media/image17.jpeg" ContentType="image/jpe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0677-120B-4968-8825-926CB61AB53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BFE2-02A0-4F2A-8391-7D3CC26E2A67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2BA-3898-4304-BAD6-9F140F0F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785-AEE1-4060-99F4-1A5F6EB4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624-49D2-4133-9EB3-121C4FC0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8EC-0B9F-44C2-9C16-D6AAE47F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6D1D-6628-4763-965E-2BAAB609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EDD1-F792-41DD-B2EB-DEACCBD5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CE77-3A71-4F39-9E42-571270BC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C2B8-D28F-438A-9DCA-A9AB93A4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EC4B-508B-446C-92C7-25234904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1CCE-5994-43F3-A529-70DC6BC1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7DC0-FEBA-482F-9656-452D6E3B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7A7-B09E-44CF-8B56-B9A1EC11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F807-FEAA-4D60-AD42-7728858D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FC45-AB1F-4D72-BFE6-DF2DB620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B080-DE58-4798-A630-8C6793DE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BE52-C96F-4071-BAB3-F4C09426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6928-F62B-478F-9F9C-DC821BCD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493-F743-4500-B5E4-9B2EAAFC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753-B3C4-43C3-BD98-82AD83E9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C9C-F414-4B0F-A6DE-9D8CC044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792-DF2D-40BA-BC7D-D511F060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BD1-4424-4F93-8DE1-8ECD81C9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DE5-BB40-4258-A80F-41D2C531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187-5DD6-4E09-91EB-27296B4A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A5C0-AF92-4084-BA6B-151DAF3A625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4D95-96D5-4B1A-A490-BB64CD8E620A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D:\Vyuka\C6320_Kinetika\Texty k p&#345;edn&#225;&#353;ce C6320\L09_Enzymy a adsorpce\Nukleove_kyseliny.ppt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of. J. Sopou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755640" y="3860640"/>
            <a:ext cx="746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250920" y="2602080"/>
            <a:ext cx="3916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1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2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ovéPole 1"/>
          <p:cNvSpPr/>
          <p:nvPr/>
        </p:nvSpPr>
        <p:spPr>
          <a:xfrm>
            <a:off x="4686480" y="4005360"/>
            <a:ext cx="3557520" cy="155700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pevnost „zámku“ je příčinou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tikompetitivní katalýzy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164520"/>
            <a:ext cx="345456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e-stady-stat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Picture 2" descr="http://3.bp.blogspot.com/-VjAGqHqBK7g/TzSuMtCy7kI/AAAAAAAAAT4/f-SwQTWJBf0/s1600/Untitled8.jpg"/>
          <p:cNvPicPr/>
          <p:nvPr/>
        </p:nvPicPr>
        <p:blipFill>
          <a:blip r:embed="rId1"/>
          <a:stretch/>
        </p:blipFill>
        <p:spPr>
          <a:xfrm>
            <a:off x="4788000" y="115920"/>
            <a:ext cx="3333600" cy="687708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3"/>
          <p:cNvCxnSpPr/>
          <p:nvPr/>
        </p:nvCxnSpPr>
        <p:spPr>
          <a:xfrm>
            <a:off x="5580000" y="1557000"/>
            <a:ext cx="19454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9" name="Přímá spojnice se šipkou 5"/>
          <p:cNvCxnSpPr/>
          <p:nvPr/>
        </p:nvCxnSpPr>
        <p:spPr>
          <a:xfrm>
            <a:off x="5076720" y="1341000"/>
            <a:ext cx="5040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Přímá spojnice se šipkou 7"/>
          <p:cNvCxnSpPr/>
          <p:nvPr/>
        </p:nvCxnSpPr>
        <p:spPr>
          <a:xfrm>
            <a:off x="7524720" y="549000"/>
            <a:ext cx="5976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sp>
        <p:nvSpPr>
          <p:cNvPr id="171" name="TextovéPole 8"/>
          <p:cNvSpPr/>
          <p:nvPr/>
        </p:nvSpPr>
        <p:spPr>
          <a:xfrm>
            <a:off x="5211000" y="879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9"/>
          <p:cNvSpPr/>
          <p:nvPr/>
        </p:nvSpPr>
        <p:spPr>
          <a:xfrm>
            <a:off x="5950080" y="1095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ovéPole 10"/>
          <p:cNvSpPr/>
          <p:nvPr/>
        </p:nvSpPr>
        <p:spPr>
          <a:xfrm>
            <a:off x="7631640" y="3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ovéPole 11"/>
          <p:cNvSpPr/>
          <p:nvPr/>
        </p:nvSpPr>
        <p:spPr>
          <a:xfrm>
            <a:off x="717480" y="1844640"/>
            <a:ext cx="3024360" cy="119124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…pre-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…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….Equilibrium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5" name="Picture 12" descr="Výsledek obrázku pro steady state enzyme kinetics"/>
          <p:cNvPicPr/>
          <p:nvPr/>
        </p:nvPicPr>
        <p:blipFill>
          <a:blip r:embed="rId2"/>
          <a:stretch/>
        </p:blipFill>
        <p:spPr>
          <a:xfrm>
            <a:off x="324000" y="3141720"/>
            <a:ext cx="3543120" cy="3362400"/>
          </a:xfrm>
          <a:prstGeom prst="rect">
            <a:avLst/>
          </a:prstGeom>
          <a:ln w="0">
            <a:noFill/>
          </a:ln>
        </p:spPr>
      </p:pic>
      <p:sp>
        <p:nvSpPr>
          <p:cNvPr id="176" name="Obdélník 1"/>
          <p:cNvSpPr/>
          <p:nvPr/>
        </p:nvSpPr>
        <p:spPr>
          <a:xfrm>
            <a:off x="81000" y="64022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cbc.chem.arizona.edu/classes/bioc462/462a/NOTES/ENZYMES/enzyme_kinetics2.htm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6600" y="26028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Jiří Sopoušek</cp:lastModifiedBy>
  <dcterms:modified xsi:type="dcterms:W3CDTF">2021-05-10T11:42:08Z</dcterms:modified>
  <cp:revision>153</cp:revision>
  <dc:subject/>
  <dc:title>C6730 Fázové rovnováhy</dc:title>
</cp:coreProperties>
</file>